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459A-51F1-4DCC-8268-03C3E9D80CD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489D-E2DC-47C2-A10E-46FC8C3E4A9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FD8-4179-4C18-8662-2190733A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CBB5-6B10-4922-AA6D-C31B75EA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FA19-0985-4E5E-BC8F-5E7CF66F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6C4C-B852-4003-A755-A3427D09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617F5-C00B-4392-A13F-4558A086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F151A-87BC-4E36-AAE9-E2D51219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9725A-AAD1-4003-8F87-ABC5489A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D861F-1ECE-45BC-9596-A68CBD1F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B6B65-87BF-4B19-9CB7-545E95E0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CFF39-333A-49B8-B816-ECDF31D8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C3284-0914-4699-B42C-90D4DB57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942-8702-4257-AE7E-8811A9EE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AD043-307D-4D76-A11E-D47479DD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C9AFF-E929-42E4-B448-B9B5D584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334B6-272C-48FA-8A37-F4C3B206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8FBC0-CC82-4E41-9ACF-75A295A0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3537B-36A9-483F-B523-51E6D8BF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2A8-DDB3-45D4-9A76-09C9B0D4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454D-65B5-4E6A-B3EB-6AFF9F15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9C0-3736-4A58-A32F-F9497538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A2C0-D9FD-4CDA-8391-A2B78B4A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CDAE-A915-489D-A498-E0531F9E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24A-6C6D-4080-96DB-C86EBF83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C94-0D16-47F2-AC31-22E28FBF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E134-1B21-4F0E-99C8-147E69D759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EF20-4055-48D7-877C-A9727DC222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0" y="2800440"/>
            <a:ext cx="142884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0" y="2800440"/>
            <a:ext cx="142884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WordArt 30"/>
          <p:cNvSpPr txBox="1"/>
          <p:nvPr/>
        </p:nvSpPr>
        <p:spPr>
          <a:xfrm>
            <a:off x="826920" y="620640"/>
            <a:ext cx="7848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Восточная Республика Уругвай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94" name="Picture 33" descr="_small_1131142941_42865"/>
          <p:cNvPicPr/>
          <p:nvPr/>
        </p:nvPicPr>
        <p:blipFill>
          <a:blip r:embed="rId1"/>
          <a:stretch/>
        </p:blipFill>
        <p:spPr>
          <a:xfrm>
            <a:off x="2268360" y="2781360"/>
            <a:ext cx="487692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ahoma"/>
              </a:rPr>
              <a:t>Сельское хозяйство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fe9fb"/>
                </a:solidFill>
                <a:latin typeface="Tahoma"/>
              </a:rPr>
              <a:t>Сельскохозяйственные земли занимают около 9/10 территории страны, из них пастбища занимают около 14 миллионов гекта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fe9fb"/>
                </a:solidFill>
                <a:latin typeface="Tahoma"/>
              </a:rPr>
              <a:t>Развито животноводство экспортного направления — разведение мясных пород крупного рогатого скота и шёрстных овец. Главные сельскохозяйственные культуры: пшеница, рис, сахарный тростник, кукуруза, масличный лён, подсолнечник, кормовые травы для ско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fe9fb"/>
                </a:solidFill>
                <a:latin typeface="Tahoma"/>
              </a:rPr>
              <a:t>Выращивают также виноград и цитрусовы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pull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0199"/>
                </a:solidFill>
                <a:latin typeface="Tahoma"/>
              </a:rPr>
              <a:t>Транспор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Протяжённ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железных дорог около 3000 км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шоссейных дорог около 10 000 к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cover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асел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5040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 прихода европейцев на территории Уругвая проживало всего несколько индейских племён. Вследствие этого 88 % населения современного Уругвая представлено представителями европеоидной расы, преимущественно потомками испанцев и итальянцев. Лишь 8 % населения составляют мети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ровень урбанизации — 88,7 %. В столичном городе, Монтевидео, проживает около 40 % всего населения Уругв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741621_carnaval_montevideo"/>
          <p:cNvPicPr/>
          <p:nvPr/>
        </p:nvPicPr>
        <p:blipFill>
          <a:blip r:embed="rId1"/>
          <a:stretch/>
        </p:blipFill>
        <p:spPr>
          <a:xfrm>
            <a:off x="5435640" y="2249640"/>
            <a:ext cx="3708360" cy="2570040"/>
          </a:xfrm>
          <a:prstGeom prst="rect">
            <a:avLst/>
          </a:prstGeom>
          <a:ln w="0">
            <a:noFill/>
          </a:ln>
        </p:spPr>
      </p:pic>
    </p:spTree>
  </p:cSld>
  <p:transition advTm="16000">
    <p:dissolv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"/>
                            </p:stCondLst>
                            <p:childTnLst>
                              <p:par>
                                <p:cTn id="1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10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Религ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92720" y="1628640"/>
            <a:ext cx="475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толицизм исповедуют около 47,1 % населе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3,2 % — являются верующими, но не причисляют себя к последователям какой-либо религи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7,2 % — атеисты и агностик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1,1 % — протестант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0,6 % — являются последователями религии Умбанда и африканских культов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0,3 % — иуде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0,4 % — исповедуют другие религ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chesh_big_01"/>
          <p:cNvPicPr/>
          <p:nvPr/>
        </p:nvPicPr>
        <p:blipFill>
          <a:blip r:embed="rId1"/>
          <a:stretch/>
        </p:blipFill>
        <p:spPr>
          <a:xfrm>
            <a:off x="179280" y="1700280"/>
            <a:ext cx="3851280" cy="3238560"/>
          </a:xfrm>
          <a:prstGeom prst="rect">
            <a:avLst/>
          </a:prstGeom>
          <a:ln w="0">
            <a:noFill/>
          </a:ln>
        </p:spPr>
      </p:pic>
    </p:spTree>
  </p:cSld>
  <p:transition advTm="15000">
    <p:diamond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8480" y="1699920"/>
            <a:ext cx="807552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Tahoma"/>
              </a:rPr>
              <a:t>Спасибо за внимание!</a:t>
            </a: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ff00ff"/>
                </a:solidFill>
                <a:latin typeface="Tahoma"/>
              </a:rPr>
              <a:t>Выполнил работу – Новиков Николай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Флаг Уругвая"/>
          <p:cNvPicPr/>
          <p:nvPr/>
        </p:nvPicPr>
        <p:blipFill>
          <a:blip r:embed="rId1"/>
          <a:stretch/>
        </p:blipFill>
        <p:spPr>
          <a:xfrm>
            <a:off x="826920" y="1749600"/>
            <a:ext cx="3302280" cy="219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Герб Уругвая"/>
          <p:cNvPicPr/>
          <p:nvPr/>
        </p:nvPicPr>
        <p:blipFill>
          <a:blip r:embed="rId2"/>
          <a:stretch/>
        </p:blipFill>
        <p:spPr>
          <a:xfrm>
            <a:off x="5237280" y="1125360"/>
            <a:ext cx="2144520" cy="284184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1187280" y="4076640"/>
            <a:ext cx="286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лаг Уругвая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4932360" y="4076640"/>
            <a:ext cx="2809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ерб Уругвая</a:t>
            </a:r>
            <a:endParaRPr b="0" lang="en-US" sz="2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advTm="5000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utami"/>
              </a:rPr>
              <a:t>Граничи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севере граничит с Бразилией, на западе с Аргентиной, на востоке и юге омывается Атлантическим океан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хопутные границы имеют протяжённость 1564 км, береговая линия — 660 к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5" descr="10250-1-f"/>
          <p:cNvPicPr/>
          <p:nvPr/>
        </p:nvPicPr>
        <p:blipFill>
          <a:blip r:embed="rId1"/>
          <a:stretch/>
        </p:blipFill>
        <p:spPr>
          <a:xfrm>
            <a:off x="4643280" y="3645000"/>
            <a:ext cx="4500720" cy="3074760"/>
          </a:xfrm>
          <a:prstGeom prst="rect">
            <a:avLst/>
          </a:prstGeom>
          <a:ln w="0">
            <a:noFill/>
          </a:ln>
        </p:spPr>
      </p:pic>
    </p:spTree>
  </p:cSld>
  <p:transition advTm="5000">
    <p:push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ahoma"/>
              </a:rPr>
              <a:t>Географические данн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Омывается водами Атлантического океана. Холмистые территории к югу постепенно сменяются низменностями, являющимися продолжением аргентинской пам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Берега Уругвая низменные, выровненные, лагунного тип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2484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Климат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4149360"/>
            <a:ext cx="8424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лимат субтропический, океанический. Средние температуры января 22—24°C, июля 10—12°C. Во время вторжения южных ветров, «памперо», происходит понижение температуры до −5 °C, идут снегопа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адки выпадают в течение всего года с осенним максимумом от 1000 мм на юге и во внутренних районах и до 1200 мм на севере и на возвышенност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ur2"/>
          <p:cNvPicPr/>
          <p:nvPr/>
        </p:nvPicPr>
        <p:blipFill>
          <a:blip r:embed="rId1"/>
          <a:stretch/>
        </p:blipFill>
        <p:spPr>
          <a:xfrm>
            <a:off x="2484360" y="1197000"/>
            <a:ext cx="4392720" cy="29034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8218440" cy="14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Tahoma"/>
              </a:rPr>
              <a:t>Административное деление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32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Уругвай делится на 19 департамен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43280" y="907560"/>
            <a:ext cx="3456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Экономик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2565000"/>
            <a:ext cx="8064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еимуществ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: плодородные степные земли. Важный экспортер шерсти. Мясная продукция. Рыболовство. Конкурентоспособный обменный кур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лабые стороны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: мало полезных ископаемых. Зависимость от бразильского и аргентинского рынков. Неразвитая промышленность. Высокий государственный дефицит (в 2004 г. платежный баланс был $ -593 млн.). Продолжительная рецессия. Пострадавший от кризисов банковский секто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ругвай — одна из наиболее экономически развитых стран Латинской Амери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сновные статьи импорта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минералы, химикаты, станк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сновные статьи экспорта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текстиль, говядина, кожи, рыба, рис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лавные внешнеторговые партнёры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: США, Германия, Великобритания, Италия и многие страны Латинской Америк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коло 75 % всех предприятий сосредоточены в столице, городе Монтевиде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9507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2305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ametist7"/>
          <p:cNvPicPr/>
          <p:nvPr/>
        </p:nvPicPr>
        <p:blipFill>
          <a:blip r:embed="rId2"/>
          <a:stretch/>
        </p:blipFill>
        <p:spPr>
          <a:xfrm>
            <a:off x="0" y="0"/>
            <a:ext cx="2771640" cy="2076480"/>
          </a:xfrm>
          <a:prstGeom prst="rect">
            <a:avLst/>
          </a:prstGeom>
          <a:ln w="0">
            <a:noFill/>
          </a:ln>
        </p:spPr>
      </p:pic>
    </p:spTree>
  </p:cSld>
  <p:transition advTm="14000">
    <p:wheel spokes="8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ромышлен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щев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ясохладобойн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нодельчес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сервн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кстиль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жевенно-обув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wheel spokes="1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Tahoma"/>
              </a:rPr>
              <a:t>Энергетик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29 % электроэнергии производится на ТЭС, остальная на ГЭ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pull dir="r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9:06:11Z</dcterms:created>
  <dc:creator>PL3</dc:creator>
  <dc:description/>
  <dc:language>en-US</dc:language>
  <cp:lastModifiedBy>ОЛЯ</cp:lastModifiedBy>
  <dcterms:modified xsi:type="dcterms:W3CDTF">2012-02-05T19:09:30Z</dcterms:modified>
  <cp:revision>46</cp:revision>
  <dc:subject/>
  <dc:title>Уругвай</dc:title>
</cp:coreProperties>
</file>