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бак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2-04-18T09:10:29.603000000" idx="1">
    <p:pos x="5779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AC7-88A2-4D54-BD8B-106E7FCD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32E-2367-4A54-81BD-DB5ACF4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49E11-CDB4-4CCF-A957-E95CF11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FBBC-CB30-4282-B9DC-A2C60CD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509E1-7E33-42FA-9588-823519D0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D4F0-7EA1-44E3-93CF-E9732D4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F4EF1-5FD7-4512-853F-9336AE4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76C3D-6B95-4BF7-848F-C52A176C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659A2-8314-4130-B7F9-8F9FFABC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5A987-417A-465A-95E6-E2263EF3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5BDA-FACA-4376-AF63-AEA02F6A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05004-F546-4635-A926-11B19134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F08-8563-4966-831E-EE38B6FF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65293-07AE-4BD1-A1A8-FA400935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C7D44-0E93-4769-9B13-A5AC1B5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B70E6-8F08-415F-A28C-A7A9B694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26946-CC86-4FB3-920E-11991D3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E3544-C62F-4367-A371-4AE26BB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A2FE5-5428-42B3-B1D8-5CE2582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48FE1-0166-4701-82F5-94C0545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B4E91-23E1-4372-8ABD-D13B035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B019-E2F4-4B27-B017-19C8B0EE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D741F-00CD-42BC-8C0B-9FC4E54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26E-85F2-496C-BB4B-797ACCBA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4C7A8-201F-4CC3-AFA7-22C67DBE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DA2F4-A6A1-4480-B030-6EB9E3D0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A7E66-CB0C-4F0C-BA6C-3287562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64DA4-4EA9-4625-80CA-EA5DAB43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0D89-5B1C-4C03-B46C-E8F3A8C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8881F-2F73-4D45-8A47-63899C57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FDB8-A73E-44DC-A5ED-26110C7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5E784-CBE8-4E76-9DE2-2974E5F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27E-F5A4-4E21-AA11-8C486BD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EB9C-5788-452F-8ED0-D8D1DB2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6D113-812A-4B38-9F86-5255141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494F5-F845-4821-B02B-0477937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3F035-C8D1-47F4-931D-E026C074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0EB2-7072-4373-BBC5-3B0CCDCF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C805-FC67-4E47-90E6-A9B3E61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C294-45BE-49FF-B850-ACB1684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DFC8-F9FD-4C8A-A583-CE7E3E26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51D1-32A7-4E66-8359-900333E8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BE05-AD67-446C-B1BC-4055D372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C32-5246-44E8-91CA-48F916D6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89D0-1EC8-4511-A77C-F4FB06B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0381-D752-4837-B3D3-5A8EDA9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E398-6D2A-46CB-9448-05453D9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58D7-78A8-4CFB-824D-D043020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FF10-49A3-4988-BAD2-3531C4F0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CDA1-013D-4248-AB5F-EE4657FE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6DAD-2F44-48A8-8896-6DDEAF7E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7222-3EE6-431E-97BA-F9D19AE4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22DC-7824-4DD7-ABE4-3CBD75D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C5E9-DE29-41C4-919D-BE9702FF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09A-9AE5-43FD-A831-5438EB8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8549-66B8-42D4-947A-5FBBD79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8DDF-8DF4-4BF0-B286-0D4C6BA7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1317-5CCD-4163-AD18-798CF4F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9D87-BB56-40A7-97C1-F480D3A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8397-7500-424B-AEA0-21D6B51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EFA9-EABE-408E-B46F-B94BCBFD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3A79-D0D5-4F80-AF0F-3E7B677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3D68-D9EF-4677-9371-EFE3D480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4099-D463-44D7-9DF0-DA745E28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91E9-D324-4FE0-A3C9-63D38F37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EBA-8E2A-4DA8-A699-2C5E509B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E730-B908-4346-A6A4-B35F2220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A053-BF0F-4CCC-A8B9-529B615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24B8-6DEF-4042-8753-7DCFFEBC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507A-1BF1-4A5A-9C6C-B4F8C78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497F-2DFA-471E-954C-BD7FE23E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3DAA-187F-42BE-BA9C-E0E4D3B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2B55-0AC9-4184-B57E-349DC77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38FA-1F83-4D7D-A55A-5D4F368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CD45-AB6B-4E4D-B214-A284AAC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E9E6-ABCB-42D8-B699-DDC543D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EDA-502C-4D06-ABC5-EBADA3F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7B71-860E-4A16-829B-5B0E36A5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9C490-3840-43FB-B85A-DCC889AF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AB920-B2DE-428B-864A-0F59933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E814-A8AC-43ED-B695-37BD9EA3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905F-28CA-40D9-B3BA-B471A886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6413-4C2E-48F7-990F-313EBA4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5FEB-13C5-4A65-90FF-671C920D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40EB-ACC9-400C-B1F4-730BEDD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8DA0-1C1B-4B54-BF63-01D7145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972F-3BB7-46CA-83C2-5AF3093B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194-1FA7-4511-989D-0F952C1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7BFC-94D8-442D-9495-CADD692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6F9C-B29B-4B48-8C3D-BD4F3C49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40E0-4D0A-4715-B13A-FFD56B59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54935-6F46-4817-B235-8AD0F27B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28D6-A055-424C-B15A-05DA51C3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E73F7-A5CB-44B6-82F9-EA784CC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0564-15E5-4D7E-9CC6-AA4D67E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59F4D-3BF7-45AF-A041-8D47E18A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ED09-7A96-4DC5-AF62-B5ADDD9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99F8-F56E-4F06-AB54-8326B0A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65E-ED28-4EFB-826F-EE42758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F193-F1B4-4C02-8A1E-EB95F21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D74D-D983-4EDE-989C-6970EA9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1A9F-B7EB-492C-B759-31B8ED6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6A1DA-C1C9-42B0-943A-1A6390AB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459D-4D4D-4226-84A3-44A21133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B311C-AFA7-492E-8CA6-38FDAAE9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7863-8290-49F0-A0E7-416C60E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44AA-B9C2-401F-9895-D958545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EC67C-3F34-474F-9DA8-17AE123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6035C-DC0F-41C8-A81A-DF2A391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0C6-5550-4806-95D8-D1C245F3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5756-BF70-482C-99AD-4CD2022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13D13-9C7C-4CE9-8024-D47B9FA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2F88A-1CA6-4287-A089-14080EF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FE8D-EC5F-4549-9F44-F956537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B5C8-A720-4249-8D15-75F33620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1FC1C-1A4A-442E-85A6-3DE902A0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1248-37A4-4B63-BF34-A3868841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58DEC-716A-45CC-97A8-CD3366BF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2ABEC-C471-4FA3-9FAE-47358E1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67002-346C-4CE8-97F0-115BE287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3DC-32E5-4255-8CDC-0634A623D2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263-EF38-4FD4-B534-6548D80BE0E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295-2AFB-4829-B171-BA0CF02407E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34C-5841-426F-B7B1-9823B96B0D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3D49-BAF1-4DA1-A176-5D122891DB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0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26C9-25FF-4B15-8945-67DE4F449E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BF00-D478-4D9B-8F3E-CD1F5D572C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9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8921-15BC-4FE7-BCFE-CB30E54075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8756-E6B2-4DC1-A38E-918282C048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E952-5851-4E58-897C-AD5F876C28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6"/>
          <p:cNvSpPr/>
          <p:nvPr/>
        </p:nvSpPr>
        <p:spPr>
          <a:xfrm>
            <a:off x="755640" y="2205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b050"/>
                </a:solidFill>
                <a:latin typeface="Arial"/>
              </a:rPr>
              <a:t>Җыйнак һәм җәенке                   </a:t>
            </a:r>
            <a:r>
              <a:rPr b="1" lang="tt-RU" sz="5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tt-RU" sz="5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tt-RU" sz="5400" spc="-1" strike="noStrike">
                <a:solidFill>
                  <a:srgbClr val="00b050"/>
                </a:solidFill>
                <a:latin typeface="Arial"/>
              </a:rPr>
              <a:t>җөмләләр</a:t>
            </a:r>
            <a:r>
              <a:rPr b="1" lang="tt-RU" sz="54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723888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8"/>
          <p:cNvSpPr/>
          <p:nvPr/>
        </p:nvSpPr>
        <p:spPr>
          <a:xfrm>
            <a:off x="395280" y="333360"/>
            <a:ext cx="83534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800000"/>
                </a:solidFill>
                <a:latin typeface="Arial"/>
              </a:rPr>
              <a:t>1.Арба кузгалды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tt-RU" sz="4000" spc="-1" strike="noStrike">
                <a:solidFill>
                  <a:srgbClr val="800000"/>
                </a:solidFill>
                <a:latin typeface="Arial"/>
              </a:rPr>
              <a:t>Көз җитт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2.Сәг</a:t>
            </a:r>
            <a:r>
              <a:rPr b="1" lang="ru-RU" sz="4000" spc="-1" strike="noStrike">
                <a:solidFill>
                  <a:srgbClr val="ff8566"/>
                </a:solidFill>
                <a:latin typeface="Arial"/>
              </a:rPr>
              <a:t>ъ</a:t>
            </a: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ди абзый белән бе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   </a:t>
            </a: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янәшә утырып китт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   </a:t>
            </a: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Бер заман Бәдри абзый           </a:t>
            </a: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	</a:t>
            </a:r>
            <a:r>
              <a:rPr b="1" lang="tt-RU" sz="4000" spc="-1" strike="noStrike">
                <a:solidFill>
                  <a:srgbClr val="ff8566"/>
                </a:solidFill>
                <a:latin typeface="Arial"/>
              </a:rPr>
              <a:t>кайт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8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539640" y="501336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tt-RU" sz="2800" spc="-1" strike="noStrike">
                <a:solidFill>
                  <a:srgbClr val="800000"/>
                </a:solidFill>
                <a:latin typeface="Arial"/>
              </a:rPr>
              <a:t>(Г.Тукай “Исемдә калганнар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08000" y="476280"/>
            <a:ext cx="518148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5e500"/>
                </a:solidFill>
                <a:latin typeface="Tahoma"/>
              </a:rPr>
              <a:t>Нәкый Исәнбә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00360" y="2133360"/>
            <a:ext cx="34160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5e500"/>
                </a:solidFill>
                <a:latin typeface="Tahoma"/>
              </a:rPr>
              <a:t>(1899-199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8136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81244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Китап – белем чишмәсе.</a:t>
            </a:r>
            <a:br>
              <a:rPr sz="3600"/>
            </a:br>
            <a:br>
              <a:rPr sz="3600"/>
            </a:b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Белем – байлык.</a:t>
            </a:r>
            <a:br>
              <a:rPr sz="3600"/>
            </a:br>
            <a:br>
              <a:rPr sz="3600"/>
            </a:b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Бит күрке – күз, </a:t>
            </a:r>
            <a:br>
              <a:rPr sz="3600"/>
            </a:b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Тел күрке – сүз.</a:t>
            </a:r>
            <a:br>
              <a:rPr sz="3600"/>
            </a:br>
            <a:br>
              <a:rPr sz="3600"/>
            </a:b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Белем –нур, </a:t>
            </a:r>
            <a:br>
              <a:rPr sz="3600"/>
            </a:br>
            <a:r>
              <a:rPr b="1" lang="tt-RU" sz="3600" spc="-1" strike="noStrike">
                <a:solidFill>
                  <a:srgbClr val="7460c8"/>
                </a:solidFill>
                <a:latin typeface="Franklin Gothic Medium"/>
              </a:rPr>
              <a:t>Белмәү –хур.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6084720" y="2565360"/>
            <a:ext cx="2724480" cy="4133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2"/>
          <a:stretch/>
        </p:blipFill>
        <p:spPr>
          <a:xfrm>
            <a:off x="3492360" y="4365720"/>
            <a:ext cx="2664000" cy="237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250920" y="189000"/>
          <a:ext cx="8713800" cy="6335640"/>
        </p:xfrm>
        <a:graphic>
          <a:graphicData uri="http://schemas.openxmlformats.org/drawingml/2006/table">
            <a:tbl>
              <a:tblPr/>
              <a:tblGrid>
                <a:gridCol w="5796000"/>
                <a:gridCol w="1485720"/>
                <a:gridCol w="143208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                     </a:t>
                      </a: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ҖӨМЛӘЛӘР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ҖЫЙ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ҖӘЕ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1. Көннәр озы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2. Күбәләкләр чәчәкләргә кунып уйныйл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3. Умырзая чыкк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4. Зәңгәр күлләрдә кошлар йөз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5. Карлар  эре</a:t>
                      </a: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е</a:t>
                      </a: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6. Урман тын гына йокысыннан уя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7. Җылы яклардан күчмә кошлар кай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8. Без табигат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ь</a:t>
                      </a: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кә сокланабы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9. Яңгырлар я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10. Болытлар йөз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95" name="5-конечная звезда 3"/>
          <p:cNvSpPr/>
          <p:nvPr/>
        </p:nvSpPr>
        <p:spPr>
          <a:xfrm>
            <a:off x="6588000" y="1052640"/>
            <a:ext cx="287640" cy="288720"/>
          </a:xfrm>
          <a:custGeom>
            <a:avLst/>
            <a:gdLst>
              <a:gd name="textAreaLeft" fmla="*/ 88920 w 287640"/>
              <a:gd name="textAreaRight" fmla="*/ 198720 w 28764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5-конечная звезда 4"/>
          <p:cNvSpPr/>
          <p:nvPr/>
        </p:nvSpPr>
        <p:spPr>
          <a:xfrm>
            <a:off x="8101080" y="1628640"/>
            <a:ext cx="287280" cy="28764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640"/>
              <a:gd name="textAreaBottom" fmla="*/ 219960 h 287640"/>
            </a:gdLst>
            <a:ahLst/>
            <a:rect l="textAreaLeft" t="textAreaTop" r="textAreaRight" b="textAreaBottom"/>
            <a:pathLst>
              <a:path w="287337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3" y="109754"/>
                </a:lnTo>
                <a:lnTo>
                  <a:pt x="287337" y="109753"/>
                </a:lnTo>
                <a:lnTo>
                  <a:pt x="198544" y="177584"/>
                </a:lnTo>
                <a:lnTo>
                  <a:pt x="232461" y="287337"/>
                </a:lnTo>
                <a:lnTo>
                  <a:pt x="143669" y="219505"/>
                </a:lnTo>
                <a:lnTo>
                  <a:pt x="54876" y="287337"/>
                </a:lnTo>
                <a:lnTo>
                  <a:pt x="88793" y="17758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5-конечная звезда 5"/>
          <p:cNvSpPr/>
          <p:nvPr/>
        </p:nvSpPr>
        <p:spPr>
          <a:xfrm>
            <a:off x="6588000" y="220500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5-конечная звезда 6"/>
          <p:cNvSpPr/>
          <p:nvPr/>
        </p:nvSpPr>
        <p:spPr>
          <a:xfrm>
            <a:off x="8101080" y="2708280"/>
            <a:ext cx="287280" cy="28908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6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5-конечная звезда 7"/>
          <p:cNvSpPr/>
          <p:nvPr/>
        </p:nvSpPr>
        <p:spPr>
          <a:xfrm>
            <a:off x="6588000" y="321300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4" y="109754"/>
                </a:lnTo>
                <a:lnTo>
                  <a:pt x="287338" y="109753"/>
                </a:lnTo>
                <a:lnTo>
                  <a:pt x="198545" y="177584"/>
                </a:lnTo>
                <a:lnTo>
                  <a:pt x="232461" y="287337"/>
                </a:lnTo>
                <a:lnTo>
                  <a:pt x="143669" y="219505"/>
                </a:lnTo>
                <a:lnTo>
                  <a:pt x="54877" y="287337"/>
                </a:lnTo>
                <a:lnTo>
                  <a:pt x="88793" y="17758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5-конечная звезда 8"/>
          <p:cNvSpPr/>
          <p:nvPr/>
        </p:nvSpPr>
        <p:spPr>
          <a:xfrm>
            <a:off x="8101080" y="3860640"/>
            <a:ext cx="287280" cy="28908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6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5-конечная звезда 9"/>
          <p:cNvSpPr/>
          <p:nvPr/>
        </p:nvSpPr>
        <p:spPr>
          <a:xfrm>
            <a:off x="8101080" y="450864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6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5-конечная звезда 10"/>
          <p:cNvSpPr/>
          <p:nvPr/>
        </p:nvSpPr>
        <p:spPr>
          <a:xfrm>
            <a:off x="8101080" y="515772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5-конечная звезда 11"/>
          <p:cNvSpPr/>
          <p:nvPr/>
        </p:nvSpPr>
        <p:spPr>
          <a:xfrm>
            <a:off x="6588000" y="5661000"/>
            <a:ext cx="287640" cy="289080"/>
          </a:xfrm>
          <a:custGeom>
            <a:avLst/>
            <a:gdLst>
              <a:gd name="textAreaLeft" fmla="*/ 88920 w 287640"/>
              <a:gd name="textAreaRight" fmla="*/ 198720 w 28764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5-конечная звезда 12"/>
          <p:cNvSpPr/>
          <p:nvPr/>
        </p:nvSpPr>
        <p:spPr>
          <a:xfrm>
            <a:off x="6588000" y="6165720"/>
            <a:ext cx="287640" cy="28764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640"/>
              <a:gd name="textAreaBottom" fmla="*/ 219960 h 287640"/>
            </a:gdLst>
            <a:ahLst/>
            <a:rect l="textAreaLeft" t="textAreaTop" r="textAreaRight" b="textAreaBottom"/>
            <a:pathLst>
              <a:path w="287338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4" y="109754"/>
                </a:lnTo>
                <a:lnTo>
                  <a:pt x="287338" y="109753"/>
                </a:lnTo>
                <a:lnTo>
                  <a:pt x="198545" y="177584"/>
                </a:lnTo>
                <a:lnTo>
                  <a:pt x="232461" y="287337"/>
                </a:lnTo>
                <a:lnTo>
                  <a:pt x="143669" y="219505"/>
                </a:lnTo>
                <a:lnTo>
                  <a:pt x="54877" y="287337"/>
                </a:lnTo>
                <a:lnTo>
                  <a:pt x="88793" y="17758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1484280"/>
            <a:ext cx="7476840" cy="46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4ade4e"/>
                </a:solidFill>
                <a:latin typeface="Tahoma"/>
              </a:rPr>
              <a:t>хатирә</a:t>
            </a:r>
            <a:r>
              <a:rPr b="1" lang="tt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t-RU" sz="3000" spc="-1" strike="noStrike">
                <a:solidFill>
                  <a:srgbClr val="ffffcc"/>
                </a:solidFill>
                <a:latin typeface="Tahoma"/>
              </a:rPr>
              <a:t>- истә калган хәлләр-вакыйгалар, воспоминание</a:t>
            </a:r>
            <a:br>
              <a:rPr sz="3000"/>
            </a:br>
            <a:br>
              <a:rPr sz="3000"/>
            </a:br>
            <a:r>
              <a:rPr b="1" lang="tt-RU" sz="3000" spc="-1" strike="noStrike">
                <a:solidFill>
                  <a:srgbClr val="4ade4e"/>
                </a:solidFill>
                <a:latin typeface="Tahoma"/>
              </a:rPr>
              <a:t>чоңгыл</a:t>
            </a:r>
            <a:r>
              <a:rPr b="1" lang="tt-RU" sz="3000" spc="-1" strike="noStrike">
                <a:solidFill>
                  <a:srgbClr val="ffffcc"/>
                </a:solidFill>
                <a:latin typeface="Tahoma"/>
              </a:rPr>
              <a:t> – елга-күлләрдәге бик тирән чокыр, судагы төпсез урын, омут</a:t>
            </a:r>
            <a:br>
              <a:rPr sz="3000"/>
            </a:br>
            <a:br>
              <a:rPr sz="3000"/>
            </a:br>
            <a:r>
              <a:rPr b="1" lang="tt-RU" sz="3000" spc="-1" strike="noStrike">
                <a:solidFill>
                  <a:srgbClr val="4ade4e"/>
                </a:solidFill>
                <a:latin typeface="Tahoma"/>
              </a:rPr>
              <a:t>өянке</a:t>
            </a:r>
            <a:r>
              <a:rPr b="1" lang="tt-RU" sz="3000" spc="-1" strike="noStrike">
                <a:solidFill>
                  <a:srgbClr val="ffffcc"/>
                </a:solidFill>
                <a:latin typeface="Tahoma"/>
              </a:rPr>
              <a:t> – икенче исеме тал, тар гына яфраклы агач, ива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60768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443329"/>
                </a:solidFill>
                <a:latin typeface="Tahoma"/>
              </a:rPr>
              <a:t>	</a:t>
            </a:r>
            <a:r>
              <a:rPr b="1" lang="tt-RU" sz="4000" spc="-1" strike="noStrike">
                <a:solidFill>
                  <a:srgbClr val="443329"/>
                </a:solidFill>
                <a:latin typeface="Tahoma"/>
              </a:rPr>
              <a:t>	</a:t>
            </a:r>
            <a:r>
              <a:rPr b="1" lang="tt-RU" sz="4000" spc="-1" strike="noStrike">
                <a:solidFill>
                  <a:srgbClr val="00b050"/>
                </a:solidFill>
                <a:latin typeface="Tahoma"/>
              </a:rPr>
              <a:t>Сүзлек эше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333360"/>
            <a:ext cx="7386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t-RU" sz="2800" spc="-1" strike="noStrike">
                <a:solidFill>
                  <a:srgbClr val="7460c8"/>
                </a:solidFill>
                <a:latin typeface="Tahoma"/>
              </a:rPr>
              <a:t>Гади җөмләгә синтаксик анализ   </a:t>
            </a:r>
            <a:r>
              <a:rPr b="0" lang="tt-RU" sz="2800" spc="-1" strike="noStrike">
                <a:solidFill>
                  <a:srgbClr val="7460c8"/>
                </a:solidFill>
                <a:latin typeface="Tahoma"/>
              </a:rPr>
              <a:t>	</a:t>
            </a:r>
            <a:r>
              <a:rPr b="0" lang="tt-RU" sz="2800" spc="-1" strike="noStrike">
                <a:solidFill>
                  <a:srgbClr val="7460c8"/>
                </a:solidFill>
                <a:latin typeface="Tahoma"/>
              </a:rPr>
              <a:t>	</a:t>
            </a:r>
            <a:r>
              <a:rPr b="0" lang="tt-RU" sz="2800" spc="-1" strike="noStrike">
                <a:solidFill>
                  <a:srgbClr val="7460c8"/>
                </a:solidFill>
                <a:latin typeface="Tahoma"/>
              </a:rPr>
              <a:t>	</a:t>
            </a:r>
            <a:r>
              <a:rPr b="0" lang="tt-RU" sz="2800" spc="-1" strike="noStrike">
                <a:solidFill>
                  <a:srgbClr val="7460c8"/>
                </a:solidFill>
                <a:latin typeface="Tahoma"/>
              </a:rPr>
              <a:t>ясау тәртиб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1.Әйтү максаты ягыннан төре билгелән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2.Җыйнак яки җәенке икәне әйтел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3.Бер составлы яки ике составлы булуы күрсәтел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4.Тулы яки ким булуы әйтел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5.Раслау яки инкар</a:t>
            </a:r>
            <a:r>
              <a:rPr b="1" lang="ru-RU" sz="2400" spc="-1" strike="noStrike">
                <a:solidFill>
                  <a:srgbClr val="e5e500"/>
                </a:solidFill>
                <a:latin typeface="Tahoma"/>
              </a:rPr>
              <a:t>ь</a:t>
            </a: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 булуы билгелән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6.Тиңдәш кисәкләре яки аерымланган кисәкләре булу-булмавы күрсәтел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7.Гади җөмлә икәне әйтел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e5e500"/>
                </a:solidFill>
                <a:latin typeface="Tahoma"/>
              </a:rPr>
              <a:t>8. Шартлы билгеләр ярдәмендә җөмлә кисәкләре буенча тикшерелә</a:t>
            </a:r>
            <a:r>
              <a:rPr b="1" lang="tt-RU" sz="2400" spc="-1" strike="noStrike">
                <a:solidFill>
                  <a:srgbClr val="2f4f31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Мин яр </a:t>
            </a:r>
            <a:r>
              <a:rPr b="1" lang="tt-RU" sz="3200" spc="-1" strike="noStrike">
                <a:solidFill>
                  <a:srgbClr val="0066ff"/>
                </a:solidFill>
                <a:latin typeface="Tahoma"/>
              </a:rPr>
              <a:t>өстеннән елгага карап торам.</a:t>
            </a:r>
            <a:br>
              <a:rPr sz="3200"/>
            </a:br>
            <a:r>
              <a:rPr b="1" lang="tt-RU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tt-RU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tt-RU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tt-RU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i="1" lang="tt-RU" sz="2800" spc="-1" strike="noStrike">
                <a:solidFill>
                  <a:srgbClr val="ffffcc"/>
                </a:solidFill>
                <a:latin typeface="Tahoma"/>
              </a:rPr>
              <a:t>(Ф.Яруллиннан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55640" y="2997000"/>
            <a:ext cx="7561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bf25a"/>
                </a:solidFill>
                <a:latin typeface="Tahoma"/>
              </a:rPr>
              <a:t>Бу – хикәя, җәенке, ике составлы, тулы, раслау, гади җөмл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39:40Z</dcterms:created>
  <dc:creator>Шакировы</dc:creator>
  <dc:description/>
  <dc:language>en-US</dc:language>
  <cp:lastModifiedBy>абак</cp:lastModifiedBy>
  <dcterms:modified xsi:type="dcterms:W3CDTF">2012-04-20T04:23:50Z</dcterms:modified>
  <cp:revision>50</cp:revision>
  <dc:subject/>
  <dc:title>Слайд 1</dc:title>
</cp:coreProperties>
</file>