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C505A-273B-4E24-A5A3-351257C48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74DAD-0D81-4DC4-A6C6-55185DFCE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9AA6A-796A-451B-B9F4-3C0D102AA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47CD7-B0CB-4652-A6B3-FE6E8FA34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A3684-14B4-417B-AF1B-875E017E5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964CC-6352-432B-B34B-922DF9CD3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519CA-B74A-4376-9023-E7C51C69D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21656-246B-440D-8B22-DBAC4F3A8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CA0EF-1B6B-4300-8A66-A33C28682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0DF9C-7553-4C43-A10D-8CABE2B98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828F5-E7B8-4FE0-BDDC-250BA0C64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CCC39-DE02-4351-9B30-A37274495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A97CE-B936-4E2B-86A0-468326CC58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71640" y="333360"/>
            <a:ext cx="7129440" cy="59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езентация к уроку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ЖИРЫ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"</a:t>
            </a: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еподавател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Ходанович Л.П.</a:t>
            </a: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ГБУ НПО ПЛКМ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анкт-Петербург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2011г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5148360" y="3429000"/>
            <a:ext cx="3581280" cy="22575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659640" y="476280"/>
            <a:ext cx="1647720" cy="20383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6659640" y="5013360"/>
            <a:ext cx="761760" cy="7714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2987640" y="2924280"/>
            <a:ext cx="2036880" cy="25192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611280" y="3213000"/>
            <a:ext cx="2442960" cy="30243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1332000" y="1413000"/>
            <a:ext cx="2178000" cy="22334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 rot="20282400">
            <a:off x="3924360" y="907920"/>
            <a:ext cx="199224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91520" cy="15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Жиры – это сложные эфиры глицерина и карбоновых кислот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ЖИ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2781360"/>
            <a:ext cx="4643280" cy="407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6600"/>
                </a:solidFill>
                <a:latin typeface="Arial"/>
              </a:rPr>
              <a:t>ТВЁРД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Животн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исхожд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исключение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ыбий жир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разованы высшим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дельны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рбоновыми кислотам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еариновой - </a:t>
            </a:r>
            <a:r>
              <a:rPr b="0" lang="ru-RU" sz="2400" spc="-1" strike="noStrike">
                <a:solidFill>
                  <a:srgbClr val="ff6600"/>
                </a:solidFill>
                <a:latin typeface="Arial"/>
              </a:rPr>
              <a:t>С</a:t>
            </a:r>
            <a:r>
              <a:rPr b="0" lang="ru-RU" sz="2400" spc="-1" strike="noStrike" baseline="-25000">
                <a:solidFill>
                  <a:srgbClr val="ff6600"/>
                </a:solidFill>
                <a:latin typeface="Arial"/>
              </a:rPr>
              <a:t>17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ff6600"/>
                </a:solidFill>
                <a:latin typeface="Arial"/>
              </a:rPr>
              <a:t>3</a:t>
            </a:r>
            <a:r>
              <a:rPr b="0" lang="ru-RU" sz="2400" spc="-1" strike="noStrike" baseline="-25000">
                <a:solidFill>
                  <a:srgbClr val="ff6600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COO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альмитиновой - </a:t>
            </a:r>
            <a:r>
              <a:rPr b="0" lang="ru-RU" sz="2400" spc="-1" strike="noStrike">
                <a:solidFill>
                  <a:srgbClr val="ff6600"/>
                </a:solidFill>
                <a:latin typeface="Arial"/>
              </a:rPr>
              <a:t>С</a:t>
            </a:r>
            <a:r>
              <a:rPr b="0" lang="ru-RU" sz="2400" spc="-1" strike="noStrike" baseline="-25000">
                <a:solidFill>
                  <a:srgbClr val="ff6600"/>
                </a:solidFill>
                <a:latin typeface="Arial"/>
              </a:rPr>
              <a:t>15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ff6600"/>
                </a:solidFill>
                <a:latin typeface="Arial"/>
              </a:rPr>
              <a:t>31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COO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некоторыми други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93840" y="2755440"/>
            <a:ext cx="4249800" cy="410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6600"/>
                </a:solidFill>
                <a:latin typeface="Arial"/>
              </a:rPr>
              <a:t>ЖИДК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тительн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исхожд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с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исключение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косовое масло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разованы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сшим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предельным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рбоновыми кислотам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леиново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6600"/>
                </a:solidFill>
                <a:latin typeface="Arial"/>
              </a:rPr>
              <a:t>С</a:t>
            </a:r>
            <a:r>
              <a:rPr b="0" lang="ru-RU" sz="2400" spc="-1" strike="noStrike" baseline="-25000">
                <a:solidFill>
                  <a:srgbClr val="ff6600"/>
                </a:solidFill>
                <a:latin typeface="Arial"/>
              </a:rPr>
              <a:t>17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ff6600"/>
                </a:solidFill>
                <a:latin typeface="Arial"/>
              </a:rPr>
              <a:t>33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COO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инолево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ru-RU" sz="2400" spc="-1" strike="noStrike">
                <a:solidFill>
                  <a:srgbClr val="ff6600"/>
                </a:solidFill>
                <a:latin typeface="Arial"/>
              </a:rPr>
              <a:t>С</a:t>
            </a:r>
            <a:r>
              <a:rPr b="0" lang="ru-RU" sz="2400" spc="-1" strike="noStrike" baseline="-25000">
                <a:solidFill>
                  <a:srgbClr val="ff6600"/>
                </a:solidFill>
                <a:latin typeface="Arial"/>
              </a:rPr>
              <a:t>17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ff6600"/>
                </a:solidFill>
                <a:latin typeface="Arial"/>
              </a:rPr>
              <a:t>31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COO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иноленово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C</a:t>
            </a:r>
            <a:r>
              <a:rPr b="0" lang="ru-RU" sz="2400" spc="-1" strike="noStrike" baseline="-25000">
                <a:solidFill>
                  <a:srgbClr val="ff6600"/>
                </a:solidFill>
                <a:latin typeface="Arial"/>
              </a:rPr>
              <a:t>17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ff6600"/>
                </a:solidFill>
                <a:latin typeface="Arial"/>
              </a:rPr>
              <a:t>29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COO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rot="19036200">
            <a:off x="5292720" y="1844280"/>
            <a:ext cx="415800" cy="843120"/>
          </a:xfrm>
          <a:prstGeom prst="downArrow">
            <a:avLst>
              <a:gd name="adj1" fmla="val 50000"/>
              <a:gd name="adj2" fmla="val 50693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rot="2797200">
            <a:off x="3416760" y="1847160"/>
            <a:ext cx="415800" cy="842760"/>
          </a:xfrm>
          <a:prstGeom prst="downArrow">
            <a:avLst>
              <a:gd name="adj1" fmla="val 50000"/>
              <a:gd name="adj2" fmla="val 50671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БЩАЯ ФОРМУЛА ЖИР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3261960" y="1989360"/>
            <a:ext cx="2973600" cy="3056400"/>
            <a:chOff x="3261960" y="1989360"/>
            <a:chExt cx="2973600" cy="3056400"/>
          </a:xfrm>
        </p:grpSpPr>
        <p:sp>
          <p:nvSpPr>
            <p:cNvPr id="56" name=""/>
            <p:cNvSpPr/>
            <p:nvPr/>
          </p:nvSpPr>
          <p:spPr>
            <a:xfrm>
              <a:off x="3492360" y="3673440"/>
              <a:ext cx="1800" cy="34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492360" y="2682720"/>
              <a:ext cx="1800" cy="34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>
              <a:off x="4554360" y="2187360"/>
              <a:ext cx="123840" cy="11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 flipV="1">
              <a:off x="4554360" y="2486880"/>
              <a:ext cx="123840" cy="12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 flipH="1">
              <a:off x="4630680" y="2263680"/>
              <a:ext cx="123840" cy="11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H="1" flipV="1">
              <a:off x="4554360" y="3477600"/>
              <a:ext cx="123840" cy="12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>
              <a:off x="4707000" y="3254040"/>
              <a:ext cx="123840" cy="11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>
              <a:off x="4478040" y="4168440"/>
              <a:ext cx="237960" cy="11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 flipV="1">
              <a:off x="4592520" y="4544280"/>
              <a:ext cx="123840" cy="12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4630680" y="3101760"/>
              <a:ext cx="123840" cy="11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>
              <a:off x="4554360" y="4244760"/>
              <a:ext cx="238320" cy="11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261960" y="1989360"/>
              <a:ext cx="1677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                         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33960" y="2274840"/>
              <a:ext cx="1361880" cy="55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СН</a:t>
              </a:r>
              <a:r>
                <a:rPr b="1" lang="ru-RU" sz="1400" spc="-1" strike="noStrike" baseline="-30000">
                  <a:solidFill>
                    <a:srgbClr val="000000"/>
                  </a:solidFill>
                  <a:latin typeface="Arial"/>
                  <a:ea typeface="Times New Roman"/>
                </a:rPr>
                <a:t>2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 –  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O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– С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370320" y="2539080"/>
              <a:ext cx="1632960" cy="66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                 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R</a:t>
              </a:r>
              <a:r>
                <a:rPr b="0" lang="ru-RU" sz="1600" spc="-1" strike="noStrike" baseline="-30000">
                  <a:solidFill>
                    <a:srgbClr val="000000"/>
                  </a:solidFill>
                  <a:latin typeface="Arial"/>
                  <a:ea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711680" y="3709800"/>
              <a:ext cx="1523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                  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336480" y="3193920"/>
              <a:ext cx="1340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СН  –  О – С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370320" y="3453480"/>
              <a:ext cx="1632960" cy="66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                 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R</a:t>
              </a:r>
              <a:r>
                <a:rPr b="0" lang="ru-RU" sz="1600" spc="-1" strike="noStrike" baseline="-30000">
                  <a:solidFill>
                    <a:srgbClr val="000000"/>
                  </a:solidFill>
                  <a:latin typeface="Arial"/>
                  <a:ea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380400" y="3044520"/>
              <a:ext cx="16909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                   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358080" y="4221720"/>
              <a:ext cx="1421280" cy="62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H</a:t>
              </a:r>
              <a:r>
                <a:rPr b="1" lang="ru-RU" sz="1600" spc="-1" strike="noStrike" baseline="-30000">
                  <a:solidFill>
                    <a:srgbClr val="000000"/>
                  </a:solidFill>
                  <a:latin typeface="Arial"/>
                  <a:ea typeface="Times New Roman"/>
                </a:rPr>
                <a:t>2</a:t>
              </a:r>
              <a:r>
                <a:rPr b="1" lang="ru-RU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–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O</a:t>
              </a:r>
              <a:r>
                <a:rPr b="1" lang="ru-RU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–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                    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649040" y="4640040"/>
              <a:ext cx="4183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Lucida Sans Unicode"/>
                </a:rPr>
                <a:t>R</a:t>
              </a:r>
              <a:r>
                <a:rPr b="0" lang="ru-RU" sz="1800" spc="-1" strike="noStrike" baseline="-25000">
                  <a:solidFill>
                    <a:srgbClr val="000000"/>
                  </a:solidFill>
                  <a:latin typeface="Arial"/>
                  <a:ea typeface="Lucida Sans Unicode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ХИМИЧЕСКИЕ СВОЙСТВА ЖИР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8229600" cy="39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Гидролиз жиро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Поступая в органы пищеварения жиры под действием ферментов гидролизуются на глицерин и соответствующие кисло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Взаимодействие со щелочам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при этом образуются соли высших карбоновых кислот (мыла) и глицер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Гидрирование жидких жиро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(взаимодействие с водородом), при этом жидкие жиры превращаются в тверд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РИМЕНЕНИЕ ЖИР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8229600" cy="39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Жиры применяют в качестве пищевого продукт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 также используют для фармацевтических це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кремы, помады и др.)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з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твердых жиро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можно получать стеарин для свече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вердое мыл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Лучшие сорта гидрированного жира используют д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лучения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маргарин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МАРГАРИ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Эмульсия гидрированного жира, животного жира ил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стительного масла в молоке. По виду и запах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поминает сливочное масло; для придания продукт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желтого цвета в него добавляют яичный желток, а д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апаха – дикетон диацетил (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СН</a:t>
            </a:r>
            <a:r>
              <a:rPr b="0" lang="en-US" sz="2400" spc="-1" strike="noStrike" baseline="-25000">
                <a:solidFill>
                  <a:srgbClr val="ff66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СОСОСН</a:t>
            </a:r>
            <a:r>
              <a:rPr b="0" lang="en-US" sz="2400" spc="-1" strike="noStrike" baseline="-25000">
                <a:solidFill>
                  <a:srgbClr val="ff66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– главно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ушистое вещество сливочного мас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95280" y="263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пасибо за внимани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3T08:46:39Z</dcterms:created>
  <dc:creator>User</dc:creator>
  <dc:description/>
  <dc:language>en-US</dc:language>
  <cp:lastModifiedBy>User</cp:lastModifiedBy>
  <dcterms:modified xsi:type="dcterms:W3CDTF">2012-11-13T09:47:42Z</dcterms:modified>
  <cp:revision>2</cp:revision>
  <dc:subject/>
  <dc:title>Презентация к уроку "ЖИРЫ"  Преподаватель: Ходанович Л.П.  </dc:title>
</cp:coreProperties>
</file>