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77C0-8619-4EA9-8FFC-6E83AA15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9468-543E-4F81-A761-781C4A86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EE95-AB18-4BEE-B51A-0A14CC0C5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1D16-3E5E-427A-A210-EF1BD6A85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C81E-7EBD-482C-9DB5-08B97F94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826E-4AFE-4659-A3A7-3A07040B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79B2-4604-4E82-BEA7-6D7A918B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2F3F-3DBB-4ADF-B872-64A535DC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5B9D-8737-44DD-85CE-FAE5A318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927A-F0F7-4F39-A001-5EBA06CB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D24A-5A3A-4382-A14E-5F65F2B3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E806-826A-4DDE-8782-4E0EC7D7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DBD3-7CFE-4637-AF28-5FF893CC51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32968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</a:rPr>
              <a:t>Тема: «Рыцарь мечты» и его феерия «Алые парус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57280" y="1630440"/>
            <a:ext cx="4643640" cy="4727520"/>
          </a:xfrm>
          <a:prstGeom prst="rect">
            <a:avLst/>
          </a:prstGeom>
          <a:ln w="7632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первой группе 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0004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Грин – «рыцарь мечты» (по биографии писателя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йдите в толковом словаре понятия : рыцарь, мечта, кластер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ыщите сведения о жизни и творчестве писателя. Сделайте вывод о том, почему писателя называли «рыцарем мечты». Создайте презентацию о жизни писател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рисуйте кластер, отражающий понятие «Рыцарь мечты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оздайте групповой ответ по заданной вам тем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делайте общий вывод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Грин – «рыцарь мечты», так как …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второй группе 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13840" y="571680"/>
            <a:ext cx="8472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 «живой мечты». Докажите, что у тех, кто верит по-настоящему в свою мечту, она воплощается в жизн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образами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им перед читателем предстает Лонгрен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тупок Лонгрена. Почему его не поняли односельчане? Понимает ли сам Лонгрен свой поступок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 растил дочь? Что сумел вложить в нее? Какой выросла Ассоль?   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тство Ассоль. Каким оно было? Почему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 воспринимает жизнь Ассоль? Откуда в ней видение жизни как чуд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чему Ассоль поверила Эглю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чему воплотилась в жизнь мечта Ассоль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то из героев повести близок по характеру Ассоль? Чем именно? Сопоставьте этих героев. Что их объединяет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 увидел в судьбе Ассоль Грей? Почему сумел воплотить в жизнь ее мечту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уйте кластер, отражающий понятие «живая мечта» (Как воплотили в жизнь свою мечту А.Грин, Лонгрен, Ассоль, Грей?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те групповой ответ по заданной вам тем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йте общий выво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Живая мечта» - это …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третьей группе 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14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мысл названия феерии «Алые паруса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айдите в толковом словаре понятия: феерия, паруса, алый, симво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История создания повести-феери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едположите, почему А.Грин свою повесть назвал феерией. Чем для А.Грина являются алые паруса? Что символизируют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здайте презентацию на основе фотографий, иллюстраций под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од названием «Моя мечта» или прочтите стихи, которые символизируют вашу мечту, спойте песню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делайте общий вывод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А.Грин назвал свое произведение феерией, так как …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четвертой группе 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четвертой группе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феерические эпизоды вы выбрали бы, если бы вам предложили снять эпизоды кино или поставить сцены из спектакля? (составление сценария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йте выбор одного-двух эпизодов. Аргументируйте выбор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майте и нарисуйте костюм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майте пейзажи, на фоне которых будет происходить действи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тинг(какие требования предъявляете актерам?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на 4-5 минут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06:27:27Z</dcterms:created>
  <dc:creator>Admin</dc:creator>
  <dc:description/>
  <dc:language>en-US</dc:language>
  <cp:lastModifiedBy>Преподаватель</cp:lastModifiedBy>
  <dcterms:modified xsi:type="dcterms:W3CDTF">2010-04-26T04:53:52Z</dcterms:modified>
  <cp:revision>2</cp:revision>
  <dc:subject/>
  <dc:title>Тема: «Рыцарь мечты» и его феерия «Алые паруса»</dc:title>
</cp:coreProperties>
</file>