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2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F76-B307-473E-A595-CEDF5B09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DBE-3425-4E2F-8768-B9B169FB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627-32C6-4EAE-91A9-8E659069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FB7-2F71-427F-8170-3CCD7F0A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18A-0C22-43A0-93B7-FF0B6466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6A6-708E-4C81-B065-423BB54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C25-7CB9-46F5-8DCE-A1DC71D6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39B-3823-4246-B981-EF348E8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560-1603-487B-B2D9-565828A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447-FB78-4ABA-AB33-377831D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F92-1969-4F14-95A9-82C0A67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D45-80F9-456F-B36F-AAC9D51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4626-6E2C-4293-B56F-44688281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8.xm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ICTURE IS WO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HOUSAND WORD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l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661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аботу выполнила Попова И.В. учитель английского языка ГБОУ № 90 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260280"/>
            <a:ext cx="6912000" cy="136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 NO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IN ENGLISH OR IN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514160" cy="133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1757160" cy="204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08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508464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99736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48360" y="3068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229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76720" y="5373720"/>
            <a:ext cx="790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6597720"/>
            <a:ext cx="25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19280" y="404640"/>
            <a:ext cx="626580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 NO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IN ENGLISH OR IN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1655640" cy="1076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1086120" cy="142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4365720"/>
            <a:ext cx="1368360" cy="1231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067280" y="5516640"/>
            <a:ext cx="1058760" cy="1123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2276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357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4653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227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573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2492280"/>
            <a:ext cx="865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92720" y="249228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5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19280" y="3500280"/>
            <a:ext cx="865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869000"/>
            <a:ext cx="15829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92360" y="486900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6093000"/>
            <a:ext cx="1297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076720" y="5950080"/>
            <a:ext cx="935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260280"/>
            <a:ext cx="612144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916280"/>
            <a:ext cx="2664000" cy="649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ULAR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1844640"/>
            <a:ext cx="3816360" cy="72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ONLY PLURAL IN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627280" y="1268280"/>
            <a:ext cx="11527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1197000"/>
            <a:ext cx="934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1013040" cy="1071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95640" y="4005360"/>
            <a:ext cx="106992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995640" y="5445000"/>
            <a:ext cx="1171800" cy="1054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0800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Л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306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365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566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566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33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03640" y="321300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450864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003280" y="450864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587700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48360" y="587700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08000" y="404640"/>
            <a:ext cx="5688360" cy="10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844640"/>
            <a:ext cx="352908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SI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1773360"/>
            <a:ext cx="446544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BOTH SINGULAR AND PL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00360" y="14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1413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35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3645000"/>
            <a:ext cx="345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В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ВЕТЫ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4365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4437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НИЕ       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025960"/>
            <a:ext cx="33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ВОСТЬ    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789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4581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5157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602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o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ая разработка построена как набор красочно оформленных схематических ситуаций и сюжетов, помогающих понять и запомнить английскую грамма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638172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404640"/>
            <a:ext cx="4967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773360"/>
            <a:ext cx="1944720" cy="934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844640"/>
            <a:ext cx="2374920" cy="72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ou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13000"/>
            <a:ext cx="115272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585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797360"/>
            <a:ext cx="1871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,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445000"/>
            <a:ext cx="2305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, three,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3141720"/>
            <a:ext cx="9367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965520" cy="96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24360" y="4581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572000" y="465300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219640" y="4724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132000" y="5734080"/>
            <a:ext cx="55404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635280" y="5734080"/>
            <a:ext cx="554040" cy="554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716360" y="5734080"/>
            <a:ext cx="532080" cy="53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4211640" y="5734080"/>
            <a:ext cx="531720" cy="53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236000" y="306864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7236000" y="393372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738036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7451640" y="580536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43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0920" y="1484280"/>
            <a:ext cx="1152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1557360"/>
            <a:ext cx="1225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6453360"/>
            <a:ext cx="33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,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four spelling rules to mem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a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t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BUT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2597040" y="1647720"/>
            <a:ext cx="838440" cy="56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836640"/>
            <a:ext cx="741708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 –ES   AFTER –S, -X, -SH, -CH, -TCH, -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084720" y="1844640"/>
            <a:ext cx="129564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740720" y="2997360"/>
            <a:ext cx="982440" cy="88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2627280" y="3789360"/>
            <a:ext cx="792360" cy="712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012000" y="3716280"/>
            <a:ext cx="83952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059280" y="5300640"/>
            <a:ext cx="817560" cy="86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6372360" y="5229360"/>
            <a:ext cx="874440" cy="92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7451640" y="5229360"/>
            <a:ext cx="885960" cy="93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2700360" y="2708280"/>
            <a:ext cx="1079640" cy="70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92360" y="6524640"/>
            <a:ext cx="26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48000" y="549360"/>
            <a:ext cx="3384720" cy="154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3924360" y="76428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E(S)           [S] [Z] [IZ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77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133720"/>
            <a:ext cx="1440000" cy="504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2133720"/>
            <a:ext cx="1584360" cy="503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997360"/>
            <a:ext cx="194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997360"/>
            <a:ext cx="3816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s                       [s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gs                       [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ws                       [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es                  [i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8360" y="3789360"/>
            <a:ext cx="482760" cy="482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940360" y="299736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443640" y="29242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195640" y="285264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01200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51672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50872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1979640" y="4653000"/>
            <a:ext cx="770040" cy="77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5724360" y="465300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443640" y="4508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659640" y="51577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5724360" y="51577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2050920" y="55897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6156360" y="573408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652464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67640" y="3500280"/>
            <a:ext cx="1235160" cy="80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84720" y="4756320"/>
            <a:ext cx="1582920" cy="102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4762440"/>
            <a:ext cx="15843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419640" y="4708440"/>
            <a:ext cx="1584000" cy="1027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692360" y="4587840"/>
            <a:ext cx="1800000" cy="117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50920" y="4448160"/>
            <a:ext cx="1873080" cy="121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132000" y="1989000"/>
            <a:ext cx="2278080" cy="1481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404640"/>
            <a:ext cx="640872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GE  Y  INTO  I  AND  ADD  -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708280"/>
            <a:ext cx="75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2276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45813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465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65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5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2565360"/>
            <a:ext cx="381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630864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0"/>
            <a:ext cx="864216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S  PRECEDED  BY  A 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CHANGE IT.  JUST ADD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2122560" cy="19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268720" cy="204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71640" y="270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M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357336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NKE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64533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79640" y="333360"/>
            <a:ext cx="6192720" cy="1295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ADD 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9001400">
            <a:off x="5003280" y="1989000"/>
            <a:ext cx="1748160" cy="1573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1563840" cy="165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20550000">
            <a:off x="6732720" y="1628280"/>
            <a:ext cx="1766880" cy="196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7964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00536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UT M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411280" y="4950000"/>
            <a:ext cx="3818160" cy="1688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72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4941720"/>
            <a:ext cx="1224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580000" y="515772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500720" y="494172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66690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260280"/>
            <a:ext cx="7704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’T FORGET THESE EXCE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1844640"/>
            <a:ext cx="6481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N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M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O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O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H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6597720"/>
            <a:ext cx="22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35:02Z</dcterms:created>
  <dc:creator>мария</dc:creator>
  <dc:description/>
  <dc:language>en-US</dc:language>
  <cp:lastModifiedBy>мария</cp:lastModifiedBy>
  <dcterms:modified xsi:type="dcterms:W3CDTF">2012-10-16T19:24:24Z</dcterms:modified>
  <cp:revision>6</cp:revision>
  <dc:subject/>
  <dc:title>«A PICTURE IS WORTH A THOUSAND WORDS»</dc:title>
</cp:coreProperties>
</file>