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20.gif" ContentType="image/gif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850-CA56-4423-9299-744EE1C5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AF1-963C-4027-99B8-AD462C8F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F6C-4C6F-4E69-BC19-6CA7BA80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47E-F452-497B-81D8-608B6525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6B5-4961-4791-8F36-43190C02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353-DC73-48BE-9113-786FF4F5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B61-DD40-48E1-A79A-30F7FF38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847-FA9E-48AA-812A-41D7F963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E31-BDE5-4E7E-8A97-CC919F5A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DFA-A992-42C7-9EA3-CCA1EC20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AB6-7F8E-4194-A12F-69ADD1C3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D2E-5111-426A-8A1C-C6518A8B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50FE-B843-45FA-9305-005BA4E49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gi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21.jpeg"/><Relationship Id="rId12" Type="http://schemas.openxmlformats.org/officeDocument/2006/relationships/image" Target="../media/image21.jpeg"/><Relationship Id="rId13" Type="http://schemas.openxmlformats.org/officeDocument/2006/relationships/image" Target="../media/image21.jpeg"/><Relationship Id="rId14" Type="http://schemas.openxmlformats.org/officeDocument/2006/relationships/image" Target="../media/image21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" Target="slide8.xm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ICTURE IS WO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THOUSAND WORD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l s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566100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Работу выполнила Попова И.В. учитель английского языка ГБОУ № 90 Санкт-Петербур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76360" y="260280"/>
            <a:ext cx="6912000" cy="136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WORDS HAVE NO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IN ENGLISH OR IN R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419640" y="2852640"/>
            <a:ext cx="1514160" cy="1335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419640" y="4437000"/>
            <a:ext cx="1757160" cy="2049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42920" y="278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508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292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508464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299736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148360" y="306864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522936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076720" y="5373720"/>
            <a:ext cx="790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6597720"/>
            <a:ext cx="252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пова И.В. 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19280" y="404640"/>
            <a:ext cx="6265800" cy="115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WORDS HAVE NO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IN ENGLISH OR IN R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1655640" cy="1076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995640" y="2997360"/>
            <a:ext cx="1086120" cy="1428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851280" y="4365720"/>
            <a:ext cx="1368360" cy="1231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4067280" y="5516640"/>
            <a:ext cx="1058760" cy="1123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00000" y="2276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3357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O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465300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587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27640" y="2276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56360" y="3357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РЮ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724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27640" y="573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3280" y="2492280"/>
            <a:ext cx="865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292720" y="249228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357336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219280" y="3500280"/>
            <a:ext cx="865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68360" y="4869000"/>
            <a:ext cx="158292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292360" y="486900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6093000"/>
            <a:ext cx="129708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076720" y="5950080"/>
            <a:ext cx="935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63640" y="260280"/>
            <a:ext cx="6121440" cy="10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WORD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1916280"/>
            <a:ext cx="2664000" cy="649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ULAR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1844640"/>
            <a:ext cx="3816360" cy="720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ONLY PLURAL IN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627280" y="1268280"/>
            <a:ext cx="115272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08720" y="1197000"/>
            <a:ext cx="934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95640" y="2781360"/>
            <a:ext cx="1013040" cy="1071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995640" y="4005360"/>
            <a:ext cx="1069920" cy="1133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995640" y="5445000"/>
            <a:ext cx="1171800" cy="1054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0800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Л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3068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НЬ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35280" y="4365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5661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84720" y="5661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Р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32000" y="33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003640" y="3213000"/>
            <a:ext cx="648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87640" y="4508640"/>
            <a:ext cx="115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003280" y="4508640"/>
            <a:ext cx="863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587700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148360" y="587700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08000" y="404640"/>
            <a:ext cx="5688360" cy="10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WORD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844640"/>
            <a:ext cx="3529080" cy="115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SI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27640" y="1773360"/>
            <a:ext cx="446544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BOTH SINGULAR AND PL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700360" y="141300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64000" y="141300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19280" y="35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92720" y="3645000"/>
            <a:ext cx="3456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В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ВЕТЫ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4365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19640" y="4437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НИЕ       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3640" y="501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5025960"/>
            <a:ext cx="33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ОВОСТЬ    НО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59280" y="3789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59280" y="4581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32000" y="5157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40000" y="6021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o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ическая разработка построена как набор красочно оформленных схематических ситуаций и сюжетов, помогающих понять и запомнить английскую граммати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638172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пова И.В. 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08000" y="404640"/>
            <a:ext cx="4967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1773360"/>
            <a:ext cx="1944720" cy="934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1844640"/>
            <a:ext cx="2374920" cy="720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cou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213000"/>
            <a:ext cx="115272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149720"/>
            <a:ext cx="15858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,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4797360"/>
            <a:ext cx="187164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, two,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5445000"/>
            <a:ext cx="230508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, two, three,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3141720"/>
            <a:ext cx="93672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b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299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919080" cy="885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965520" cy="965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924360" y="4581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572000" y="465300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5219640" y="47242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3132000" y="5734080"/>
            <a:ext cx="554040" cy="554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3635280" y="5734080"/>
            <a:ext cx="554040" cy="554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4716360" y="5734080"/>
            <a:ext cx="532080" cy="531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4211640" y="5734080"/>
            <a:ext cx="531720" cy="531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7236000" y="306864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7236000" y="393372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3"/>
          <a:stretch/>
        </p:blipFill>
        <p:spPr>
          <a:xfrm>
            <a:off x="738036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7451640" y="5805360"/>
            <a:ext cx="604800" cy="604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43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4941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72360" y="580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50920" y="1484280"/>
            <a:ext cx="1152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1557360"/>
            <a:ext cx="1225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6453360"/>
            <a:ext cx="33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пова И,В. 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four spelling rules to memo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3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ta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t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BUT MI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a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an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2597040" y="1647720"/>
            <a:ext cx="838440" cy="565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87280" y="836640"/>
            <a:ext cx="741708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 –ES   AFTER –S, -X, -SH, -CH, -TCH, -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6084720" y="1844640"/>
            <a:ext cx="1295640" cy="792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7740720" y="2997360"/>
            <a:ext cx="982440" cy="884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2627280" y="3789360"/>
            <a:ext cx="792360" cy="712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6012000" y="3716280"/>
            <a:ext cx="839520" cy="75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3059280" y="5300640"/>
            <a:ext cx="817560" cy="86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6372360" y="5229360"/>
            <a:ext cx="874440" cy="927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7451640" y="5229360"/>
            <a:ext cx="885960" cy="93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>
            <a:off x="2700360" y="2708280"/>
            <a:ext cx="1079640" cy="701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92360" y="6524640"/>
            <a:ext cx="266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пова И.В. 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1468440" cy="1468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348000" y="549360"/>
            <a:ext cx="3384720" cy="1541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3924360" y="764280"/>
            <a:ext cx="31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E(S)           [S] [Z] [IZ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1773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2133720"/>
            <a:ext cx="1440000" cy="504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92720" y="2133720"/>
            <a:ext cx="1584360" cy="503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2997360"/>
            <a:ext cx="1944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d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2997360"/>
            <a:ext cx="38163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s                       [s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gs                       [z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ws                       [z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ches                  [iz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268360" y="3789360"/>
            <a:ext cx="482760" cy="482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940360" y="299736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443640" y="292428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2195640" y="285264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6012000" y="4005360"/>
            <a:ext cx="482400" cy="482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6516720" y="4005360"/>
            <a:ext cx="482400" cy="482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5508720" y="4005360"/>
            <a:ext cx="482400" cy="482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1979640" y="4653000"/>
            <a:ext cx="770040" cy="770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5724360" y="4653000"/>
            <a:ext cx="625680" cy="625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6443640" y="450864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6659640" y="51577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5724360" y="51577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2050920" y="558972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6156360" y="573408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76720" y="6524640"/>
            <a:ext cx="23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пова И.В.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1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667640" y="3500280"/>
            <a:ext cx="1235160" cy="801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84720" y="4756320"/>
            <a:ext cx="1582920" cy="1028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88000" y="4762440"/>
            <a:ext cx="1584360" cy="1030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3419640" y="4708440"/>
            <a:ext cx="1584000" cy="1027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692360" y="4587840"/>
            <a:ext cx="1800000" cy="117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250920" y="4448160"/>
            <a:ext cx="1873080" cy="1217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3132000" y="1989000"/>
            <a:ext cx="2278080" cy="1481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76360" y="404640"/>
            <a:ext cx="6408720" cy="115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NGE  Y  INTO  I  AND  ADD  -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2708280"/>
            <a:ext cx="756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35280" y="2276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45813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4653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4653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8800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72360" y="3500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2565360"/>
            <a:ext cx="3816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3280" y="630864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пова И.В. 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0"/>
            <a:ext cx="8642160" cy="134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IS  PRECEDED  BY  A  VOW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CHANGE IT.  JUST ADD 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692360" y="3500280"/>
            <a:ext cx="2122560" cy="1914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867280" y="4149720"/>
            <a:ext cx="2268720" cy="2044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71640" y="270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MO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3573360"/>
            <a:ext cx="244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ONKEY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64533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пова И.В. 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979640" y="333360"/>
            <a:ext cx="6192720" cy="1295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T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ND ADD 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rot="19001400">
            <a:off x="5003280" y="1989000"/>
            <a:ext cx="1748160" cy="1573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1563840" cy="1655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 rot="20550000">
            <a:off x="6732720" y="1628280"/>
            <a:ext cx="1766880" cy="1963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7964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2781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4005360"/>
            <a:ext cx="230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BUT MI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2411280" y="4950000"/>
            <a:ext cx="3818160" cy="1688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4724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4724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4941720"/>
            <a:ext cx="1224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580000" y="515772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500720" y="4941720"/>
            <a:ext cx="20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666900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пова И.В. 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16000" y="260280"/>
            <a:ext cx="770400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’T FORGET THESE EXCE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1844640"/>
            <a:ext cx="6481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N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OM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OO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OO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HI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X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H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77080" y="6597720"/>
            <a:ext cx="226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Попова И.В. Санкт-Петербур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6:35:02Z</dcterms:created>
  <dc:creator>мария</dc:creator>
  <dc:description/>
  <dc:language>en-US</dc:language>
  <cp:lastModifiedBy>мария</cp:lastModifiedBy>
  <dcterms:modified xsi:type="dcterms:W3CDTF">2012-10-16T19:24:24Z</dcterms:modified>
  <cp:revision>6</cp:revision>
  <dc:subject/>
  <dc:title>«A PICTURE IS WORTH A THOUSAND WORDS»</dc:title>
</cp:coreProperties>
</file>