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89D-111A-4C28-AD29-D8927DD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B03-B2D6-4BA8-8822-AC573E2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350-9C83-4E3B-8056-EE69C7A9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D7E-A4A5-4FB7-836D-0186714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2A97-E22E-4C13-BD23-E50EEF09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7594-7AAD-4E65-8D01-A34DE8B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1B4F-AC51-4ECB-A674-88C8FC70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F01-4BE5-4589-A575-13315689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49F3-AA13-4362-9315-C6485D0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5366-6B0A-4DA9-8D87-57E43459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856C-44B5-4F56-A42B-1D8EA3A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78A-1A35-42B3-B818-84F2C2FA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531C-A4AD-4A67-B189-4543163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D2EF-36A2-4E0C-8517-FADF20C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47A1-E0E2-4F03-ACB5-533C5FF1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3FDB-C328-4833-9908-C2A0B095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1BD-5BE1-49A2-AE3F-E7165736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E67-1AD2-4AFB-A72A-998D0FE6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F1F-5355-4D41-AE62-F89AD446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E65-BE8F-4146-8575-65CD0937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68A-CF61-428B-9AC5-9192138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554-34D3-4E23-A97D-281C940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426-BDB4-4521-B967-7BD8C3C9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62F-B1AF-4D84-9714-9C8C323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FF0-2360-4421-8518-76D9E400D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FA1C-29A3-4127-ABBB-D9EC6BCBC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Развитие орфографической зоркости на уроках русского языка в рамках УМК «Планета Знаний»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43434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Тумольская Е.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Самара, 2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фографическая грамотность - это составная часть общей языковой культуры, залог точности выражения мысли и взаимопонимания. Культура речи - это “одежда мысли”, по которой обычно сразу (и, как правило, безошибочно) определяют уровень образованности челове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Цель педагогической проект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витие орфографической зоркости как средства формирования навыков грамотного, безошибочного письма как показателя общей культуры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пределение орфографической зоркост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фографическая зоркость – это способность (или умение) быстро обнаруживать в тексте орфограммы и определить их типы. Орфографическая зоркость предполагает также умение обнаруживать ошибки, допущенные пишущим (собственные ошибки или чуж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Упражнения ,направленные на развитие орфографической зоркост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исывание, комментированное письмо, письмо по памяти, самодиктанты, словарные диктанты, диктанты с элементами игры, диктанты с самопровер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гра «Найди опасное место»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произносит слово, учащиеся хлопают в ладоши, слыша звук, которому нельзя довер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«Светофор»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кажите красный сигнал «светофора»,как только найдёте в слове «опасное мест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«Дырявое письмо»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звуку можно «доверять», обозначаем его буквой, если нет - пропускаем букву, оставляем сигнал опасности (затем к этому слову обязательно вернуться  и объяснить букву, непроверяемые написания найти в орфографическом словар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Составление различных  алгоритмов 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ывание тек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сьмо по памя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ентированное письмо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Спасибо за внимание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5:39:39Z</dcterms:created>
  <dc:creator>dvk</dc:creator>
  <dc:description/>
  <dc:language>en-US</dc:language>
  <cp:lastModifiedBy>1</cp:lastModifiedBy>
  <dcterms:modified xsi:type="dcterms:W3CDTF">2012-04-20T02:25:06Z</dcterms:modified>
  <cp:revision>15</cp:revision>
  <dc:subject/>
  <dc:title>Развитие орфографической зоркости </dc:title>
</cp:coreProperties>
</file>