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061-6D24-4DEF-AAB7-958D6561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C87-5900-461F-A42F-0A0CD953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997-ACD7-447D-BAAC-7635715F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ADF-5C17-48E1-821A-BDF10F90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975-EDB1-49A9-A282-FFCEC6EA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8D7-15CA-4499-B057-4BDF0FA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22F-0E71-44FA-8FAA-E38DB4F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B74-19E9-43DB-9EA8-81813CC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3EF-DBBA-4D49-B7D9-E8B2A847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A9A-AE75-48B5-8983-1E36C80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4E8-D329-4EA4-ABA5-1BB281A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C44-9F80-4E3D-91B0-5E7C81B5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2531-0E1E-44D3-A471-BAFA5DE27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.wmf"/><Relationship Id="rId3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36.wmf"/><Relationship Id="rId8" Type="http://schemas.openxmlformats.org/officeDocument/2006/relationships/image" Target="../media/image34.wmf"/><Relationship Id="rId9" Type="http://schemas.openxmlformats.org/officeDocument/2006/relationships/image" Target="../media/image38.wmf"/><Relationship Id="rId10" Type="http://schemas.openxmlformats.org/officeDocument/2006/relationships/image" Target="../media/image35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27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тригонометрических урав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42483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равнение содержит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ангенсы и котанген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1916280"/>
          <a:ext cx="4752720" cy="83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16280"/>
                    <a:ext cx="4752720" cy="83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50920" y="1125360"/>
          <a:ext cx="52578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125360"/>
                    <a:ext cx="52578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156360" y="1341360"/>
          <a:ext cx="16574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1341360"/>
                    <a:ext cx="1657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50920" y="3068640"/>
          <a:ext cx="5400720" cy="8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3068640"/>
                    <a:ext cx="540072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084720" y="2997360"/>
          <a:ext cx="2519640" cy="93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4720" y="2997360"/>
                    <a:ext cx="25196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9640" y="3789360"/>
          <a:ext cx="4751640" cy="12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3789360"/>
                    <a:ext cx="4751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227640" y="4076640"/>
          <a:ext cx="172908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076640"/>
                    <a:ext cx="1729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843280" y="5157720"/>
          <a:ext cx="4033800" cy="122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5157720"/>
                    <a:ext cx="40338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Методы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ригонометрически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метод решения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6520" y="1341360"/>
          <a:ext cx="550368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41360"/>
                    <a:ext cx="55036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63640" y="2205000"/>
            <a:ext cx="417672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,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1;-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284720" y="2421000"/>
          <a:ext cx="35712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421000"/>
                    <a:ext cx="357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332000" y="3224160"/>
          <a:ext cx="6119640" cy="337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24160"/>
                    <a:ext cx="611964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776160" y="1341360"/>
          <a:ext cx="78138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41360"/>
                    <a:ext cx="78138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Box 3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Методы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ригонометрически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метод решения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133720"/>
            <a:ext cx="87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родное уравнение второй степени, дел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²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8280" y="2637000"/>
          <a:ext cx="6932880" cy="40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2637000"/>
                    <a:ext cx="693288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2679840" y="1197000"/>
          <a:ext cx="370044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1197000"/>
                    <a:ext cx="37004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Box 3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Методы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ригонометрически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метод решения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1916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родное уравнение первой степени, дел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8360" y="2637000"/>
          <a:ext cx="439092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637000"/>
                    <a:ext cx="43909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1859040" y="1219320"/>
          <a:ext cx="545940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9040" y="1219320"/>
                    <a:ext cx="54594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Box 13"/>
          <p:cNvSpPr/>
          <p:nvPr/>
        </p:nvSpPr>
        <p:spPr>
          <a:xfrm>
            <a:off x="324000" y="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Методы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тригонометрически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Указать метод решения 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989000"/>
            <a:ext cx="871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внение содержащие синус и косинус, заменя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²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²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0920" y="2616120"/>
          <a:ext cx="4249800" cy="11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616120"/>
                    <a:ext cx="42498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24000" y="3789360"/>
          <a:ext cx="431928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789360"/>
                    <a:ext cx="4319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ула нахождения корней уравнения 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sin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50920" y="1557360"/>
          <a:ext cx="69134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69134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9280" y="2421000"/>
            <a:ext cx="896472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ула нахождения корней уравнения 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   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s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3789360"/>
          <a:ext cx="69120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789360"/>
                    <a:ext cx="69120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9280" y="4508640"/>
            <a:ext cx="8785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ормула нахождения корней уравнения  в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tg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5661000"/>
          <a:ext cx="5472000" cy="6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5661000"/>
                    <a:ext cx="5472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ешите урав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284720" y="2421000"/>
          <a:ext cx="403236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21000"/>
                    <a:ext cx="4032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284720" y="3573360"/>
          <a:ext cx="4103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4103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1052640"/>
          <a:ext cx="2160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1052640"/>
                    <a:ext cx="2160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284720" y="1268280"/>
          <a:ext cx="40323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1268280"/>
                    <a:ext cx="4032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8360" y="2133720"/>
          <a:ext cx="2232000" cy="115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2133720"/>
                    <a:ext cx="2232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68360" y="3357720"/>
          <a:ext cx="2158920" cy="10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8360" y="3357720"/>
                    <a:ext cx="21589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95280" y="4581360"/>
          <a:ext cx="2160720" cy="64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4581360"/>
                    <a:ext cx="2160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284720" y="4581360"/>
          <a:ext cx="4174920" cy="86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4581360"/>
                    <a:ext cx="4174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95280" y="5516640"/>
          <a:ext cx="2016000" cy="100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5280" y="5516640"/>
                    <a:ext cx="2016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56000" y="5734080"/>
          <a:ext cx="4032360" cy="79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56000" y="5734080"/>
                    <a:ext cx="4032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835280" y="1125360"/>
            <a:ext cx="1224000" cy="13669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65360"/>
            <a:ext cx="4032360" cy="12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равнение содержит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инусы или косин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 синусы и косинус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125360"/>
            <a:ext cx="0" cy="3024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4221000"/>
            <a:ext cx="3887640" cy="986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днородные урав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197000"/>
            <a:ext cx="0" cy="410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373720"/>
            <a:ext cx="338472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днородные урав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2997360"/>
            <a:ext cx="3492360" cy="158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Уравнение содер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нгенсы и котангенс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1197000"/>
            <a:ext cx="0" cy="1440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равнение содержит только 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нусы или косинусы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 синусы и косинусы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4000" y="1557360"/>
          <a:ext cx="51116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5111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24000" y="2470320"/>
          <a:ext cx="51847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470320"/>
                    <a:ext cx="51847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227640" y="1806480"/>
          <a:ext cx="194472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806480"/>
                    <a:ext cx="194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300720" y="2565360"/>
          <a:ext cx="187164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565360"/>
                    <a:ext cx="1871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908000" y="3429000"/>
          <a:ext cx="5112000" cy="115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3429000"/>
                    <a:ext cx="5112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равнение содержит только 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нусы или косинусы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 синусы и косинусы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04000" y="1916280"/>
          <a:ext cx="180036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916280"/>
                    <a:ext cx="18003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948360" y="2924280"/>
          <a:ext cx="1800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924280"/>
                    <a:ext cx="1800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8360" y="170028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916280"/>
          <a:ext cx="5047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1916280"/>
                    <a:ext cx="5047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771640" y="1844640"/>
          <a:ext cx="9637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1844640"/>
                    <a:ext cx="963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22680" y="1844640"/>
          <a:ext cx="187488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2680" y="1844640"/>
                    <a:ext cx="1874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603600" y="1963800"/>
          <a:ext cx="10018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03600" y="1963800"/>
                    <a:ext cx="1001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03280" y="1773360"/>
          <a:ext cx="136836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773360"/>
                    <a:ext cx="13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71640" y="1844640"/>
          <a:ext cx="1871640" cy="72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71640" y="1844640"/>
                    <a:ext cx="18716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11280" y="3068640"/>
          <a:ext cx="468360" cy="58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1280" y="3068640"/>
                    <a:ext cx="4683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771640" y="3068640"/>
          <a:ext cx="100836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71640" y="3068640"/>
                    <a:ext cx="10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16360" y="2997360"/>
          <a:ext cx="1656000" cy="62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16360" y="2997360"/>
                    <a:ext cx="165600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258920" y="2997360"/>
          <a:ext cx="1297080" cy="596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58920" y="2997360"/>
                    <a:ext cx="129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708360" y="3068640"/>
          <a:ext cx="100800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08360" y="3068640"/>
                    <a:ext cx="1008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42920" y="2997360"/>
          <a:ext cx="1944720" cy="720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2997360"/>
                    <a:ext cx="194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547640" y="4294080"/>
          <a:ext cx="6480360" cy="1440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547640" y="4294080"/>
                    <a:ext cx="64803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76360" y="333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Однородные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844640"/>
            <a:ext cx="828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0920" y="1484280"/>
                <a:ext cx="8713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/>
                    </m:sSup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39640" y="2205000"/>
            <a:ext cx="820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Сумма показателей степеней при </a:t>
            </a:r>
            <a:r>
              <a:rPr b="0" i="1" lang="en-US" sz="3200" spc="-1" strike="noStrike">
                <a:solidFill>
                  <a:srgbClr val="000000"/>
                </a:solidFill>
                <a:latin typeface="Bodoni MT"/>
              </a:rPr>
              <a:t>sin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Bodoni MT"/>
              </a:rPr>
              <a:t>cos 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doni MT"/>
              </a:rPr>
              <a:t>у всех слагаемых такого уравнения равна </a:t>
            </a:r>
            <a:r>
              <a:rPr b="0" i="1" lang="en-US" sz="3200" spc="-1" strike="noStrike">
                <a:solidFill>
                  <a:srgbClr val="000000"/>
                </a:solidFill>
                <a:latin typeface="Bodoni MT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57336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doni MT"/>
              </a:rPr>
              <a:t>Разделим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5084640"/>
            <a:ext cx="38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987640" y="3500280"/>
                <a:ext cx="1300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643280" y="357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doni MT"/>
              </a:rPr>
              <a:t>Получ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971640" y="4292640"/>
                <a:ext cx="6624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/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56000" y="54936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odoni MT"/>
              </a:rPr>
              <a:t>первой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177336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Bodoni MT"/>
              </a:rPr>
              <a:t>a       +b        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1454040" cy="77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1309680" cy="774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443640" y="170028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|:cos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627280" y="1773360"/>
            <a:ext cx="1235160" cy="776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2852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43400" y="2747880"/>
          <a:ext cx="698400" cy="100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3400" y="2747880"/>
                    <a:ext cx="6984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124000" y="3789360"/>
            <a:ext cx="59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arctg</a:t>
            </a:r>
            <a:r>
              <a:rPr b="0" lang="en-US" sz="6000" spc="-1" strike="noStrike">
                <a:solidFill>
                  <a:srgbClr val="000000"/>
                </a:solidFill>
                <a:latin typeface="Bodoni MT"/>
              </a:rPr>
              <a:t>(    )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+</a:t>
            </a:r>
            <a:r>
              <a:rPr b="0" lang="el-GR" sz="6000" spc="-1" strike="noStrike">
                <a:solidFill>
                  <a:srgbClr val="000000"/>
                </a:solidFill>
                <a:latin typeface="Bodoni MT"/>
              </a:rPr>
              <a:t>π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k, k</a:t>
            </a:r>
            <a:r>
              <a:rPr b="0" lang="en-US" sz="60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Z </a:t>
            </a:r>
            <a:r>
              <a:rPr b="0" lang="en-US" sz="6000" spc="-1" strike="noStrike">
                <a:solidFill>
                  <a:srgbClr val="000000"/>
                </a:solidFill>
                <a:latin typeface="Bodoni MT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211640" y="3789360"/>
                <a:ext cx="8888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020000" y="422100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042920" y="333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Bodoni MT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84360" y="47628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odoni MT"/>
              </a:rPr>
              <a:t>второй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26828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Bodoni MT"/>
              </a:rPr>
              <a:t>a         +b                +c         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1525680" cy="776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454400" cy="77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492360" y="1268280"/>
            <a:ext cx="1309680" cy="774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292720" y="1268280"/>
            <a:ext cx="1668600" cy="774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36000" y="126828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475400" y="1268280"/>
            <a:ext cx="1668600" cy="774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39640" y="1268280"/>
            <a:ext cx="1163880" cy="774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2556000" y="1268280"/>
            <a:ext cx="1234800" cy="7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340000" y="3213000"/>
            <a:ext cx="1454040" cy="77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32130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Bodoni MT"/>
              </a:rPr>
              <a:t>a        +</a:t>
            </a:r>
            <a:r>
              <a:rPr b="0" i="1" lang="en-US" sz="4400" spc="-1" strike="noStrike">
                <a:solidFill>
                  <a:srgbClr val="6600cc"/>
                </a:solidFill>
                <a:latin typeface="Bodoni MT"/>
              </a:rPr>
              <a:t>b                </a:t>
            </a:r>
            <a:r>
              <a:rPr b="1" i="1" lang="en-US" sz="4400" spc="-1" strike="noStrike">
                <a:solidFill>
                  <a:srgbClr val="6600cc"/>
                </a:solidFill>
                <a:latin typeface="Bodoni MT"/>
              </a:rPr>
              <a:t>+c                     =0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539640" y="3213000"/>
            <a:ext cx="1525680" cy="776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3348000" y="3213000"/>
            <a:ext cx="1309680" cy="77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5148360" y="3213000"/>
            <a:ext cx="658800" cy="77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5076720" y="3213000"/>
            <a:ext cx="32529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4:55:00Z</dcterms:created>
  <dc:creator>Света</dc:creator>
  <dc:description/>
  <dc:language>en-US</dc:language>
  <cp:lastModifiedBy>Света</cp:lastModifiedBy>
  <dcterms:modified xsi:type="dcterms:W3CDTF">2012-11-21T15:07:00Z</dcterms:modified>
  <cp:revision>4</cp:revision>
  <dc:subject/>
  <dc:title>Решение тригонометрических уравнений</dc:title>
</cp:coreProperties>
</file>