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56.wmf" ContentType="image/x-wmf"/>
  <Override PartName="/ppt/media/image15.png" ContentType="image/png"/>
  <Override PartName="/ppt/media/image5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0.wmf" ContentType="image/x-wmf"/>
  <Override PartName="/ppt/media/image42.wmf" ContentType="image/x-wmf"/>
  <Override PartName="/ppt/media/image54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412-FA0E-4F6E-8A80-C4A50A4C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696-10ED-4F7C-9C28-A0A6BAAE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5BD-500D-4D78-A87F-48725A2F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410-E2A4-4FE4-B538-C1B480DF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BD2-1442-47AB-8EE0-F2E7CA54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7BE-F1D5-4C49-99DF-41F9D63B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EAB-0503-4754-A85C-57005E17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5D8-8BA3-490B-AD01-7BB31A04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F79-B4CC-410C-B4B8-FB528A08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B1C-971F-4F7A-A522-CD3607A7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2BB7-C4D7-43FE-AF8E-4F9CEB56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9A47-D0DE-4D19-8FF9-736E2AC9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6F62-1F88-4373-AEA2-AE21D9692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.wmf"/><Relationship Id="rId3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36.wmf"/><Relationship Id="rId8" Type="http://schemas.openxmlformats.org/officeDocument/2006/relationships/image" Target="../media/image34.wmf"/><Relationship Id="rId9" Type="http://schemas.openxmlformats.org/officeDocument/2006/relationships/image" Target="../media/image38.wmf"/><Relationship Id="rId10" Type="http://schemas.openxmlformats.org/officeDocument/2006/relationships/image" Target="../media/image35.wmf"/><Relationship Id="rId11" Type="http://schemas.openxmlformats.org/officeDocument/2006/relationships/image" Target="../media/image41.wmf"/><Relationship Id="rId12" Type="http://schemas.openxmlformats.org/officeDocument/2006/relationships/image" Target="../media/image42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2738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тригонометрических урав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424836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Уравнение содержит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тангенсы и котанген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195640" y="1916280"/>
          <a:ext cx="4752720" cy="83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16280"/>
                    <a:ext cx="4752720" cy="83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50920" y="1125360"/>
          <a:ext cx="525780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125360"/>
                    <a:ext cx="525780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156360" y="1341360"/>
          <a:ext cx="165744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6360" y="1341360"/>
                    <a:ext cx="16574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50920" y="3068640"/>
          <a:ext cx="5400720" cy="80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3068640"/>
                    <a:ext cx="540072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084720" y="2997360"/>
          <a:ext cx="2519640" cy="93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84720" y="2997360"/>
                    <a:ext cx="251964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39640" y="3789360"/>
          <a:ext cx="4751640" cy="129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9640" y="3789360"/>
                    <a:ext cx="4751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227640" y="4076640"/>
          <a:ext cx="1729080" cy="647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27640" y="4076640"/>
                    <a:ext cx="17290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843280" y="5157720"/>
          <a:ext cx="4033800" cy="1224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43280" y="5157720"/>
                    <a:ext cx="40338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"/>
          <p:cNvSpPr/>
          <p:nvPr/>
        </p:nvSpPr>
        <p:spPr>
          <a:xfrm>
            <a:off x="324000" y="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Методы ре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тригонометрических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Указать метод решения урав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76520" y="1341360"/>
          <a:ext cx="550368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41360"/>
                    <a:ext cx="550368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63640" y="2205000"/>
            <a:ext cx="417672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n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,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[1;-1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284720" y="2421000"/>
          <a:ext cx="35712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421000"/>
                    <a:ext cx="3571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332000" y="3224160"/>
          <a:ext cx="6119640" cy="337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24160"/>
                    <a:ext cx="6119640" cy="33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Object 2"/>
          <p:cNvGraphicFramePr/>
          <p:nvPr/>
        </p:nvGraphicFramePr>
        <p:xfrm>
          <a:off x="776160" y="1341360"/>
          <a:ext cx="781380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1341360"/>
                    <a:ext cx="78138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Box 3"/>
          <p:cNvSpPr/>
          <p:nvPr/>
        </p:nvSpPr>
        <p:spPr>
          <a:xfrm>
            <a:off x="324000" y="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Методы ре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тригонометрических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Указать метод решения урав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133720"/>
            <a:ext cx="874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ородное уравнение второй степени, делим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²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8280" y="2637000"/>
          <a:ext cx="6932880" cy="40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280" y="2637000"/>
                    <a:ext cx="693288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2679840" y="1197000"/>
          <a:ext cx="3700440" cy="6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9840" y="1197000"/>
                    <a:ext cx="370044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Box 3"/>
          <p:cNvSpPr/>
          <p:nvPr/>
        </p:nvSpPr>
        <p:spPr>
          <a:xfrm>
            <a:off x="324000" y="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Методы ре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тригонометрических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Указать метод решения урав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19162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ородное уравнение первой степени, делим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8360" y="2637000"/>
          <a:ext cx="4390920" cy="25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637000"/>
                    <a:ext cx="439092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2"/>
          <p:cNvGraphicFramePr/>
          <p:nvPr/>
        </p:nvGraphicFramePr>
        <p:xfrm>
          <a:off x="1859040" y="1219320"/>
          <a:ext cx="545940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9040" y="1219320"/>
                    <a:ext cx="54594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Box 13"/>
          <p:cNvSpPr/>
          <p:nvPr/>
        </p:nvSpPr>
        <p:spPr>
          <a:xfrm>
            <a:off x="324000" y="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Методы ре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тригонометрических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Указать метод решения урав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989000"/>
            <a:ext cx="871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авнение содержащие синус и косинус, заменяе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²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²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50920" y="2616120"/>
          <a:ext cx="4249800" cy="110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616120"/>
                    <a:ext cx="424980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24000" y="3789360"/>
          <a:ext cx="4319280" cy="28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3789360"/>
                    <a:ext cx="43192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Формула нахождения корней уравнения 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                          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sin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50920" y="1557360"/>
          <a:ext cx="691344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57360"/>
                    <a:ext cx="69134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79280" y="2421000"/>
            <a:ext cx="896472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Формула нахождения корней уравнения 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                              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s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68360" y="3789360"/>
          <a:ext cx="69120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3789360"/>
                    <a:ext cx="69120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79280" y="4508640"/>
            <a:ext cx="87854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Формула нахождения корней уравнения  ви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                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tg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5661000"/>
          <a:ext cx="5472000" cy="66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5661000"/>
                    <a:ext cx="54720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ешите уравн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284720" y="2421000"/>
          <a:ext cx="403236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21000"/>
                    <a:ext cx="40323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284720" y="3573360"/>
          <a:ext cx="410364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573360"/>
                    <a:ext cx="41036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1052640"/>
          <a:ext cx="2160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1052640"/>
                    <a:ext cx="2160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284720" y="1268280"/>
          <a:ext cx="403236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4720" y="1268280"/>
                    <a:ext cx="40323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68360" y="2133720"/>
          <a:ext cx="2232000" cy="115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60" y="2133720"/>
                    <a:ext cx="22320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68360" y="3357720"/>
          <a:ext cx="2158920" cy="10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8360" y="3357720"/>
                    <a:ext cx="21589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95280" y="4581360"/>
          <a:ext cx="2160720" cy="64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280" y="4581360"/>
                    <a:ext cx="216072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284720" y="4581360"/>
          <a:ext cx="4174920" cy="863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84720" y="4581360"/>
                    <a:ext cx="41749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95280" y="5516640"/>
          <a:ext cx="2016000" cy="1008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5280" y="5516640"/>
                    <a:ext cx="2016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56000" y="5734080"/>
          <a:ext cx="4032360" cy="79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356000" y="5734080"/>
                    <a:ext cx="40323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Тригонометрические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835280" y="1125360"/>
            <a:ext cx="1224000" cy="13669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565360"/>
            <a:ext cx="4032360" cy="129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Уравнение содержит т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инусы или косин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 синусы и косинус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1125360"/>
            <a:ext cx="0" cy="3024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2000" y="4221000"/>
            <a:ext cx="3887640" cy="986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Однородные урав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1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197000"/>
            <a:ext cx="0" cy="4103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5373720"/>
            <a:ext cx="338472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Однородные урав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2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2997360"/>
            <a:ext cx="3492360" cy="158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Уравнение содерж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ангенсы и котангенсы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1197000"/>
            <a:ext cx="0" cy="1440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равнение содержит только  </a:t>
            </a:r>
            <a:br>
              <a:rPr sz="2800"/>
            </a:b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инусы или косинусы</a:t>
            </a:r>
            <a:br>
              <a:rPr sz="2800"/>
            </a:b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( синусы и косинусы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24000" y="1557360"/>
          <a:ext cx="511164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57360"/>
                    <a:ext cx="51116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24000" y="2470320"/>
          <a:ext cx="518472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470320"/>
                    <a:ext cx="51847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227640" y="1806480"/>
          <a:ext cx="194472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27640" y="1806480"/>
                    <a:ext cx="19447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300720" y="2565360"/>
          <a:ext cx="187164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2565360"/>
                    <a:ext cx="18716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908000" y="3429000"/>
          <a:ext cx="5112000" cy="115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8000" y="3429000"/>
                    <a:ext cx="51120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равнение содержит только  </a:t>
            </a:r>
            <a:br>
              <a:rPr sz="2800"/>
            </a:b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инусы или косинусы</a:t>
            </a:r>
            <a:br>
              <a:rPr sz="2800"/>
            </a:b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( синусы и косинусы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04000" y="1916280"/>
          <a:ext cx="180036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1916280"/>
                    <a:ext cx="180036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6948360" y="2924280"/>
          <a:ext cx="1800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2924280"/>
                    <a:ext cx="1800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8360" y="1700280"/>
            <a:ext cx="648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1280" y="1916280"/>
          <a:ext cx="504720" cy="57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1916280"/>
                    <a:ext cx="5047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771640" y="1844640"/>
          <a:ext cx="96372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1844640"/>
                    <a:ext cx="9637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522680" y="1844640"/>
          <a:ext cx="187488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22680" y="1844640"/>
                    <a:ext cx="1874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603600" y="1963800"/>
          <a:ext cx="100188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03600" y="1963800"/>
                    <a:ext cx="1001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403280" y="1773360"/>
          <a:ext cx="1368360" cy="647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3280" y="1773360"/>
                    <a:ext cx="13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971640" y="1844640"/>
          <a:ext cx="1871640" cy="720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71640" y="1844640"/>
                    <a:ext cx="18716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11280" y="3068640"/>
          <a:ext cx="468360" cy="584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1280" y="3068640"/>
                    <a:ext cx="4683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771640" y="3068640"/>
          <a:ext cx="1008360" cy="576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71640" y="3068640"/>
                    <a:ext cx="100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716360" y="2997360"/>
          <a:ext cx="1656000" cy="62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716360" y="2997360"/>
                    <a:ext cx="165600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258920" y="2997360"/>
          <a:ext cx="1297080" cy="596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258920" y="2997360"/>
                    <a:ext cx="1297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708360" y="3068640"/>
          <a:ext cx="1008000" cy="515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08360" y="3068640"/>
                    <a:ext cx="10080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042920" y="2997360"/>
          <a:ext cx="1944720" cy="7207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042920" y="2997360"/>
                    <a:ext cx="1944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547640" y="4294080"/>
          <a:ext cx="6480360" cy="1440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547640" y="4294080"/>
                    <a:ext cx="648036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76360" y="3333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Однородные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844640"/>
            <a:ext cx="828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50920" y="1484280"/>
                <a:ext cx="87138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/>
                    </m:sSup>
                    <m:sSub>
                      <m:e>
                        <m:r>
                          <m:t xml:space="preserve">x</m:t>
                        </m:r>
                      </m:e>
                      <m:sub/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39640" y="2205000"/>
            <a:ext cx="820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doni MT"/>
              </a:rPr>
              <a:t>Сумма показателей степеней при </a:t>
            </a:r>
            <a:r>
              <a:rPr b="0" i="1" lang="en-US" sz="3200" spc="-1" strike="noStrike">
                <a:solidFill>
                  <a:srgbClr val="000000"/>
                </a:solidFill>
                <a:latin typeface="Bodoni MT"/>
              </a:rPr>
              <a:t>sin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Bodoni MT"/>
              </a:rPr>
              <a:t>x </a:t>
            </a:r>
            <a:r>
              <a:rPr b="0" i="1" lang="ru-RU" sz="3200" spc="-1" strike="noStrike">
                <a:solidFill>
                  <a:srgbClr val="000000"/>
                </a:solidFill>
                <a:latin typeface="Bodoni MT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Bodoni MT"/>
              </a:rPr>
              <a:t>cos 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doni MT"/>
              </a:rPr>
              <a:t>у всех слагаемых такого уравнения равна </a:t>
            </a:r>
            <a:r>
              <a:rPr b="0" i="1" lang="en-US" sz="3200" spc="-1" strike="noStrike">
                <a:solidFill>
                  <a:srgbClr val="000000"/>
                </a:solidFill>
                <a:latin typeface="Bodoni MT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357336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doni MT"/>
              </a:rPr>
              <a:t>Разделим 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5084640"/>
            <a:ext cx="388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987640" y="3500280"/>
                <a:ext cx="1300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4643280" y="357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doni MT"/>
              </a:rPr>
              <a:t>Получ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971640" y="4292640"/>
                <a:ext cx="6624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/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/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556000" y="54936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Bodoni MT"/>
              </a:rPr>
              <a:t>первой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177336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cc"/>
                </a:solidFill>
                <a:latin typeface="Bodoni MT"/>
              </a:rPr>
              <a:t>a       +b        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1454040" cy="774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1309680" cy="774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443640" y="170028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|:cos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627280" y="1773360"/>
            <a:ext cx="1235160" cy="776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50920" y="285264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tg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443400" y="2747880"/>
          <a:ext cx="698400" cy="1001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43400" y="2747880"/>
                    <a:ext cx="69840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2124000" y="3789360"/>
            <a:ext cx="59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=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arctg</a:t>
            </a:r>
            <a:r>
              <a:rPr b="0" lang="en-US" sz="6000" spc="-1" strike="noStrike">
                <a:solidFill>
                  <a:srgbClr val="000000"/>
                </a:solidFill>
                <a:latin typeface="Bodoni MT"/>
              </a:rPr>
              <a:t>(    )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+</a:t>
            </a:r>
            <a:r>
              <a:rPr b="0" lang="el-GR" sz="6000" spc="-1" strike="noStrike">
                <a:solidFill>
                  <a:srgbClr val="000000"/>
                </a:solidFill>
                <a:latin typeface="Bodoni MT"/>
              </a:rPr>
              <a:t>π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k, k</a:t>
            </a:r>
            <a:r>
              <a:rPr b="0" lang="en-US" sz="6000" spc="-1" strike="noStrike">
                <a:solidFill>
                  <a:srgbClr val="000000"/>
                </a:solidFill>
                <a:latin typeface="Bodoni MT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Z </a:t>
            </a:r>
            <a:r>
              <a:rPr b="0" lang="en-US" sz="6000" spc="-1" strike="noStrike">
                <a:solidFill>
                  <a:srgbClr val="000000"/>
                </a:solidFill>
                <a:latin typeface="Bodoni MT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211640" y="3789360"/>
                <a:ext cx="8888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7020000" y="4221000"/>
                <a:ext cx="380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042920" y="333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Bodoni MT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484360" y="47628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Bodoni MT"/>
              </a:rPr>
              <a:t>второй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1268280"/>
            <a:ext cx="72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cc"/>
                </a:solidFill>
                <a:latin typeface="Bodoni MT"/>
              </a:rPr>
              <a:t>a         +b                +c         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1525680" cy="776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1454400" cy="77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492360" y="1268280"/>
            <a:ext cx="1309680" cy="774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292720" y="1268280"/>
            <a:ext cx="1668600" cy="774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236000" y="126828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7475400" y="1268280"/>
            <a:ext cx="1668600" cy="774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539640" y="1268280"/>
            <a:ext cx="1163880" cy="774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2556000" y="1268280"/>
            <a:ext cx="1234800" cy="77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2340000" y="3213000"/>
            <a:ext cx="1454040" cy="774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50920" y="321300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cc"/>
                </a:solidFill>
                <a:latin typeface="Bodoni MT"/>
              </a:rPr>
              <a:t>a        +</a:t>
            </a:r>
            <a:r>
              <a:rPr b="0" i="1" lang="en-US" sz="4400" spc="-1" strike="noStrike">
                <a:solidFill>
                  <a:srgbClr val="6600cc"/>
                </a:solidFill>
                <a:latin typeface="Bodoni MT"/>
              </a:rPr>
              <a:t>b                </a:t>
            </a:r>
            <a:r>
              <a:rPr b="1" i="1" lang="en-US" sz="4400" spc="-1" strike="noStrike">
                <a:solidFill>
                  <a:srgbClr val="6600cc"/>
                </a:solidFill>
                <a:latin typeface="Bodoni MT"/>
              </a:rPr>
              <a:t>+c                     =0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539640" y="3213000"/>
            <a:ext cx="1525680" cy="776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3348000" y="3213000"/>
            <a:ext cx="1309680" cy="774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5148360" y="3213000"/>
            <a:ext cx="658800" cy="777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2"/>
          <a:stretch/>
        </p:blipFill>
        <p:spPr>
          <a:xfrm>
            <a:off x="5076720" y="3213000"/>
            <a:ext cx="325296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4:55:00Z</dcterms:created>
  <dc:creator>Света</dc:creator>
  <dc:description/>
  <dc:language>en-US</dc:language>
  <cp:lastModifiedBy>Света</cp:lastModifiedBy>
  <dcterms:modified xsi:type="dcterms:W3CDTF">2012-11-21T15:07:00Z</dcterms:modified>
  <cp:revision>4</cp:revision>
  <dc:subject/>
  <dc:title>Решение тригонометрических уравнений</dc:title>
</cp:coreProperties>
</file>