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13.wmf" ContentType="image/x-wmf"/>
  <Override PartName="/ppt/media/image23.gif" ContentType="image/gif"/>
  <Override PartName="/ppt/media/image22.wmf" ContentType="image/x-wmf"/>
  <Override PartName="/ppt/media/image21.png" ContentType="image/png"/>
  <Override PartName="/ppt/media/image26.jpeg" ContentType="image/jpeg"/>
  <Override PartName="/ppt/media/image20.wmf" ContentType="image/x-wmf"/>
  <Override PartName="/ppt/media/image18.wmf" ContentType="image/x-wmf"/>
  <Override PartName="/ppt/media/image36.jpeg" ContentType="image/jpeg"/>
  <Override PartName="/ppt/media/image17.wmf" ContentType="image/x-wmf"/>
  <Override PartName="/ppt/media/image16.wmf" ContentType="image/x-wmf"/>
  <Override PartName="/ppt/media/image24.jpeg" ContentType="image/jpeg"/>
  <Override PartName="/ppt/media/image15.png" ContentType="image/png"/>
  <Override PartName="/ppt/media/image14.wmf" ContentType="image/x-wmf"/>
  <Override PartName="/ppt/media/image10.jpeg" ContentType="image/jpeg"/>
  <Override PartName="/ppt/media/image5.png" ContentType="image/png"/>
  <Override PartName="/ppt/media/image35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34.jpeg" ContentType="image/jpeg"/>
  <Override PartName="/ppt/media/image40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43.gif" ContentType="image/gif"/>
  <Override PartName="/ppt/media/image6.wmf" ContentType="image/x-wmf"/>
  <Override PartName="/ppt/media/image9.jpeg" ContentType="image/jpeg"/>
  <Override PartName="/ppt/media/image2.gif" ContentType="image/gif"/>
  <Override PartName="/ppt/media/image19.jpeg" ContentType="image/jpeg"/>
  <Override PartName="/ppt/media/image42.jpeg" ContentType="image/jpeg"/>
  <Override PartName="/ppt/media/image25.jpeg" ContentType="image/jpeg"/>
  <Override PartName="/ppt/media/image32.png" ContentType="image/png"/>
  <Override PartName="/ppt/media/image29.jpeg" ContentType="image/jpeg"/>
  <Override PartName="/ppt/media/image3.wmf" ContentType="image/x-wmf"/>
  <Override PartName="/ppt/media/image11.jpeg" ContentType="image/jpeg"/>
  <Override PartName="/ppt/media/image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ED53-187B-4A6D-9D89-A397C7F1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DA01-8346-45FA-8748-95C0BF3B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961E-AC16-4436-8DE9-531F697F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3EDC-257C-49D6-91CA-28F5E2300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88BE-3A5E-4CA0-A6ED-495E5EFC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ECF2-521A-4983-8268-9581427F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4A6F-FEB9-4C44-B79F-995D6E1F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55E7-B569-43A6-B570-DA8BE3CB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B31D-AB66-4335-8F89-324FC541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C367-EA50-4596-A8C9-E02E927A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E533-EC8A-4AB2-AB98-3267FC0F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A7DD-1B6A-4FD2-8994-09B706F4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53CF-0CC6-436D-915F-E19796971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3.wmf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0.wmf"/><Relationship Id="rId9" Type="http://schemas.openxmlformats.org/officeDocument/2006/relationships/image" Target="../media/image20.wmf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77080" y="4005360"/>
            <a:ext cx="1871640" cy="2232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0920" y="4005360"/>
            <a:ext cx="1965240" cy="2232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268360" y="333360"/>
            <a:ext cx="4824720" cy="3716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84360" y="1267920"/>
            <a:ext cx="4392720" cy="10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25 ноябр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835280" y="260280"/>
            <a:ext cx="5689440" cy="640872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050920" y="274680"/>
            <a:ext cx="4826160" cy="632304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468360" y="260280"/>
          <a:ext cx="8229600" cy="6264000"/>
        </p:xfrm>
        <a:graphic>
          <a:graphicData uri="http://schemas.openxmlformats.org/drawingml/2006/table">
            <a:tbl>
              <a:tblPr/>
              <a:tblGrid>
                <a:gridCol w="1176120"/>
                <a:gridCol w="1175040"/>
                <a:gridCol w="1176120"/>
                <a:gridCol w="1174680"/>
                <a:gridCol w="1176480"/>
                <a:gridCol w="1174680"/>
                <a:gridCol w="117648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3889440" cy="4896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05" name=""/>
          <p:cNvSpPr txBox="1"/>
          <p:nvPr/>
        </p:nvSpPr>
        <p:spPr>
          <a:xfrm>
            <a:off x="755640" y="476280"/>
            <a:ext cx="792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авила посадки при письме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68360" y="260280"/>
          <a:ext cx="8229600" cy="6264000"/>
        </p:xfrm>
        <a:graphic>
          <a:graphicData uri="http://schemas.openxmlformats.org/drawingml/2006/table">
            <a:tbl>
              <a:tblPr/>
              <a:tblGrid>
                <a:gridCol w="1176120"/>
                <a:gridCol w="1175040"/>
                <a:gridCol w="1176120"/>
                <a:gridCol w="1174680"/>
                <a:gridCol w="1176480"/>
                <a:gridCol w="1174680"/>
                <a:gridCol w="117648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468360" y="260280"/>
          <a:ext cx="8229600" cy="6264000"/>
        </p:xfrm>
        <a:graphic>
          <a:graphicData uri="http://schemas.openxmlformats.org/drawingml/2006/table">
            <a:tbl>
              <a:tblPr/>
              <a:tblGrid>
                <a:gridCol w="1176120"/>
                <a:gridCol w="1175040"/>
                <a:gridCol w="1176120"/>
                <a:gridCol w="1174680"/>
                <a:gridCol w="1176480"/>
                <a:gridCol w="1174680"/>
                <a:gridCol w="117648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3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468360" y="260280"/>
          <a:ext cx="8229600" cy="6264000"/>
        </p:xfrm>
        <a:graphic>
          <a:graphicData uri="http://schemas.openxmlformats.org/drawingml/2006/table">
            <a:tbl>
              <a:tblPr/>
              <a:tblGrid>
                <a:gridCol w="1176120"/>
                <a:gridCol w="1175040"/>
                <a:gridCol w="1176120"/>
                <a:gridCol w="1174680"/>
                <a:gridCol w="1176480"/>
                <a:gridCol w="1174680"/>
                <a:gridCol w="117648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3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4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6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468360" y="260280"/>
          <a:ext cx="8229600" cy="6264000"/>
        </p:xfrm>
        <a:graphic>
          <a:graphicData uri="http://schemas.openxmlformats.org/drawingml/2006/table">
            <a:tbl>
              <a:tblPr/>
              <a:tblGrid>
                <a:gridCol w="1176120"/>
                <a:gridCol w="1175040"/>
                <a:gridCol w="1176120"/>
                <a:gridCol w="1174680"/>
                <a:gridCol w="1176480"/>
                <a:gridCol w="1174680"/>
                <a:gridCol w="117648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3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4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6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7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9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468360" y="260280"/>
          <a:ext cx="8229600" cy="6264000"/>
        </p:xfrm>
        <a:graphic>
          <a:graphicData uri="http://schemas.openxmlformats.org/drawingml/2006/table">
            <a:tbl>
              <a:tblPr/>
              <a:tblGrid>
                <a:gridCol w="1176120"/>
                <a:gridCol w="1175040"/>
                <a:gridCol w="1176120"/>
                <a:gridCol w="1174680"/>
                <a:gridCol w="1176480"/>
                <a:gridCol w="1174680"/>
                <a:gridCol w="117648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3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4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6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7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9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2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4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 rot="1167600">
            <a:off x="6281280" y="766800"/>
            <a:ext cx="2098800" cy="196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Ф</a:t>
            </a:r>
            <a:endParaRPr b="1" lang="en-US" sz="9600" spc="1" strike="noStrike">
              <a:ln w="9360">
                <a:solidFill>
                  <a:srgbClr val="99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635280" y="2997360"/>
            <a:ext cx="16574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И</a:t>
            </a:r>
            <a:endParaRPr b="1" lang="en-US" sz="9600" spc="1" strike="noStrike">
              <a:ln w="9360">
                <a:solidFill>
                  <a:srgbClr val="99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7" name=""/>
          <p:cNvSpPr txBox="1"/>
          <p:nvPr/>
        </p:nvSpPr>
        <p:spPr>
          <a:xfrm rot="20518800">
            <a:off x="685440" y="1227240"/>
            <a:ext cx="1463760" cy="17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Р</a:t>
            </a:r>
            <a:endParaRPr b="1" lang="en-US" sz="9600" spc="1" strike="noStrike">
              <a:ln w="9360">
                <a:solidFill>
                  <a:srgbClr val="99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8" name=""/>
          <p:cNvSpPr txBox="1"/>
          <p:nvPr/>
        </p:nvSpPr>
        <p:spPr>
          <a:xfrm rot="20454000">
            <a:off x="1191960" y="4230720"/>
            <a:ext cx="1441440" cy="174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</a:t>
            </a:r>
            <a:endParaRPr b="1" lang="en-US" sz="9600" spc="1" strike="noStrike">
              <a:ln w="9360">
                <a:solidFill>
                  <a:srgbClr val="99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9" name=""/>
          <p:cNvSpPr txBox="1"/>
          <p:nvPr/>
        </p:nvSpPr>
        <p:spPr>
          <a:xfrm rot="1492800">
            <a:off x="6210000" y="3712680"/>
            <a:ext cx="1976400" cy="207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А</a:t>
            </a:r>
            <a:endParaRPr b="1" lang="en-US" sz="9600" spc="1" strike="noStrike">
              <a:ln w="9360">
                <a:solidFill>
                  <a:srgbClr val="99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305160" y="406440"/>
            <a:ext cx="1698480" cy="17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А</a:t>
            </a:r>
            <a:endParaRPr b="1" lang="en-US" sz="9600" spc="1" strike="noStrike">
              <a:ln w="9360">
                <a:solidFill>
                  <a:srgbClr val="99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468360" y="260280"/>
          <a:ext cx="8229600" cy="6264000"/>
        </p:xfrm>
        <a:graphic>
          <a:graphicData uri="http://schemas.openxmlformats.org/drawingml/2006/table">
            <a:tbl>
              <a:tblPr/>
              <a:tblGrid>
                <a:gridCol w="1176120"/>
                <a:gridCol w="1175040"/>
                <a:gridCol w="1176120"/>
                <a:gridCol w="1174680"/>
                <a:gridCol w="1176480"/>
                <a:gridCol w="1174680"/>
                <a:gridCol w="117648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3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4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6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7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9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2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4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6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5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8</a:t>
                      </a:r>
                      <a:endParaRPr b="0" lang="en-US" sz="7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36000" cy="614376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424720" cy="633744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5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280360" cy="5832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115" name=""/>
          <p:cNvSpPr txBox="1"/>
          <p:nvPr/>
        </p:nvSpPr>
        <p:spPr>
          <a:xfrm>
            <a:off x="5651640" y="3645000"/>
            <a:ext cx="2087280" cy="24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?</a:t>
            </a:r>
            <a:endParaRPr b="1" lang="en-US" sz="96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97800" cy="630864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5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025800" cy="252108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19640" y="4437000"/>
            <a:ext cx="2447640" cy="22320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975280" y="1773360"/>
            <a:ext cx="2917800" cy="2592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120" name=""/>
          <p:cNvSpPr txBox="1"/>
          <p:nvPr/>
        </p:nvSpPr>
        <p:spPr>
          <a:xfrm>
            <a:off x="826920" y="333360"/>
            <a:ext cx="7848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Русские богатыри</a:t>
            </a:r>
            <a:endParaRPr b="1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626160" cy="12099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627280" y="5084640"/>
            <a:ext cx="2276640" cy="136872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916360" y="2205000"/>
            <a:ext cx="3095640" cy="187164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324000" y="2997360"/>
            <a:ext cx="1944360" cy="34560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7164360" y="2924280"/>
            <a:ext cx="1728720" cy="360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5580000" y="4292640"/>
            <a:ext cx="1297080" cy="22320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332000" y="907920"/>
            <a:ext cx="6335640" cy="14472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5013360"/>
            <a:ext cx="72252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67640" y="3141720"/>
            <a:ext cx="0" cy="64764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258560" y="3141720"/>
            <a:ext cx="73080" cy="309564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6235560"/>
            <a:ext cx="1584360" cy="180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87640" y="3068640"/>
            <a:ext cx="273672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76720" y="1125360"/>
            <a:ext cx="2590560" cy="3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аховая сажень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64000" y="2421000"/>
            <a:ext cx="1800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ршин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 rot="5400000">
            <a:off x="910080" y="4137840"/>
            <a:ext cx="2016000" cy="309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локоть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 rot="5400000">
            <a:off x="7452000" y="4077360"/>
            <a:ext cx="2303280" cy="43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вершок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635280" y="5157720"/>
            <a:ext cx="1224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ядь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796000" y="4365720"/>
            <a:ext cx="9367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адонь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2852640"/>
            <a:ext cx="5148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Да игрушечку-конь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Ростом толь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В три верш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На спине с двумя горб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Да с аршинными ушам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3579840" cy="467352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141" name=""/>
          <p:cNvSpPr txBox="1"/>
          <p:nvPr/>
        </p:nvSpPr>
        <p:spPr>
          <a:xfrm>
            <a:off x="611280" y="260280"/>
            <a:ext cx="8137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П.П. Ершов "Конёк-горбунок"</a:t>
            </a:r>
            <a:endParaRPr b="1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53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604872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280360" cy="5832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144" name=""/>
          <p:cNvSpPr txBox="1"/>
          <p:nvPr/>
        </p:nvSpPr>
        <p:spPr>
          <a:xfrm>
            <a:off x="5651640" y="3645000"/>
            <a:ext cx="2087280" cy="24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?</a:t>
            </a:r>
            <a:endParaRPr b="1" lang="en-US" sz="96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95280" y="1413000"/>
            <a:ext cx="164952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А</a:t>
            </a:r>
            <a:endParaRPr b="1" lang="en-US" sz="9600" spc="1" strike="noStrike">
              <a:ln w="9360">
                <a:solidFill>
                  <a:srgbClr val="99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451640" y="2276640"/>
            <a:ext cx="14414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А</a:t>
            </a:r>
            <a:endParaRPr b="1" lang="en-US" sz="9600" spc="1" strike="noStrike">
              <a:ln w="9360">
                <a:solidFill>
                  <a:srgbClr val="99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084720" y="2276640"/>
            <a:ext cx="1224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</a:t>
            </a:r>
            <a:endParaRPr b="1" lang="en-US" sz="9600" spc="1" strike="noStrike">
              <a:ln w="9360">
                <a:solidFill>
                  <a:srgbClr val="99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979640" y="2276640"/>
            <a:ext cx="15350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Ф</a:t>
            </a:r>
            <a:endParaRPr b="1" lang="en-US" sz="9600" spc="1" strike="noStrike">
              <a:ln w="9360">
                <a:solidFill>
                  <a:srgbClr val="99000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3280" y="2276640"/>
            <a:ext cx="12970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И</a:t>
            </a:r>
            <a:endParaRPr b="1" lang="en-US" sz="9600" spc="1" strike="noStrike">
              <a:ln w="9360">
                <a:solidFill>
                  <a:srgbClr val="99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19640" y="2276640"/>
            <a:ext cx="1152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Р</a:t>
            </a:r>
            <a:endParaRPr b="1" lang="en-US" sz="9600" spc="1" strike="noStrike">
              <a:ln w="9360">
                <a:solidFill>
                  <a:srgbClr val="99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7993080" cy="504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050920" y="274680"/>
            <a:ext cx="4826160" cy="632304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987280" y="189000"/>
            <a:ext cx="360036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верш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лит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локо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клет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сажен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грамм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987280" y="189000"/>
            <a:ext cx="360036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верш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лит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локо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клет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сажен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грамм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Georgia"/>
              </a:rPr>
              <a:t>МОЛОДЦЫ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484360" y="2708280"/>
            <a:ext cx="388800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559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012000" y="320760"/>
            <a:ext cx="2765160" cy="1984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79280" y="4437000"/>
            <a:ext cx="3197160" cy="1984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5940360" y="4292640"/>
            <a:ext cx="3203640" cy="2565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250920" y="260280"/>
            <a:ext cx="288108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132000" y="2349360"/>
            <a:ext cx="2880000" cy="211788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897280" cy="21114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79280" y="4581360"/>
            <a:ext cx="2897280" cy="21114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012000" y="189000"/>
            <a:ext cx="2896920" cy="21114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6084720" y="4581360"/>
            <a:ext cx="2897280" cy="21114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9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1708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 flipH="1">
            <a:off x="6443640" y="4653000"/>
            <a:ext cx="1463760" cy="1359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484360" y="1484280"/>
            <a:ext cx="3313080" cy="3868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476360" y="2492280"/>
            <a:ext cx="2376360" cy="2986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1116000" y="3716280"/>
            <a:ext cx="1289160" cy="1762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179280" y="4005360"/>
            <a:ext cx="1506600" cy="1690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 flipH="1">
            <a:off x="5435640" y="4869000"/>
            <a:ext cx="1463760" cy="1358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 flipH="1">
            <a:off x="6300720" y="5157720"/>
            <a:ext cx="1944720" cy="1503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6659640" y="404640"/>
            <a:ext cx="16192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40338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284720" y="4221000"/>
            <a:ext cx="3733920" cy="2373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4427640" y="981000"/>
            <a:ext cx="3651120" cy="2664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7327800" y="3573360"/>
            <a:ext cx="1816200" cy="1505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7327800" y="189000"/>
            <a:ext cx="1816200" cy="1504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332000" y="836640"/>
            <a:ext cx="2160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148360" y="4653000"/>
            <a:ext cx="1512720" cy="1881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227640" y="5076720"/>
            <a:ext cx="1692360" cy="1781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300720" y="1484280"/>
            <a:ext cx="1258920" cy="1657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6804000" y="2924280"/>
            <a:ext cx="1295280" cy="1512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7236000" y="4076640"/>
            <a:ext cx="1692000" cy="1368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 flipH="1">
            <a:off x="2195640" y="4149720"/>
            <a:ext cx="1566720" cy="1781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 flipH="1">
            <a:off x="1331640" y="4941720"/>
            <a:ext cx="1692360" cy="1916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9"/>
          <a:stretch/>
        </p:blipFill>
        <p:spPr>
          <a:xfrm flipH="1">
            <a:off x="3203640" y="4653000"/>
            <a:ext cx="1566720" cy="1781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0"/>
          <a:stretch/>
        </p:blipFill>
        <p:spPr>
          <a:xfrm flipH="1">
            <a:off x="-360" y="4581360"/>
            <a:ext cx="1763640" cy="1781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971640" y="260280"/>
            <a:ext cx="16192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4672080" cy="3826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 flipH="1">
            <a:off x="4788000" y="2637000"/>
            <a:ext cx="1846080" cy="1358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39640" y="3789360"/>
            <a:ext cx="1825560" cy="1359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195640" y="2205000"/>
            <a:ext cx="1825560" cy="1359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6659640" y="4797360"/>
            <a:ext cx="2259000" cy="1719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 flipH="1">
            <a:off x="3059280" y="3860640"/>
            <a:ext cx="1846080" cy="1359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6372360" y="404640"/>
            <a:ext cx="16192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6:12:51Z</dcterms:created>
  <dc:creator>ОЛЬГА</dc:creator>
  <dc:description/>
  <dc:language>en-US</dc:language>
  <cp:lastModifiedBy>ОЛЬГА</cp:lastModifiedBy>
  <dcterms:modified xsi:type="dcterms:W3CDTF">2009-11-23T14:06:43Z</dcterms:modified>
  <cp:revision>12</cp:revision>
  <dc:subject/>
  <dc:title>25 ноября.</dc:title>
</cp:coreProperties>
</file>