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CAB-49DB-4BB6-80B9-B8960BC11A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519B-4431-448C-82E8-86E992C28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47511-83C5-494E-9AC0-EEC973237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E939D-415A-41D4-A629-0A1BFF060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35E60-D1DD-4130-9EBF-41E49AF26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EB90B-38C4-45C2-9D3E-9ED6FD4C7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7B7E-1A04-403E-806F-EFF31BB51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99DC-4662-4AC0-96F0-8E3129B0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124B8-7A95-4636-A121-A45295572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D4894-2940-49BA-954B-7B46F85B2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68B7-3A7C-4A43-AD11-C069651B0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AD611-3D4B-42F8-B0F2-E1794DA3D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8B38D-477E-4A60-A513-C4166087F9A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260280"/>
            <a:ext cx="7772400" cy="316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3300"/>
                </a:solidFill>
                <a:latin typeface="Arial"/>
              </a:rPr>
              <a:t>Поверхностное натяжение жидкости. Поверхностная энергия. Коэффициент поверхностного натяжения.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«Выйти сухим из воды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с ликоподие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11280" y="274320"/>
            <a:ext cx="8075520" cy="85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Энергия поверхностного слоя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3739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скольку молекулы поверхностного слоя жидкости втягиваются внутрь жидкости, их потенциальная энергия больше, чем у молекул внутри жидкости, так как потенциальная энергия – это энергия взаимодействия. Эту дополнительную потенциальную энергию молекул поверхностного слоя называют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свободной энергией, так как за ее счет  может быть произведена работа, связанная с уменьшением свободной поверхности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тобы вывести молекулы, находящиеся внутри жидкости, на поверхность, нужно преодолеть противодействие молекулярных сил, то есть произвести работу, необходимую для увеличения свободной поверхности поверхностного слоя жидкост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484280"/>
            <a:ext cx="8362800" cy="464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и этом изменение свободной энергии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рямо пропорционально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изменению площади свободной поверхности жидкости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=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Е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п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    =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     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  <a:ea typeface="Arial"/>
              </a:rPr>
              <a:t>А  =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l-GR" sz="20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Но эта работа должна зависеть от рода жидкости и от температур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  <a:ea typeface="Arial"/>
              </a:rPr>
              <a:t>Такую зависимость и выражает коэффициен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5" name="Object 8"/>
              <p:cNvSpPr txBox="1"/>
              <p:nvPr/>
            </p:nvSpPr>
            <p:spPr>
              <a:xfrm>
                <a:off x="2411280" y="2565360"/>
                <a:ext cx="42876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12"/>
              <p:cNvSpPr txBox="1"/>
              <p:nvPr/>
            </p:nvSpPr>
            <p:spPr>
              <a:xfrm>
                <a:off x="2124000" y="3933720"/>
                <a:ext cx="408240" cy="374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15"/>
              <p:cNvSpPr txBox="1"/>
              <p:nvPr/>
            </p:nvSpPr>
            <p:spPr>
              <a:xfrm>
                <a:off x="6156360" y="4581360"/>
                <a:ext cx="436680" cy="40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539640" y="907920"/>
            <a:ext cx="8136000" cy="5175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еличина      , характеризующая зависимость работы молекулярных сил при изменении площади свободной поверхности  от рода жидкости и температуры, называется</a:t>
            </a:r>
            <a:r>
              <a:rPr b="0" lang="ru-RU" sz="3600" spc="-1" strike="noStrike">
                <a:solidFill>
                  <a:srgbClr val="ff3300"/>
                </a:solidFill>
                <a:latin typeface="Arial"/>
              </a:rPr>
              <a:t> коэффициентом поверхностного натяжения.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4"/>
              <p:cNvSpPr txBox="1"/>
              <p:nvPr/>
            </p:nvSpPr>
            <p:spPr>
              <a:xfrm>
                <a:off x="3203640" y="954000"/>
                <a:ext cx="57636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539640" y="1484280"/>
            <a:ext cx="8136000" cy="345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Коэффициент поверхностного натяжения измеряется работой молекулярных сил при уменьшении площади свободной поверхности жидкости на единиц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1" name="Object 4"/>
              <p:cNvSpPr txBox="1"/>
              <p:nvPr/>
            </p:nvSpPr>
            <p:spPr>
              <a:xfrm>
                <a:off x="3419640" y="3789360"/>
                <a:ext cx="1815840" cy="14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A</m:t>
                        </m:r>
                      </m:num>
                      <m:den>
                        <m:r>
                          <m:t xml:space="preserve">ΔS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456840" y="1484280"/>
            <a:ext cx="84358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Единицы измер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истема СИ: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3" name="Object 4"/>
              <p:cNvSpPr txBox="1"/>
              <p:nvPr/>
            </p:nvSpPr>
            <p:spPr>
              <a:xfrm>
                <a:off x="3564000" y="2133720"/>
                <a:ext cx="2530440" cy="14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σ</m:t>
                        </m:r>
                      </m:e>
                    </m:d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Дж</m:t>
                        </m:r>
                      </m:num>
                      <m:den>
                        <m:r>
                          <m:t xml:space="preserve">1</m:t>
                        </m:r>
                        <m:r>
                          <m:t xml:space="preserve">м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468360" y="1557000"/>
            <a:ext cx="842472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Физический смыс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 единицу        принимается такой коэффициент поверхностного натяжения, при котором молекулярные силы совершают  работу в 1 Дж, уменьшая площадь свободной поверхности на 1 м</a:t>
            </a:r>
            <a:r>
              <a:rPr b="0" lang="ru-RU" sz="28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4"/>
              <p:cNvSpPr txBox="1"/>
              <p:nvPr/>
            </p:nvSpPr>
            <p:spPr>
              <a:xfrm>
                <a:off x="2843280" y="1989000"/>
                <a:ext cx="684000" cy="627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50560" y="549000"/>
            <a:ext cx="8435880" cy="557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ак как всякая система стремится к минимуму потенциальной энергии, то жидкость  должна самопроизвольно переходить в такое состояние, при котором площадь ее поверхности имеет минимальную величин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то можно продемонстрировать на опыт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Сила </a:t>
            </a:r>
            <a:r>
              <a:rPr b="0" lang="en-US" sz="3200" spc="-1" strike="noStrike">
                <a:solidFill>
                  <a:srgbClr val="ff3300"/>
                </a:solidFill>
                <a:latin typeface="Arial"/>
              </a:rPr>
              <a:t>F</a:t>
            </a:r>
            <a:r>
              <a:rPr b="0" lang="ru-RU" sz="3200" spc="-1" strike="noStrike" baseline="-25000">
                <a:solidFill>
                  <a:srgbClr val="ff3300"/>
                </a:solidFill>
                <a:latin typeface="Arial"/>
              </a:rPr>
              <a:t>пн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, действующая вдоль поверхности жидкости, перпендикулярно к линии, ограничивающей поверхность, и направленная в сторону ее сокращения, называется силой поверхностного натя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В-6(динамометр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3300"/>
                </a:solidFill>
                <a:latin typeface="Arial"/>
              </a:rPr>
              <a:t>Молекулы на поверхности жидк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50560" y="1125000"/>
            <a:ext cx="843588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олекулы на поверхности жидкости находятся в других условиях, чем молекулы внутри жидкости. На каждую молекулу внутри жидкости действуют силы притяжения со стороны соседних молекул, окружающих ее со всех сторон. Результирующая этих сил равна нул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Над поверхностью жидкости находится пар, плотность которого во много раз меньше плотности жидкости, и взаимодействием молекул жидкости с паром можно пренебречь. Молекулы, находящиеся на поверхности, притягиваются только молекулами, лежащими ниже. Поэтому 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равнодействующая сил притяжения, действующих на молекулы поверхностного слоя не равна нулю. Под действием этих сил молекулы поверхностного слоя  втягиваются внутрь, число молекул поверхностного слоя уменьшается и площадь поверхности жидкости уменьшается. Но все молекулы разумеется не могут уйти  внутр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Толщина поверхностного слоя порядка 10</a:t>
            </a:r>
            <a:r>
              <a:rPr b="0" lang="ru-RU" sz="20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етр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4" descr="3-5-3"/>
          <p:cNvPicPr/>
          <p:nvPr/>
        </p:nvPicPr>
        <p:blipFill>
          <a:blip r:embed="rId1"/>
          <a:stretch/>
        </p:blipFill>
        <p:spPr>
          <a:xfrm>
            <a:off x="1979640" y="1666800"/>
            <a:ext cx="4897440" cy="466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/>
          </p:nvPr>
        </p:nvSpPr>
        <p:spPr>
          <a:xfrm>
            <a:off x="395280" y="404280"/>
            <a:ext cx="835344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бота, совершаемая силой поверхностного натяжения при перемещении поперечины из положения 1 в положение 2 на расстояние </a:t>
            </a:r>
            <a:r>
              <a:rPr b="0" lang="el-GR" sz="2800" spc="-1" strike="noStrike">
                <a:solidFill>
                  <a:srgbClr val="000000"/>
                </a:solidFill>
                <a:latin typeface="Arial"/>
                <a:ea typeface="Arial"/>
              </a:rPr>
              <a:t>Δ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х=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, выражается формулой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С другой стороны работа равна произведению силы на перемещение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Object 4"/>
              <p:cNvSpPr txBox="1"/>
              <p:nvPr/>
            </p:nvSpPr>
            <p:spPr>
              <a:xfrm>
                <a:off x="6012000" y="1652760"/>
                <a:ext cx="1655640" cy="527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А</m:t>
                    </m:r>
                    <m:r>
                      <m:t xml:space="preserve">=</m:t>
                    </m:r>
                    <m:r>
                      <m:t xml:space="preserve">σΔ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10"/>
              <p:cNvSpPr txBox="1"/>
              <p:nvPr/>
            </p:nvSpPr>
            <p:spPr>
              <a:xfrm>
                <a:off x="755640" y="3718080"/>
                <a:ext cx="396396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α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/>
          </p:nvPr>
        </p:nvSpPr>
        <p:spPr>
          <a:xfrm>
            <a:off x="457200" y="1197000"/>
            <a:ext cx="829152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ак как у пленки две линии соприкосновения с поперечиной, то в нашем случае будет две сил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окращение площади свободной поверхности жидкости при перемещении поперечин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Object 4"/>
              <p:cNvSpPr txBox="1"/>
              <p:nvPr/>
            </p:nvSpPr>
            <p:spPr>
              <a:xfrm>
                <a:off x="3059280" y="2133720"/>
                <a:ext cx="1584000" cy="50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F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5" name="Object 10"/>
              <p:cNvSpPr txBox="1"/>
              <p:nvPr/>
            </p:nvSpPr>
            <p:spPr>
              <a:xfrm>
                <a:off x="3203640" y="3500280"/>
                <a:ext cx="1984320" cy="603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ΔS</m:t>
                    </m:r>
                    <m:r>
                      <m:t xml:space="preserve">=</m:t>
                    </m:r>
                    <m:r>
                      <m:t xml:space="preserve">2</m:t>
                    </m:r>
                    <m:r>
                      <m:rPr>
                        <m:lit/>
                        <m:nor/>
                      </m:rPr>
                      <m:t xml:space="preserve">hl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Коэффициент поверхностного натяжения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численно равен силе поверхностного натяжения, действующей на единицу длины границы свободной поверхности жидк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250560" y="404280"/>
            <a:ext cx="8435880" cy="572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пыт показывает, что коэффициент поверхностного натяжения зависит о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войств жидкости,   температуры жидкости и от среды над жидкость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и увеличении температуры уменьшается коэффициент поверхностного натяж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Объясните почему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/>
          </p:nvPr>
        </p:nvSpPr>
        <p:spPr>
          <a:xfrm>
            <a:off x="324000" y="189000"/>
            <a:ext cx="8362800" cy="59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624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м выше температура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жидкости, тем больше расстояние между молекулами, то есть меньше сила взаимодействия между ними, следовате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/>
          </p:nvPr>
        </p:nvSpPr>
        <p:spPr>
          <a:xfrm>
            <a:off x="250560" y="333000"/>
            <a:ext cx="8435880" cy="579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Домашнее задание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новый материал по конспекту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ъяснить опыт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«Умная спич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В-7(спичка-мыло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restart="whenNotActive" nodeType="interactiveSeq" fill="hold">
                <p:stCondLst>
                  <p:cond evt="onClick">
                    <p:tgtEl>
                      <p:spTgt spid="81"/>
                    </p:tgtEl>
                  </p:cond>
                </p:stCondLst>
                <p:childTnLst>
                  <p:par>
                    <p:cTn id="33" nodeType="clickEffect" fill="hold">
                      <p:stCondLst>
                        <p:cond evt="onClick">
                          <p:tgtEl>
                            <p:spTgt spid="81"/>
                          </p:tgtEl>
                        </p:cond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" dur="1" fill="hold"/>
                                        <p:tgtEl>
                                          <p:spTgt spid="8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В-8(спичка-сахар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39" nodeType="clickEffect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323640" y="259920"/>
            <a:ext cx="8373960" cy="589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поверхности остается такое число молекул, при котором площадь поверхности оказывается минимальной при данном объеме жидкости.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Поэтому жидкости  под действием молекулярных сил принимают сферическую форму, при которой площадь поверхности минимальн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В-2(Бритва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5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45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В-3(Пленка-1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46"/>
                    </p:tgtEl>
                  </p:cond>
                </p:stCondLst>
                <p:childTnLst>
                  <p:par>
                    <p:cTn id="9" nodeType="clickEffect" fill="hold">
                      <p:stCondLst>
                        <p:cond evt="onClick">
                          <p:tgtEl>
                            <p:spTgt spid="46"/>
                          </p:tgtEl>
                        </p:cond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В-4(Пленка-2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47"/>
                    </p:tgtEl>
                  </p:cond>
                </p:stCondLst>
                <p:childTnLst>
                  <p:par>
                    <p:cTn id="15" nodeType="clickEffect" fill="hold">
                      <p:stCondLst>
                        <p:cond evt="onClick">
                          <p:tgtEl>
                            <p:spTgt spid="47"/>
                          </p:tgtEl>
                        </p:cond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В-5(Пленка-3).avi" descr=""/>
          <p:cNvPicPr/>
          <p:nvPr/>
        </p:nvPicPr>
        <p:blipFill>
          <a:blip r:embed="rId1"/>
          <a:stretch/>
        </p:blipFill>
        <p:spPr>
          <a:xfrm>
            <a:off x="1523880" y="914400"/>
            <a:ext cx="609624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48"/>
                    </p:tgtEl>
                  </p:cond>
                </p:stCondLst>
                <p:childTnLst>
                  <p:par>
                    <p:cTn id="21" nodeType="clickEffect" fill="hold">
                      <p:stCondLst>
                        <p:cond evt="onClick">
                          <p:tgtEl>
                            <p:spTgt spid="48"/>
                          </p:tgtEl>
                        </p:cond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природе мы очень часто встречаемся с проявлением сил поверхностного натяж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 воде бегают водомер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листьях утром роса в виде шариков во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пли дождя при свободном паден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ыльный пузырь всегда имеет форму шар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 кране висит капля в виде шарик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24000" y="260280"/>
            <a:ext cx="8362800" cy="586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3200" spc="-1" strike="noStrike">
                <a:solidFill>
                  <a:srgbClr val="ff3300"/>
                </a:solidFill>
                <a:latin typeface="Arial"/>
              </a:rPr>
              <a:t>Вопрос учащимс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ольше количество воды не имеет форму шара, а растекается по поверхност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чему больше количество воды льется из крана струей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2T18:06:15Z</dcterms:created>
  <dc:creator>S</dc:creator>
  <dc:description/>
  <dc:language>en-US</dc:language>
  <cp:lastModifiedBy>1</cp:lastModifiedBy>
  <dcterms:modified xsi:type="dcterms:W3CDTF">2012-11-24T12:21:43Z</dcterms:modified>
  <cp:revision>13</cp:revision>
  <dc:subject/>
  <dc:title>Поверхностное натяжение жидкости. Поверхностная энергия. Коэффициент поверхностного натяжения. </dc:title>
</cp:coreProperties>
</file>