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A4EA-6AD0-4880-903B-C6FDEE23B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9D30-4EEF-472B-9AAA-82290EEB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9273-7369-4F66-9435-CD00F5EE5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0D6E-F825-4CBC-A103-75DEAB216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E1B4-03B9-4F9F-8336-EA4D2C63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AFE-A4C9-4E78-A831-62722CE4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E275-F7DA-4A88-80FB-C2627BE33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817E-E852-4535-9470-DF513A1B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3AE4-839D-4CD8-9A5A-00C021B35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04CC-6D95-484E-8116-4C1CD3A7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10BC-C44D-4655-B101-05FDF12E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6F00-3813-4366-B9B7-9744A8641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A3F1B-48D4-4FB7-A690-A47FB96717E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оверхностное натяжение жидкости. Поверхностная энергия. Коэффициент поверхностного натяж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ыйти сухим из в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 с ликопод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Энергия поверхностного слоя жид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73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молекулы поверхностного слоя жидкости втягиваются внутрь жидкости, их потенциальная энергия больше, чем у молекул внутри жидкости, так как потенциальная энергия – это энергия взаимодействия. Эту дополнительную потенциальную энергию молекул поверхностного слоя называют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вободной энергией, так как за ее счет  может быть произведена работа, связанная с уменьшением свободной поверхности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вывести молекулы, находящиеся внутри жидкости, на поверхность, нужно преодолеть противодействие молекулярных сил, то есть произвести работу, необходимую для увеличения свободной поверхности поверхностного слоя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изменение свободной энерги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 пропор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ю площади свободной поверхности жидк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Но эта работа должна зависеть от рода жидкости и от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Такую зависимость и выражает коэффици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2411280" y="2565360"/>
                <a:ext cx="428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2124000" y="3933720"/>
                <a:ext cx="4082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5"/>
              <p:cNvSpPr txBox="1"/>
              <p:nvPr/>
            </p:nvSpPr>
            <p:spPr>
              <a:xfrm>
                <a:off x="6156360" y="4581360"/>
                <a:ext cx="4366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1360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личина      , характеризующая зависимость работы молекулярных сил при изменении площади свободной поверхности  от рода жидкости и температуры, называется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коэффициентом поверхностного натя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203640" y="954000"/>
                <a:ext cx="576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136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поверхностного натяжения измеряется работой молекулярных сил при уменьшении площади свободной поверхности жидкости на един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419640" y="3789360"/>
                <a:ext cx="18158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Δ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484280"/>
            <a:ext cx="8435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цы изме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СИ: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3564000" y="2133720"/>
                <a:ext cx="2530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изический смыс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единицу        принимается такой коэффициент поверхностного натяжения, при котором молекулярные силы совершают  работу в 1 Дж, уменьшая площадь свободной поверхности на 1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2843280" y="1989000"/>
                <a:ext cx="684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 всякая система стремится к минимуму потенциальной энергии, то жидкость  должна самопроизвольно переходить в такое состояние, при котором площадь ее поверхности имеет минималь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можно продемонстрировать на опы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ила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Arial"/>
              </a:rPr>
              <a:t>пн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 действующая вдоль поверхности жидкости, перпендикулярно к линии, ограничивающей поверхность, и направленная в сторону ее сокращения, называется силой поверхностного натя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В-6(динамометр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олекулы на поверхности жид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екулы на поверхности жидкости находятся в других условиях, чем молекулы внутри жидкости. На каждую молекулу внутри жидкости действуют силы притяжения со стороны соседних молекул, окружающих ее со всех сторон. Результирующая этих сил равна ну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поверхностью жидкости находится пар, плотность которого во много раз меньше плотности жидкости, и взаимодействием молекул жидкости с паром можно пренебречь. Молекулы, находящиеся на поверхности, притягиваются только молекулами, лежащими ниже. Поэтому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равнодействующая сил притяжения, действующих на молекулы поверхностного слоя не равна нулю. Под действием этих сил молекулы поверхностного слоя  втягиваются внутрь, число молекул поверхностного слоя уменьшается и площадь поверхности жидкости уменьшается. Но все молекулы разумеется не могут уйти  внут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щина поверхностного слоя порядка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3-5-3"/>
          <p:cNvPicPr/>
          <p:nvPr/>
        </p:nvPicPr>
        <p:blipFill>
          <a:blip r:embed="rId1"/>
          <a:stretch/>
        </p:blipFill>
        <p:spPr>
          <a:xfrm>
            <a:off x="1979640" y="1666800"/>
            <a:ext cx="48974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, совершаемая силой поверхностного натяжения при перемещении поперечины из положения 1 в положение 2 на расстояние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выражается формул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другой стороны работа равна произведению силы на перемещ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6012000" y="1652760"/>
                <a:ext cx="1655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σΔ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755640" y="3718080"/>
                <a:ext cx="3963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h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у пленки две линии соприкосновения с поперечиной, то в нашем случае будет две си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площади свободной поверхности жидкости при перемещении попере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059280" y="2133720"/>
                <a:ext cx="158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F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0"/>
              <p:cNvSpPr txBox="1"/>
              <p:nvPr/>
            </p:nvSpPr>
            <p:spPr>
              <a:xfrm>
                <a:off x="3203640" y="3500280"/>
                <a:ext cx="1984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Коэффициент поверхностного натя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енно равен силе поверхностного натяжения, действующей на единицу длины границы свободной поверхности жид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 показывает, что коэффициент поверхностного натяжения зависит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 жидкости,   температуры жидкости и от среды над жид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величении температуры уменьшается коэффициент поверхностного натя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бъясните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выше темп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дкости, тем больше расстояние между молекулами, то есть меньше сила взаимодействия между ними, следов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новый материал по конспек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ить опыт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Умная спи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В-7(спичка-мыло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В-8(спичка-сахар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оверхности остается такое число молекул, при котором площадь поверхности оказывается минимальной при данном объеме жидкости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оэтому жидкости  под действием молекулярных сил принимают сферическую форму, при которой площадь поверхности минима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В-2(Бритва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В-3(Пленка-1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В-4(Пленка-2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В-5(Пленка-3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мы очень часто встречаемся с проявлением сил поверхностного нат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де бегают водом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истьях утром роса в виде шариков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ли дождя при свободном па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льный пузырь всегда имеет форму ш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ране висит капля в виде шар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опрос учащ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больше количество воды не имеет форму шара, а растекается по поверх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больше количество воды льется из крана стру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8:06:15Z</dcterms:created>
  <dc:creator>S</dc:creator>
  <dc:description/>
  <dc:language>en-US</dc:language>
  <cp:lastModifiedBy>1</cp:lastModifiedBy>
  <dcterms:modified xsi:type="dcterms:W3CDTF">2012-11-24T12:21:43Z</dcterms:modified>
  <cp:revision>13</cp:revision>
  <dc:subject/>
  <dc:title>Поверхностное натяжение жидкости. Поверхностная энергия. Коэффициент поверхностного натяжения. </dc:title>
</cp:coreProperties>
</file>