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8A7-9CC8-4FB0-BDAF-5F0A3055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137-9508-4072-A62D-6BFA7D06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CA7-F687-4094-9BCF-E6036A41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C87-269C-40F3-A390-6F89448D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1C4A-767E-4F69-9730-C4B546E6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AB85-3471-4A7C-81B0-0B04C821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404F-4047-415C-BEA7-6E835373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7FC5-C649-4757-B979-8A180A9A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7C0-7B4F-4418-A04B-A9A4414D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5896-247C-4C0C-B32E-4E16D7CC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46B4-FC87-4636-BE36-4FB63B4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A67-A758-4699-9DC4-0507D57D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6808-3576-43E4-B3C2-594BACC7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ED59-E8F4-4A31-8E5D-F68A845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E8FF-A86E-43BA-BF27-8D6050A6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22C8-24F7-4BCE-8F10-24711979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3A06-FF54-4020-B58D-543177C5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D57-2348-4EC7-8C92-417FE10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873-618F-49FA-9463-09132516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588-7893-4E14-9204-B99290C6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1A6-7FA3-4C21-B6A4-04B55B05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DAF-8AFE-4F43-BB0E-DE29875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E9F-BC1A-4C74-A9F0-4D6B3F1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C54-0AB2-4909-BF78-6868793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74A-F1AB-4D40-9B70-ED554CD92E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7DE-3006-41A1-94D1-EF02BEA226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15 мая —</a:t>
            </a:r>
            <a:br>
              <a:rPr sz="44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еждународный День семьи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6" name="i-main-pic" descr="Картинка 3 из 4915"/>
          <p:cNvPicPr/>
          <p:nvPr/>
        </p:nvPicPr>
        <p:blipFill>
          <a:blip r:embed="rId1"/>
          <a:stretch/>
        </p:blipFill>
        <p:spPr>
          <a:xfrm>
            <a:off x="2438280" y="2201760"/>
            <a:ext cx="3124440" cy="3292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нтипина В.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Акбулакской СОШ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тношение к детя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237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ей лучше не воспитывать, детей лучше люб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Коря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е детство никогда не кончае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Урб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 Днём семьи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i-main-pic" descr="Картинка 17 из 4915"/>
          <p:cNvPicPr/>
          <p:nvPr/>
        </p:nvPicPr>
        <p:blipFill>
          <a:blip r:embed="rId1"/>
          <a:stretch/>
        </p:blipFill>
        <p:spPr>
          <a:xfrm>
            <a:off x="2897280" y="1600200"/>
            <a:ext cx="54831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емь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ья – группа живу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есте родстве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муж, жена, родители с деть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олковый словар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И. Ожег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-main-pic" descr="Картинка 1 из 4915"/>
          <p:cNvPicPr/>
          <p:nvPr/>
        </p:nvPicPr>
        <p:blipFill>
          <a:blip r:embed="rId1"/>
          <a:stretch/>
        </p:blipFill>
        <p:spPr>
          <a:xfrm>
            <a:off x="5364000" y="2421000"/>
            <a:ext cx="34750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15 мая 1993 год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день семьи (International Family Day) учрежден Генеральной Ассамблеей ООН в 1993 году. Установление этого дня ставит целью обратить внимание общественности разных стран на многочисленные проблемы семьи. По мнению Генерального секретаря ООН, когда попираются основные права одной семьи — единство всей человеческой семьи, членами которой они являются, находится под угро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ья, как основной элемент общества, была и остается хранительницей человеческих ценностей, культуры и исторической преемственности поколений, фактором стабильности и развития. Благодаря семье крепнет и развивается государство, растет благосостояние народа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 времена о развитии страны судили по положению семьи в обществе и по отношению к ней государ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семьи начинается жизнь человека, здесь происходит формирование его как гражданина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мья — источник любви, уважения, солидарности и привязанности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о, на чем строится любое цивилизованное общество, без чего не может существовать человек. Благополучие семьи — вот мерило развития и прогресса стр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емья и дет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02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частлив тот, кто счастлив у себя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. Толс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, в этом мире ты всего лишь человек, но для кого-то ты – весь 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. Марк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оль детей в жизн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09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ти приносят счастье только тем, кто их люб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Подв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гда дети малы, от них болит голова, а когда вырастают – начинает болеть серд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 Ла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лияние родителей на дет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походят больше на своё время, чем на своих от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никогда не слушались своих родителей, но зато всегда исправно им подраж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Болду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заимоотношения родителей и дет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лагодарность самая гнусная, но вместе с тем и самая обыкновенная – это неблагодарность детей к родите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 Де Вовена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8:23:48Z</dcterms:created>
  <dc:creator>Аня</dc:creator>
  <dc:description/>
  <dc:language>en-US</dc:language>
  <cp:lastModifiedBy>Home</cp:lastModifiedBy>
  <dcterms:modified xsi:type="dcterms:W3CDTF">2012-11-26T17:34:16Z</dcterms:modified>
  <cp:revision>6</cp:revision>
  <dc:subject/>
  <dc:title>    </dc:title>
</cp:coreProperties>
</file>