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9.gif" ContentType="image/gif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BBB6-3A2B-4B64-9DFA-3760DF48B8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81EF-46A2-473E-85E7-D16C288EFA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3FCB-ECF5-406C-B1B9-835288B405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D3CD-76C0-44D1-87FD-CEBE8DF147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F879-F9B7-4B56-B466-D18E1F2F6C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7E75-E9D6-4231-AAF8-FA14FC2FE6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38C5-2DD6-4738-9F6B-499B3E6BE7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A056-5102-4F1C-9F7C-05A3B39D098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C2D5-C37E-4820-B684-F287CA5C9E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2CA4-7271-4DE5-B025-19431CDA3C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2B3D-F850-4D35-9D03-7394CCEAF0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65B7-A4AC-416C-8B59-8D9C7DAD63C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8D11-9DF6-4A97-B763-E3E5E47C4D5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6ECF-B185-4F2A-A20C-2510BFE9A7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5E853-C65B-4454-9F29-8B5AC6E59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CF952-CB25-4C12-A9A4-5C099DEB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4E59D-27BF-40E3-AE89-796A90908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4CFE5-2036-4D90-908E-81BBA37A1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793B-0D3B-4B9E-B762-AC414A8A3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6D01-F977-44CC-9AB7-EE8DB31C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441C-600D-4E20-9883-AD17A211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71CA-6E04-48DB-9270-E7F574D1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F711-7E62-46DE-8DAC-46155255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512D-8AF5-4949-9989-71216C97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8E73-7B4C-437E-860B-361E71EF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4C498-2B22-4816-8E4A-992630F4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F000-B7CC-4790-9522-ECFB3E64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1A18-9A5D-4BC6-AD6B-5C5F4029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BB86-1839-4256-BAC2-B0D58549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F3B4-B826-4615-8E39-AF938B7BE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18A7-17FD-40CC-887B-7FD85B6B3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B2454-E7E1-4E02-A3A5-73C94AC7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EC0ED-EF1D-49DB-89B7-527DB5E0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2F9E9-B358-40B4-A3C3-E30B4680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A6F18-3DBE-4834-96F2-D72D917E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4DE48-72A2-403C-99A6-01F0899E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323BA-24D7-48FC-9902-86C87D63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CAA95-FEF5-454A-85C7-6AC6F728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4EAE-7800-466A-AD23-A5E91443CB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876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A511-E300-43AC-8A06-C4997B4AAF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gif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anwb.ru/pub/Pictures-Articles/Articles641-660/660_pi_1.jpg" TargetMode="External"/><Relationship Id="rId2" Type="http://schemas.openxmlformats.org/officeDocument/2006/relationships/hyperlink" Target="http://www.manwb.ru/pub/Pictures-Articles/Articles641-660/660_pi_1.jpg" TargetMode="External"/><Relationship Id="rId3" Type="http://schemas.openxmlformats.org/officeDocument/2006/relationships/hyperlink" Target="http://www.manwb.ru/pub/Pictures-Articles/Articles641-660/660_pi_1.jpg" TargetMode="External"/><Relationship Id="rId4" Type="http://schemas.openxmlformats.org/officeDocument/2006/relationships/hyperlink" Target="http://www.manwb.ru/pub/Pictures-Articles/Articles641-660/660_pi_1.jpg" TargetMode="External"/><Relationship Id="rId5" Type="http://schemas.openxmlformats.org/officeDocument/2006/relationships/hyperlink" Target="http://www.manwb.ru/pub/Pictures-Articles/Articles641-660/660_pi_1.jpg" TargetMode="External"/><Relationship Id="rId6" Type="http://schemas.openxmlformats.org/officeDocument/2006/relationships/hyperlink" Target="http://www.manwb.ru/pub/Pictures-Articles/Articles641-660/660_pi_1.jpg" TargetMode="External"/><Relationship Id="rId7" Type="http://schemas.openxmlformats.org/officeDocument/2006/relationships/hyperlink" Target="http://www.manwb.ru/pub/Pictures-Articles/Articles641-660/660_pi_1.jpg" TargetMode="External"/><Relationship Id="rId8" Type="http://schemas.openxmlformats.org/officeDocument/2006/relationships/hyperlink" Target="http://www.manwb.ru/pub/Pictures-Articles/Articles641-660/660_pi_1.jpg" TargetMode="External"/><Relationship Id="rId9" Type="http://schemas.openxmlformats.org/officeDocument/2006/relationships/hyperlink" Target="http://www.manwb.ru/pub/Pictures-Articles/Articles641-660/660_pi_1.jpg" TargetMode="External"/><Relationship Id="rId10" Type="http://schemas.openxmlformats.org/officeDocument/2006/relationships/hyperlink" Target="http://www.manwb.ru/pub/Pictures-Articles/Articles641-660/660_pi_1.jpg" TargetMode="External"/><Relationship Id="rId11" Type="http://schemas.openxmlformats.org/officeDocument/2006/relationships/hyperlink" Target="http://www.manwb.ru/pub/Pictures-Articles/Articles641-660/660_pi_1.jpg" TargetMode="External"/><Relationship Id="rId12" Type="http://schemas.openxmlformats.org/officeDocument/2006/relationships/hyperlink" Target="http://www.manwb.ru/pub/Pictures-Articles/Articles641-660/660_pi_1.jpg" TargetMode="External"/><Relationship Id="rId13" Type="http://schemas.openxmlformats.org/officeDocument/2006/relationships/hyperlink" Target="http://www.manwb.ru/pub/Pictures-Articles/Articles641-660/660_pi_1.jpg" TargetMode="External"/><Relationship Id="rId14" Type="http://schemas.openxmlformats.org/officeDocument/2006/relationships/hyperlink" Target="http://www.manwb.ru/pub/Pictures-Articles/Articles641-660/660_pi_1.jpg" TargetMode="External"/><Relationship Id="rId15" Type="http://schemas.openxmlformats.org/officeDocument/2006/relationships/hyperlink" Target="http://www.manwb.ru/pub/Pictures-Articles/Articles641-660/660_pi_1.jpg" TargetMode="External"/><Relationship Id="rId16" Type="http://schemas.openxmlformats.org/officeDocument/2006/relationships/hyperlink" Target="http://www.manwb.ru/pub/Pictures-Articles/Articles641-660/660_pi_1.jpg" TargetMode="External"/><Relationship Id="rId17" Type="http://schemas.openxmlformats.org/officeDocument/2006/relationships/hyperlink" Target="http://www.manwb.ru/pub/Pictures-Articles/Articles641-660/660_pi_1.jpg" TargetMode="External"/><Relationship Id="rId18" Type="http://schemas.openxmlformats.org/officeDocument/2006/relationships/image" Target="../media/image2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WordArt 4"/>
          <p:cNvSpPr txBox="1"/>
          <p:nvPr/>
        </p:nvSpPr>
        <p:spPr>
          <a:xfrm>
            <a:off x="1332000" y="1052640"/>
            <a:ext cx="6480000" cy="227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ffcc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агадочное число П</a:t>
            </a:r>
            <a:endParaRPr b="0" lang="en-US" sz="1800" spc="1" strike="noStrike">
              <a:ln w="9360">
                <a:solidFill>
                  <a:srgbClr val="333300"/>
                </a:solidFill>
                <a:miter/>
              </a:ln>
              <a:solidFill>
                <a:srgbClr val="ffcc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22" name="Picture 5" descr="иноен"/>
          <p:cNvPicPr/>
          <p:nvPr/>
        </p:nvPicPr>
        <p:blipFill>
          <a:blip r:embed="rId1"/>
          <a:stretch/>
        </p:blipFill>
        <p:spPr>
          <a:xfrm>
            <a:off x="357120" y="3571920"/>
            <a:ext cx="2928960" cy="2440080"/>
          </a:xfrm>
          <a:prstGeom prst="rect">
            <a:avLst/>
          </a:prstGeom>
          <a:ln w="0">
            <a:noFill/>
          </a:ln>
        </p:spPr>
      </p:pic>
      <p:sp>
        <p:nvSpPr>
          <p:cNvPr id="523" name="TextBox 4"/>
          <p:cNvSpPr/>
          <p:nvPr/>
        </p:nvSpPr>
        <p:spPr>
          <a:xfrm>
            <a:off x="5143680" y="4500720"/>
            <a:ext cx="37144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ыполнил  ученик 7а класса МОУ «СОШ п.Горный Краснопартизанского района Саратовской области»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Бигалиев Дами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Учитель:Тремасова Т.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.Горный 2012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4"/>
          <p:cNvSpPr/>
          <p:nvPr/>
        </p:nvSpPr>
        <p:spPr>
          <a:xfrm>
            <a:off x="627840" y="174600"/>
            <a:ext cx="80233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14159265358979323846264338327950288419716939937510582097494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5923078164062862089986280348253421170679821480865132823066470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3844609550582231725359408128481117450284102701938521105559644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2294895493038196442881097566593344612847564823378678316527120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091456485669234603486104543266482133936072602491412737245870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06606315588174881520920962829254091715364367892590360011330530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4882046652138414695194151160943305727036575959195309218611738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326117931051185480744623799627495673518857527248912279381830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949129833673362440656643086021394946395224737190702179860943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0277053921717629317675238467481846766940513200056812714526356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08277857713427577896091736371787214684409012249534301465495853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1050792279689258923542019956112129021960864034418159813629774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7130996051870721134999999837297804995105973173281609631859502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4594553469083026425223082533446850352619311881710100031378387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2886587533208381420617177669147303598253490428755468731159562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6388235378759375195778185778053217122680661300192787661119590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2164201989380952572010654858632788659361533818279682303019520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5301852968995773622599413891249721775283479131515574857242454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5069595082953311686172785588907509838175463746493931925506040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09277016711390098488240128583616035637076601047101819429555961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89467678374494482553797747268471040475346462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у, вроде без ошибок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4"/>
          <p:cNvSpPr/>
          <p:nvPr/>
        </p:nvSpPr>
        <p:spPr>
          <a:xfrm>
            <a:off x="251640" y="2060640"/>
            <a:ext cx="829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этот день весь мир ест ПИроги и ПИрожены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грает на ПИанино и в ПИн-пон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пропустите - праздник начинается ровно в 1: 59 ночи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5" descr="ICA0B6FBBCANMDQY8CANCFP6HCAJ9JYVNCA6JWAJOCAZQ6NMLCALYUV1RCAMY9A6KCAL3LMFECA9N5D1QCAYZSH8VCAOX5K33CAZCRVM2CA1HV76OCA0P09LLCA4VLYBYCAV5FFSNCAYKTTVBCABHRM0VCABHHR2V"/>
          <p:cNvPicPr/>
          <p:nvPr/>
        </p:nvPicPr>
        <p:blipFill>
          <a:blip r:embed="rId1"/>
          <a:stretch/>
        </p:blipFill>
        <p:spPr>
          <a:xfrm>
            <a:off x="5076720" y="4797360"/>
            <a:ext cx="1747800" cy="17478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6" descr="пе"/>
          <p:cNvPicPr/>
          <p:nvPr/>
        </p:nvPicPr>
        <p:blipFill>
          <a:blip r:embed="rId2"/>
          <a:stretch/>
        </p:blipFill>
        <p:spPr>
          <a:xfrm>
            <a:off x="3059280" y="3716280"/>
            <a:ext cx="1800000" cy="15685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7" descr="пирог"/>
          <p:cNvPicPr/>
          <p:nvPr/>
        </p:nvPicPr>
        <p:blipFill>
          <a:blip r:embed="rId3"/>
          <a:stretch/>
        </p:blipFill>
        <p:spPr>
          <a:xfrm>
            <a:off x="6877080" y="3716280"/>
            <a:ext cx="1987560" cy="13305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9" descr="jimmy_playing_piano"/>
          <p:cNvPicPr/>
          <p:nvPr/>
        </p:nvPicPr>
        <p:blipFill>
          <a:blip r:embed="rId4"/>
          <a:stretch/>
        </p:blipFill>
        <p:spPr>
          <a:xfrm>
            <a:off x="324000" y="4221000"/>
            <a:ext cx="2303280" cy="230364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10"/>
          <p:cNvSpPr/>
          <p:nvPr/>
        </p:nvSpPr>
        <p:spPr>
          <a:xfrm>
            <a:off x="257760" y="476280"/>
            <a:ext cx="686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14 мар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международный день числ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Picture 12" descr="PCAOMXRWUCA69Z300CAGI7JOOCAQ6TF63CAMI74G1CA5HCZQOCAUVRJP7CA2VL63LCAZ92HWNCA40WTU9CA4798YDCAN8Q2YCCAQZHR5JCASVF8GCCA3MV7J2CAVCBUXRCA5XF265CAGPI0T2CAHIMG6ECATVCN75"/>
          <p:cNvPicPr/>
          <p:nvPr/>
        </p:nvPicPr>
        <p:blipFill>
          <a:blip r:embed="rId5"/>
          <a:stretch/>
        </p:blipFill>
        <p:spPr>
          <a:xfrm>
            <a:off x="7093080" y="260280"/>
            <a:ext cx="16524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1"/>
          <p:cNvSpPr/>
          <p:nvPr/>
        </p:nvSpPr>
        <p:spPr>
          <a:xfrm flipV="1" rot="10800000">
            <a:off x="0" y="99576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Электронное издание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"Человек без границ"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ff"/>
                </a:solidFill>
                <a:uFillTx/>
                <a:latin typeface="Calibri"/>
                <a:ea typeface="Calibri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9999ff"/>
                </a:solidFill>
                <a:uFillTx/>
                <a:latin typeface="Calibri"/>
                <a:ea typeface="Calibri"/>
                <a:hlinkClick r:id="rId2"/>
              </a:rPr>
              <a:t>://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Calibri"/>
                <a:ea typeface="Calibri"/>
                <a:hlinkClick r:id="rId3"/>
              </a:rPr>
              <a:t>www</a:t>
            </a:r>
            <a:r>
              <a:rPr b="0" lang="ru-RU" sz="2800" spc="-1" strike="noStrike" u="sng">
                <a:solidFill>
                  <a:srgbClr val="9999ff"/>
                </a:solidFill>
                <a:uFillTx/>
                <a:latin typeface="Calibri"/>
                <a:ea typeface="Calibri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Calibri"/>
                <a:ea typeface="Calibri"/>
                <a:hlinkClick r:id="rId5"/>
              </a:rPr>
              <a:t>manwb</a:t>
            </a:r>
            <a:r>
              <a:rPr b="0" lang="ru-RU" sz="2800" spc="-1" strike="noStrike" u="sng">
                <a:solidFill>
                  <a:srgbClr val="9999ff"/>
                </a:solidFill>
                <a:uFillTx/>
                <a:latin typeface="Calibri"/>
                <a:ea typeface="Calibri"/>
                <a:hlinkClick r:id="rId6"/>
              </a:rPr>
              <a:t>.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Calibri"/>
                <a:ea typeface="Calibri"/>
                <a:hlinkClick r:id="rId7"/>
              </a:rPr>
              <a:t>ru</a:t>
            </a:r>
            <a:r>
              <a:rPr b="0" lang="ru-RU" sz="2800" spc="-1" strike="noStrike" u="sng">
                <a:solidFill>
                  <a:srgbClr val="9999ff"/>
                </a:solidFill>
                <a:uFillTx/>
                <a:latin typeface="Calibri"/>
                <a:ea typeface="Calibri"/>
                <a:hlinkClick r:id="rId8"/>
              </a:rPr>
              <a:t>/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Calibri"/>
                <a:ea typeface="Calibri"/>
                <a:hlinkClick r:id="rId9"/>
              </a:rPr>
              <a:t>pub</a:t>
            </a:r>
            <a:r>
              <a:rPr b="0" lang="ru-RU" sz="2800" spc="-1" strike="noStrike" u="sng">
                <a:solidFill>
                  <a:srgbClr val="9999ff"/>
                </a:solidFill>
                <a:uFillTx/>
                <a:latin typeface="Calibri"/>
                <a:ea typeface="Calibri"/>
                <a:hlinkClick r:id="rId10"/>
              </a:rPr>
              <a:t>/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Calibri"/>
                <a:ea typeface="Calibri"/>
                <a:hlinkClick r:id="rId11"/>
              </a:rPr>
              <a:t>Pictures</a:t>
            </a:r>
            <a:r>
              <a:rPr b="0" lang="ru-RU" sz="2800" spc="-1" strike="noStrike" u="sng">
                <a:solidFill>
                  <a:srgbClr val="9999ff"/>
                </a:solidFill>
                <a:uFillTx/>
                <a:latin typeface="Calibri"/>
                <a:ea typeface="Calibri"/>
                <a:hlinkClick r:id="rId12"/>
              </a:rPr>
              <a:t>-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Calibri"/>
                <a:ea typeface="Calibri"/>
                <a:hlinkClick r:id="rId13"/>
              </a:rPr>
              <a:t>Articles</a:t>
            </a:r>
            <a:r>
              <a:rPr b="0" lang="ru-RU" sz="2800" spc="-1" strike="noStrike" u="sng">
                <a:solidFill>
                  <a:srgbClr val="9999ff"/>
                </a:solidFill>
                <a:uFillTx/>
                <a:latin typeface="Calibri"/>
                <a:ea typeface="Calibri"/>
                <a:hlinkClick r:id="rId14"/>
              </a:rPr>
              <a:t>/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Calibri"/>
                <a:ea typeface="Calibri"/>
                <a:hlinkClick r:id="rId15"/>
              </a:rPr>
              <a:t>Articles</a:t>
            </a:r>
            <a:r>
              <a:rPr b="0" lang="ru-RU" sz="2800" spc="-1" strike="noStrike" u="sng">
                <a:solidFill>
                  <a:srgbClr val="9999ff"/>
                </a:solidFill>
                <a:uFillTx/>
                <a:latin typeface="Calibri"/>
                <a:ea typeface="Calibri"/>
                <a:hlinkClick r:id="rId16"/>
              </a:rPr>
              <a:t>641-660/660_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Calibri"/>
                <a:ea typeface="Calibri"/>
                <a:hlinkClick r:id="rId17"/>
              </a:rPr>
              <a:t>pi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_1.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jp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http://www.rutvet.ru/in-zagadochnoe-chislo-quot-pi-quot-kak-ono-poyavilos-i-dlya-chego-neobhodimo-1879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http://pages.marsu.ru/chla/pi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http://strangefacts.ru/publ/numerologija/tajna_chisla_pi/14-1-0-1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Рисунок 2" descr="null"/>
          <p:cNvPicPr/>
          <p:nvPr/>
        </p:nvPicPr>
        <p:blipFill>
          <a:blip r:embed="rId18"/>
          <a:stretch/>
        </p:blipFill>
        <p:spPr>
          <a:xfrm>
            <a:off x="0" y="5072040"/>
            <a:ext cx="87868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4" descr="обез"/>
          <p:cNvPicPr/>
          <p:nvPr/>
        </p:nvPicPr>
        <p:blipFill>
          <a:blip r:embed="rId1"/>
          <a:stretch/>
        </p:blipFill>
        <p:spPr>
          <a:xfrm>
            <a:off x="1859040" y="196920"/>
            <a:ext cx="542448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4"/>
          <p:cNvSpPr/>
          <p:nvPr/>
        </p:nvSpPr>
        <p:spPr>
          <a:xfrm>
            <a:off x="245880" y="2565360"/>
            <a:ext cx="8725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и, несомненно, одна из наиболее универсаль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фундаментальных констант, известных Человечеств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илу своей универсальности Пи использу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вычислениях для микро- и для и макро-космоса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ходит как и в формулы, описывающие движение коме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тероидов, космических кораблей и других небесных те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астрономии, так и в формулы для вычислен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лектронных орбит в квантовой физике и квантовой хим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6" descr="15"/>
          <p:cNvPicPr/>
          <p:nvPr/>
        </p:nvPicPr>
        <p:blipFill>
          <a:blip r:embed="rId1"/>
          <a:stretch/>
        </p:blipFill>
        <p:spPr>
          <a:xfrm>
            <a:off x="250920" y="260280"/>
            <a:ext cx="249372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4"/>
          <p:cNvSpPr/>
          <p:nvPr/>
        </p:nvSpPr>
        <p:spPr>
          <a:xfrm>
            <a:off x="196560" y="692280"/>
            <a:ext cx="89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 о вычислении отношения длины окружности к свое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аметру, т.е. числа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, занимал лучшие умы человечест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 протяжении тысячелет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826920" y="2565360"/>
            <a:ext cx="47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куда такое название у чис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-1800" y="3500280"/>
            <a:ext cx="8701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cc66"/>
                </a:solidFill>
                <a:latin typeface="Arial"/>
                <a:ea typeface="Arial"/>
              </a:rPr>
              <a:t>π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 –первая буква в греческом слове «периферия»-кру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оказано, что это число не может быть точно выражено 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целым число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и обыкновенной дробью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и конечной десятичной дробью,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.е. 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это иррациональное чис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Picture 8" descr="17"/>
          <p:cNvPicPr/>
          <p:nvPr/>
        </p:nvPicPr>
        <p:blipFill>
          <a:blip r:embed="rId1"/>
          <a:stretch/>
        </p:blipFill>
        <p:spPr>
          <a:xfrm>
            <a:off x="6732720" y="1557360"/>
            <a:ext cx="190008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4"/>
          <p:cNvSpPr/>
          <p:nvPr/>
        </p:nvSpPr>
        <p:spPr>
          <a:xfrm>
            <a:off x="251280" y="907920"/>
            <a:ext cx="664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ое вычисление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было предприня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еличайшим учёным древности 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Архимед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217800" y="2852640"/>
            <a:ext cx="89254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химед, рассматривая вписанные в круг и описанные око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го многоугольники, вывел для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риближённое зна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lang="el-GR" sz="2800" spc="-1" strike="noStrike">
                <a:solidFill>
                  <a:srgbClr val="ffcc66"/>
                </a:solidFill>
                <a:latin typeface="Arial"/>
              </a:rPr>
              <a:t>π</a:t>
            </a: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c66"/>
                </a:solidFill>
                <a:latin typeface="Arial"/>
                <a:ea typeface="Arial"/>
              </a:rPr>
              <a:t>≈ 22 /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8" descr="ECAN6V0Z6CAQ23F3ICA1B46ROCA5UD7Y6CABPIS4SCAYGZXELCAO2QUKFCADOAKSHCAFJPK01CA37VNXXCAFI7DKJCAJO0LPFCA4X6JKGCASMR3VCCA17URM3CAU208E6CAJ59EGBCAENXFRBCA4Q9SVBCAR06IZ0"/>
          <p:cNvPicPr/>
          <p:nvPr/>
        </p:nvPicPr>
        <p:blipFill>
          <a:blip r:embed="rId1"/>
          <a:stretch/>
        </p:blipFill>
        <p:spPr>
          <a:xfrm>
            <a:off x="6877080" y="260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9" descr="LCAQ5LFJYCA8GCIBLCAE9BLQYCA2DJ3HLCA44SRTACABY5W68CAHTOC5KCAGCX4XFCAIOUHVHCAW02IHPCALBZMJGCA05LUDGCAQUXYEJCASTFTW6CAJ5O4EUCAMCZJ7YCACVAGG8CA2JB51RCAJJ8YOUCAMF9SMF"/>
          <p:cNvPicPr/>
          <p:nvPr/>
        </p:nvPicPr>
        <p:blipFill>
          <a:blip r:embed="rId2"/>
          <a:stretch/>
        </p:blipFill>
        <p:spPr>
          <a:xfrm>
            <a:off x="5580000" y="4149720"/>
            <a:ext cx="1752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4"/>
          <p:cNvSpPr/>
          <p:nvPr/>
        </p:nvSpPr>
        <p:spPr>
          <a:xfrm>
            <a:off x="690840" y="907920"/>
            <a:ext cx="7537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учебнике 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Магницког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для закрепления в памя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го выражения приведена рифмованная шут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вадцать две совы скуча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больших сухих сук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вадцать две совы мечта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 семи больших мышах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 мышах довольно юрких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аккуратных серых шкурк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юнки капали с усо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У огромных серых 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5" descr="CCAT3MMDZCA0MZPCGCACDZCYMCA2Z5016CA2V1XVTCANK31HVCA1KEA4CCAE9OGJLCA8BQHB2CA1OG3F0CAINNAA0CAT07PMOCAB6TIB3CA1CJBD4CAM7MRT8CARPVUATCA798KWYCAP525VTCAVTCH7YCAYGNNBM"/>
          <p:cNvPicPr/>
          <p:nvPr/>
        </p:nvPicPr>
        <p:blipFill>
          <a:blip r:embed="rId1"/>
          <a:stretch/>
        </p:blipFill>
        <p:spPr>
          <a:xfrm>
            <a:off x="395280" y="4508640"/>
            <a:ext cx="2370240" cy="19587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6" descr="GCAEU84T3CATTCHG9CAVU39H2CAZHG9GOCAECC9E6CAM6WVG6CA1GMJQHCAR559Q2CA7X0LOZCA47V18BCAX1EXBLCA8J3XQTCA6UX4M4CAAR3UFACACGSMGACA0AC1XRCA299KY1CA286ZU8CADH4DC5CADYTFJZ"/>
          <p:cNvPicPr/>
          <p:nvPr/>
        </p:nvPicPr>
        <p:blipFill>
          <a:blip r:embed="rId2"/>
          <a:stretch/>
        </p:blipFill>
        <p:spPr>
          <a:xfrm>
            <a:off x="7040520" y="1773360"/>
            <a:ext cx="147492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4"/>
          <p:cNvSpPr/>
          <p:nvPr/>
        </p:nvSpPr>
        <p:spPr>
          <a:xfrm>
            <a:off x="-720" y="981000"/>
            <a:ext cx="90853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дует глаз изящное сооружение 5 века до н.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ые три числа последовательности 1,1,3,3,5,5 формиру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менатель, три последних- числи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точность до седьмого десятичного знак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cc66"/>
                </a:solidFill>
                <a:latin typeface="Arial"/>
                <a:ea typeface="Arial"/>
              </a:rPr>
              <a:t>Π</a:t>
            </a:r>
            <a:r>
              <a:rPr b="1" lang="ru-RU" sz="2800" spc="-1" strike="noStrike">
                <a:solidFill>
                  <a:srgbClr val="ffcc66"/>
                </a:solidFill>
                <a:latin typeface="Arial"/>
                <a:ea typeface="Arial"/>
              </a:rPr>
              <a:t> ≈ 355 /11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(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Цю-Шунь-Ш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Picture 6" descr="NCACEED35CAJZ8TB4CA0KW2TQCABEMNG9CAAIBQLYCABVLG9VCA5PD0GOCAB2YV83CAXXGR1WCAK6L8NXCAKSS38WCAG6PT9GCAENQ55NCAZ9EQQQCAFGF1PRCAZ44OHPCAEJZTGMCADJ5AEECAKT4XTGCA1KY3WW"/>
          <p:cNvPicPr/>
          <p:nvPr/>
        </p:nvPicPr>
        <p:blipFill>
          <a:blip r:embed="rId1"/>
          <a:stretch/>
        </p:blipFill>
        <p:spPr>
          <a:xfrm>
            <a:off x="3708360" y="4292640"/>
            <a:ext cx="189720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4"/>
          <p:cNvSpPr/>
          <p:nvPr/>
        </p:nvSpPr>
        <p:spPr>
          <a:xfrm>
            <a:off x="0" y="2349360"/>
            <a:ext cx="80474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424г 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ал-Каш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ашёл для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значен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алеко превосходящее по точности вс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анее известны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ассмотрев вписанный и описанный многоугольники 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800335168 сторонами он получи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cc66"/>
                </a:solidFill>
                <a:latin typeface="Arial"/>
              </a:rPr>
              <a:t>π</a:t>
            </a: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ffcc66"/>
                </a:solidFill>
                <a:latin typeface="Arial"/>
                <a:ea typeface="Arial"/>
              </a:rPr>
              <a:t>≈</a:t>
            </a: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 3,141592655358979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тут 16(!) верных зна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5" descr="6CAQ2LDYYCARF20TYCAPJXOGRCADCMQVBCAQ0SZELCATT90INCAXGX9A9CAFMUJTECALWWNIICAVOCHOACADXYV7FCAKPIO05CAF69W9UCA5HJZK6CAVXQ7GNCAK0Q27KCAZ2WVKHCA6P3364CAI3H41SCAHU2QIV"/>
          <p:cNvPicPr/>
          <p:nvPr/>
        </p:nvPicPr>
        <p:blipFill>
          <a:blip r:embed="rId1"/>
          <a:stretch/>
        </p:blipFill>
        <p:spPr>
          <a:xfrm>
            <a:off x="6948360" y="260280"/>
            <a:ext cx="1890720" cy="24480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6" descr="GCA0EDQ59CAHTK17JCAREY9GOCA6XX5ZBCA4B2I1ACACGM4W2CAU5B76DCAOMA3XKCATEALZTCAAFL63CCAYEN23WCA7GFGQLCA8OA0VBCAJFKE6XCACSDDELCA3KN9WKCAPZTQHTCAIQOND1CA1FLB1ACAMLQEJB"/>
          <p:cNvPicPr/>
          <p:nvPr/>
        </p:nvPicPr>
        <p:blipFill>
          <a:blip r:embed="rId2"/>
          <a:stretch/>
        </p:blipFill>
        <p:spPr>
          <a:xfrm>
            <a:off x="250920" y="5300640"/>
            <a:ext cx="136836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4"/>
          <p:cNvSpPr/>
          <p:nvPr/>
        </p:nvSpPr>
        <p:spPr>
          <a:xfrm>
            <a:off x="250560" y="692280"/>
            <a:ext cx="8110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ьшое терпение и выдержку обнаружил голланд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числитель 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Лудольф ван-Цейле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1540-1610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торый применяя метод Архимед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шёл до многоугольников с 60 * 2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29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торонам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учив 35 верных десятичных знаков для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числения заняли всю его жизн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огласно завещанию Лудольф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 его надгробии было высече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йденное им значение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Picture 5" descr="па"/>
          <p:cNvPicPr/>
          <p:nvPr/>
        </p:nvPicPr>
        <p:blipFill>
          <a:blip r:embed="rId1"/>
          <a:stretch/>
        </p:blipFill>
        <p:spPr>
          <a:xfrm>
            <a:off x="5364000" y="3933720"/>
            <a:ext cx="279900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4"/>
          <p:cNvSpPr/>
          <p:nvPr/>
        </p:nvSpPr>
        <p:spPr>
          <a:xfrm>
            <a:off x="0" y="692280"/>
            <a:ext cx="9315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чиная с конца 17 века для вычисления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рименяются боле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фективные методы высшей математи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Леонард Эйле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ычислил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 точностью д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53 десятичных зна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гличанин 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В. Шенк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1873 году определи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 точностью до 707 десятичных зна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Picture 5" descr="XCAHVNT25CAQX097HCA0V6Q5LCACD9YM7CA0I5Z0XCAFAW9Q6CAQ3RJQ7CAGWELW5CACUUA4UCA111Q9QCA285EHCCAH9SQWSCAHYQTESCABPVTOQCAL2GBCSCAKCA7C7CAI1YKFPCAG4YGA2CADHGDQVCAH0DJ1B"/>
          <p:cNvPicPr/>
          <p:nvPr/>
        </p:nvPicPr>
        <p:blipFill>
          <a:blip r:embed="rId1"/>
          <a:stretch/>
        </p:blipFill>
        <p:spPr>
          <a:xfrm>
            <a:off x="6877080" y="3789360"/>
            <a:ext cx="2022480" cy="287964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6"/>
          <p:cNvSpPr/>
          <p:nvPr/>
        </p:nvSpPr>
        <p:spPr>
          <a:xfrm>
            <a:off x="360" y="1484280"/>
            <a:ext cx="9298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ример, к числу "пи" можно прийти, отыскивая предел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которых рядов. Так,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Г.Лейбниц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(1646-1716) получил в 1674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яд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1-1/3+1/5-1/7+1/9-1/11+... =p/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торый дал возможность вычислить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более коротким путё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жели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рхиме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ё же указанный ряд сходится очень медленно и поэтом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ебует довольно продолжительных расчётов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5:02:53Z</dcterms:created>
  <dc:creator>1</dc:creator>
  <dc:description/>
  <dc:language>en-US</dc:language>
  <cp:lastModifiedBy>Admin</cp:lastModifiedBy>
  <dcterms:modified xsi:type="dcterms:W3CDTF">2012-11-26T16:31:51Z</dcterms:modified>
  <cp:revision>11</cp:revision>
  <dc:subject/>
  <dc:title>Слайд 1</dc:title>
</cp:coreProperties>
</file>