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7D90-17C6-4EF6-9C9B-BFCBCB25E4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C484-D21A-40D5-B622-BA9B6AAF69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904F-7C4E-4F52-96C9-FEC1640D25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EA86-CA18-4167-AD97-0FB83805BF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F15C-9EEA-4FEF-A708-AD957B1255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A122-F919-4D15-AF75-21D04D9CBC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D4D0-07F5-48D9-A64D-2EC4A38FB0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98F6-5E08-4E55-A1EB-8CF994B3D1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4BB9-6A41-4923-8B4B-2683B94509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9DBE-75A8-47D8-8239-9D8C57E710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B5E2-DA75-43ED-B6C5-E30515AB59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385F-9A46-4507-A422-7FC0C2BFBE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580F-C03D-4E66-AFE7-A0D149B6F2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D8A8-1C7B-47A2-988B-306BCBFED9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6AA4-EACF-46A6-AC84-5ED7123A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70EC7-4A46-4AA7-A635-137FA8EE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90CB-0857-4D95-BE38-E9AAD509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50BC-58F3-4E10-BE81-92E126C7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B808-8644-4868-B624-2FF7C36C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4004-53D2-4948-820C-F7FBB62A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AC93-1D8A-4418-A8AA-7C1903C1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8A97-DA30-4775-80F5-3AE5E690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568D-8E2B-401E-AE30-E6008689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7B17-3B6C-4FD8-93E0-6EE99A79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D8BF-BCF4-4436-8B70-CE3F4048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67DB-8307-4571-9989-49E935D1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198A-1351-4CDB-80FB-95F4215F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558B-D30C-48F0-925A-E555AAF7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6CD3-225D-44FA-8175-FCAEBAD6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92BF-4966-4499-9709-45F95121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116E-1707-4137-BE02-62C137B2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D11C-3F18-4B07-95CD-12BB35C8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42BB-3D00-44F7-9F9A-D08EA5CD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6944-6377-4047-A298-14FD5487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1377-6909-47B0-A797-9D8B68BA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83A6-BD5D-4BFE-9F7C-C68F04D4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3AC2-81F7-44C3-83CB-EC8ACD32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84A1-AACD-4285-A00D-7F73597B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A86C-EEC2-469D-A82F-55EB47EF3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E188-6FF7-41BE-BF4D-02CF68E720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anwb.ru/pub/Pictures-Articles/Articles641-660/660_pi_1.jpg" TargetMode="External"/><Relationship Id="rId2" Type="http://schemas.openxmlformats.org/officeDocument/2006/relationships/hyperlink" Target="http://www.manwb.ru/pub/Pictures-Articles/Articles641-660/660_pi_1.jpg" TargetMode="External"/><Relationship Id="rId3" Type="http://schemas.openxmlformats.org/officeDocument/2006/relationships/hyperlink" Target="http://www.manwb.ru/pub/Pictures-Articles/Articles641-660/660_pi_1.jpg" TargetMode="External"/><Relationship Id="rId4" Type="http://schemas.openxmlformats.org/officeDocument/2006/relationships/hyperlink" Target="http://www.manwb.ru/pub/Pictures-Articles/Articles641-660/660_pi_1.jpg" TargetMode="External"/><Relationship Id="rId5" Type="http://schemas.openxmlformats.org/officeDocument/2006/relationships/hyperlink" Target="http://www.manwb.ru/pub/Pictures-Articles/Articles641-660/660_pi_1.jpg" TargetMode="External"/><Relationship Id="rId6" Type="http://schemas.openxmlformats.org/officeDocument/2006/relationships/hyperlink" Target="http://www.manwb.ru/pub/Pictures-Articles/Articles641-660/660_pi_1.jpg" TargetMode="External"/><Relationship Id="rId7" Type="http://schemas.openxmlformats.org/officeDocument/2006/relationships/hyperlink" Target="http://www.manwb.ru/pub/Pictures-Articles/Articles641-660/660_pi_1.jpg" TargetMode="External"/><Relationship Id="rId8" Type="http://schemas.openxmlformats.org/officeDocument/2006/relationships/hyperlink" Target="http://www.manwb.ru/pub/Pictures-Articles/Articles641-660/660_pi_1.jpg" TargetMode="External"/><Relationship Id="rId9" Type="http://schemas.openxmlformats.org/officeDocument/2006/relationships/hyperlink" Target="http://www.manwb.ru/pub/Pictures-Articles/Articles641-660/660_pi_1.jpg" TargetMode="External"/><Relationship Id="rId10" Type="http://schemas.openxmlformats.org/officeDocument/2006/relationships/hyperlink" Target="http://www.manwb.ru/pub/Pictures-Articles/Articles641-660/660_pi_1.jpg" TargetMode="External"/><Relationship Id="rId11" Type="http://schemas.openxmlformats.org/officeDocument/2006/relationships/hyperlink" Target="http://www.manwb.ru/pub/Pictures-Articles/Articles641-660/660_pi_1.jpg" TargetMode="External"/><Relationship Id="rId12" Type="http://schemas.openxmlformats.org/officeDocument/2006/relationships/hyperlink" Target="http://www.manwb.ru/pub/Pictures-Articles/Articles641-660/660_pi_1.jpg" TargetMode="External"/><Relationship Id="rId13" Type="http://schemas.openxmlformats.org/officeDocument/2006/relationships/hyperlink" Target="http://www.manwb.ru/pub/Pictures-Articles/Articles641-660/660_pi_1.jpg" TargetMode="External"/><Relationship Id="rId14" Type="http://schemas.openxmlformats.org/officeDocument/2006/relationships/hyperlink" Target="http://www.manwb.ru/pub/Pictures-Articles/Articles641-660/660_pi_1.jpg" TargetMode="External"/><Relationship Id="rId15" Type="http://schemas.openxmlformats.org/officeDocument/2006/relationships/hyperlink" Target="http://www.manwb.ru/pub/Pictures-Articles/Articles641-660/660_pi_1.jpg" TargetMode="External"/><Relationship Id="rId16" Type="http://schemas.openxmlformats.org/officeDocument/2006/relationships/hyperlink" Target="http://www.manwb.ru/pub/Pictures-Articles/Articles641-660/660_pi_1.jpg" TargetMode="External"/><Relationship Id="rId17" Type="http://schemas.openxmlformats.org/officeDocument/2006/relationships/hyperlink" Target="http://www.manwb.ru/pub/Pictures-Articles/Articles641-660/660_pi_1.jpg" TargetMode="External"/><Relationship Id="rId18" Type="http://schemas.openxmlformats.org/officeDocument/2006/relationships/image" Target="../media/image2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WordArt 4"/>
          <p:cNvSpPr txBox="1"/>
          <p:nvPr/>
        </p:nvSpPr>
        <p:spPr>
          <a:xfrm>
            <a:off x="1332000" y="1052640"/>
            <a:ext cx="6480000" cy="22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гадочное число П</a:t>
            </a:r>
            <a:endParaRPr b="0" lang="en-US" sz="1800" spc="1" strike="noStrike">
              <a:ln w="9360">
                <a:solidFill>
                  <a:srgbClr val="3333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2" name="Picture 5" descr="иноен"/>
          <p:cNvPicPr/>
          <p:nvPr/>
        </p:nvPicPr>
        <p:blipFill>
          <a:blip r:embed="rId1"/>
          <a:stretch/>
        </p:blipFill>
        <p:spPr>
          <a:xfrm>
            <a:off x="357120" y="3571920"/>
            <a:ext cx="2928960" cy="2440080"/>
          </a:xfrm>
          <a:prstGeom prst="rect">
            <a:avLst/>
          </a:prstGeom>
          <a:ln w="0">
            <a:noFill/>
          </a:ln>
        </p:spPr>
      </p:pic>
      <p:sp>
        <p:nvSpPr>
          <p:cNvPr id="523" name="TextBox 4"/>
          <p:cNvSpPr/>
          <p:nvPr/>
        </p:nvSpPr>
        <p:spPr>
          <a:xfrm>
            <a:off x="5143680" y="4500720"/>
            <a:ext cx="37144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ыполнил  ученик 7а класса МОУ «СОШ п.Горный Краснопартизанского района Саратовской области»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Бигалиев Дами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читель:Тремасова Т.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.Горный 2012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4"/>
          <p:cNvSpPr/>
          <p:nvPr/>
        </p:nvSpPr>
        <p:spPr>
          <a:xfrm>
            <a:off x="627840" y="174600"/>
            <a:ext cx="80233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14159265358979323846264338327950288419716939937510582097494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5923078164062862089986280348253421170679821480865132823066470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3844609550582231725359408128481117450284102701938521105559644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2294895493038196442881097566593344612847564823378678316527120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091456485669234603486104543266482133936072602491412737245870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6606315588174881520920962829254091715364367892590360011330530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4882046652138414695194151160943305727036575959195309218611738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326117931051185480744623799627495673518857527248912279381830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949129833673362440656643086021394946395224737190702179860943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0277053921717629317675238467481846766940513200056812714526356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8277857713427577896091736371787214684409012249534301465495853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1050792279689258923542019956112129021960864034418159813629774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7130996051870721134999999837297804995105973173281609631859502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4594553469083026425223082533446850352619311881710100031378387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2886587533208381420617177669147303598253490428755468731159562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6388235378759375195778185778053217122680661300192787661119590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2164201989380952572010654858632788659361533818279682303019520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5301852968995773622599413891249721775283479131515574857242454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069595082953311686172785588907509838175463746493931925506040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9277016711390098488240128583616035637076601047101819429555961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89467678374494482553797747268471040475346462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у, вроде без ошибок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4"/>
          <p:cNvSpPr/>
          <p:nvPr/>
        </p:nvSpPr>
        <p:spPr>
          <a:xfrm>
            <a:off x="251640" y="2060640"/>
            <a:ext cx="829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тот день весь мир ест ПИроги и ПИрожены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грает на ПИанино и в ПИн-пон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пропустите - праздник начинается ровно в 1: 59 ноч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5" descr="ICA0B6FBBCANMDQY8CANCFP6HCAJ9JYVNCA6JWAJOCAZQ6NMLCALYUV1RCAMY9A6KCAL3LMFECA9N5D1QCAYZSH8VCAOX5K33CAZCRVM2CA1HV76OCA0P09LLCA4VLYBYCAV5FFSNCAYKTTVBCABHRM0VCABHHR2V"/>
          <p:cNvPicPr/>
          <p:nvPr/>
        </p:nvPicPr>
        <p:blipFill>
          <a:blip r:embed="rId1"/>
          <a:stretch/>
        </p:blipFill>
        <p:spPr>
          <a:xfrm>
            <a:off x="5076720" y="4797360"/>
            <a:ext cx="1747800" cy="1747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пе"/>
          <p:cNvPicPr/>
          <p:nvPr/>
        </p:nvPicPr>
        <p:blipFill>
          <a:blip r:embed="rId2"/>
          <a:stretch/>
        </p:blipFill>
        <p:spPr>
          <a:xfrm>
            <a:off x="3059280" y="3716280"/>
            <a:ext cx="1800000" cy="15685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7" descr="пирог"/>
          <p:cNvPicPr/>
          <p:nvPr/>
        </p:nvPicPr>
        <p:blipFill>
          <a:blip r:embed="rId3"/>
          <a:stretch/>
        </p:blipFill>
        <p:spPr>
          <a:xfrm>
            <a:off x="6877080" y="3716280"/>
            <a:ext cx="1987560" cy="13305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jimmy_playing_piano"/>
          <p:cNvPicPr/>
          <p:nvPr/>
        </p:nvPicPr>
        <p:blipFill>
          <a:blip r:embed="rId4"/>
          <a:stretch/>
        </p:blipFill>
        <p:spPr>
          <a:xfrm>
            <a:off x="324000" y="4221000"/>
            <a:ext cx="2303280" cy="230364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10"/>
          <p:cNvSpPr/>
          <p:nvPr/>
        </p:nvSpPr>
        <p:spPr>
          <a:xfrm>
            <a:off x="257760" y="476280"/>
            <a:ext cx="68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14 мар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международный день чис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12" descr="PCAOMXRWUCA69Z300CAGI7JOOCAQ6TF63CAMI74G1CA5HCZQOCAUVRJP7CA2VL63LCAZ92HWNCA40WTU9CA4798YDCAN8Q2YCCAQZHR5JCASVF8GCCA3MV7J2CAVCBUXRCA5XF265CAGPI0T2CAHIMG6ECATVCN75"/>
          <p:cNvPicPr/>
          <p:nvPr/>
        </p:nvPicPr>
        <p:blipFill>
          <a:blip r:embed="rId5"/>
          <a:stretch/>
        </p:blipFill>
        <p:spPr>
          <a:xfrm>
            <a:off x="7093080" y="260280"/>
            <a:ext cx="1652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"/>
          <p:cNvSpPr/>
          <p:nvPr/>
        </p:nvSpPr>
        <p:spPr>
          <a:xfrm flipV="1" rot="10800000">
            <a:off x="0" y="99576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Электронное издание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"Человек без границ"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2"/>
              </a:rPr>
              <a:t>://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3"/>
              </a:rPr>
              <a:t>www</a:t>
            </a:r>
            <a:r>
              <a:rPr b="0" lang="ru-RU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5"/>
              </a:rPr>
              <a:t>manwb</a:t>
            </a:r>
            <a:r>
              <a:rPr b="0" lang="ru-RU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6"/>
              </a:rPr>
              <a:t>.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7"/>
              </a:rPr>
              <a:t>ru</a:t>
            </a:r>
            <a:r>
              <a:rPr b="0" lang="ru-RU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8"/>
              </a:rPr>
              <a:t>/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9"/>
              </a:rPr>
              <a:t>pub</a:t>
            </a:r>
            <a:r>
              <a:rPr b="0" lang="ru-RU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10"/>
              </a:rPr>
              <a:t>/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11"/>
              </a:rPr>
              <a:t>Pictures</a:t>
            </a:r>
            <a:r>
              <a:rPr b="0" lang="ru-RU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12"/>
              </a:rPr>
              <a:t>-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13"/>
              </a:rPr>
              <a:t>Articles</a:t>
            </a:r>
            <a:r>
              <a:rPr b="0" lang="ru-RU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14"/>
              </a:rPr>
              <a:t>/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15"/>
              </a:rPr>
              <a:t>Articles</a:t>
            </a:r>
            <a:r>
              <a:rPr b="0" lang="ru-RU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16"/>
              </a:rPr>
              <a:t>641-660/660_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17"/>
              </a:rPr>
              <a:t>pi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_1.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jp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http://www.rutvet.ru/in-zagadochnoe-chislo-quot-pi-quot-kak-ono-poyavilos-i-dlya-chego-neobhodimo-1879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http://pages.marsu.ru/chla/pi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http://strangefacts.ru/publ/numerologija/tajna_chisla_pi/14-1-0-1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Рисунок 2" descr="null"/>
          <p:cNvPicPr/>
          <p:nvPr/>
        </p:nvPicPr>
        <p:blipFill>
          <a:blip r:embed="rId18"/>
          <a:stretch/>
        </p:blipFill>
        <p:spPr>
          <a:xfrm>
            <a:off x="0" y="5072040"/>
            <a:ext cx="8786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4" descr="обез"/>
          <p:cNvPicPr/>
          <p:nvPr/>
        </p:nvPicPr>
        <p:blipFill>
          <a:blip r:embed="rId1"/>
          <a:stretch/>
        </p:blipFill>
        <p:spPr>
          <a:xfrm>
            <a:off x="1859040" y="196920"/>
            <a:ext cx="542448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4"/>
          <p:cNvSpPr/>
          <p:nvPr/>
        </p:nvSpPr>
        <p:spPr>
          <a:xfrm>
            <a:off x="245880" y="2565360"/>
            <a:ext cx="872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, несомненно, одна из наиболее универсаль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фундаментальных констант, известных Человечеств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илу своей универсальности Пи использ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вычислениях для микро- и для и макро-космос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ходит как и в формулы, описывающие движение ком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тероидов, космических кораблей и других небесных т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строномии, так и в формулы для вычислен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ктронных орбит в квантовой физике и квантовой хим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6" descr="15"/>
          <p:cNvPicPr/>
          <p:nvPr/>
        </p:nvPicPr>
        <p:blipFill>
          <a:blip r:embed="rId1"/>
          <a:stretch/>
        </p:blipFill>
        <p:spPr>
          <a:xfrm>
            <a:off x="250920" y="260280"/>
            <a:ext cx="24937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4"/>
          <p:cNvSpPr/>
          <p:nvPr/>
        </p:nvSpPr>
        <p:spPr>
          <a:xfrm>
            <a:off x="196560" y="692280"/>
            <a:ext cx="89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 о вычислении отношения длины окружности к свое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метру, т.е. числа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занимал лучшие умы человече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протяжении тысячеле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826920" y="2565360"/>
            <a:ext cx="47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уда такое название у чис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-1800" y="3500280"/>
            <a:ext cx="870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66"/>
                </a:solidFill>
                <a:latin typeface="Arial"/>
                <a:ea typeface="Arial"/>
              </a:rPr>
              <a:t>π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 –первая буква в греческом слове «периферия»-кр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оказано, что это число не может быть точно выражено 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елым число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и обыкновенной дробь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и конечной десятичной дробью,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.е.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это иррациональное чис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8" descr="17"/>
          <p:cNvPicPr/>
          <p:nvPr/>
        </p:nvPicPr>
        <p:blipFill>
          <a:blip r:embed="rId1"/>
          <a:stretch/>
        </p:blipFill>
        <p:spPr>
          <a:xfrm>
            <a:off x="6732720" y="1557360"/>
            <a:ext cx="19000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251280" y="907920"/>
            <a:ext cx="664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ое вычисление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было предприня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еличайшим учёным древности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Архимед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217800" y="2852640"/>
            <a:ext cx="89254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химед, рассматривая вписанные в круг и описанные око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го многоугольники, вывел для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иближённое зна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el-GR" sz="2800" spc="-1" strike="noStrike">
                <a:solidFill>
                  <a:srgbClr val="ffcc66"/>
                </a:solidFill>
                <a:latin typeface="Arial"/>
              </a:rPr>
              <a:t>π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  <a:ea typeface="Arial"/>
              </a:rPr>
              <a:t>≈ 22 /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8" descr="ECAN6V0Z6CAQ23F3ICA1B46ROCA5UD7Y6CABPIS4SCAYGZXELCAO2QUKFCADOAKSHCAFJPK01CA37VNXXCAFI7DKJCAJO0LPFCA4X6JKGCASMR3VCCA17URM3CAU208E6CAJ59EGBCAENXFRBCA4Q9SVBCAR06IZ0"/>
          <p:cNvPicPr/>
          <p:nvPr/>
        </p:nvPicPr>
        <p:blipFill>
          <a:blip r:embed="rId1"/>
          <a:stretch/>
        </p:blipFill>
        <p:spPr>
          <a:xfrm>
            <a:off x="687708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9" descr="LCAQ5LFJYCA8GCIBLCAE9BLQYCA2DJ3HLCA44SRTACABY5W68CAHTOC5KCAGCX4XFCAIOUHVHCAW02IHPCALBZMJGCA05LUDGCAQUXYEJCASTFTW6CAJ5O4EUCAMCZJ7YCACVAGG8CA2JB51RCAJJ8YOUCAMF9SMF"/>
          <p:cNvPicPr/>
          <p:nvPr/>
        </p:nvPicPr>
        <p:blipFill>
          <a:blip r:embed="rId2"/>
          <a:stretch/>
        </p:blipFill>
        <p:spPr>
          <a:xfrm>
            <a:off x="5580000" y="414972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4"/>
          <p:cNvSpPr/>
          <p:nvPr/>
        </p:nvSpPr>
        <p:spPr>
          <a:xfrm>
            <a:off x="690840" y="907920"/>
            <a:ext cx="753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учебнике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Магницк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ля закрепления в памя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го выражения приведена рифмованная шут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адцать две совы скуч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больших сухих су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адцать две совы мечт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семи больших мыша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мышах довольно юрки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ккуратных серых шкур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юнки капали с ус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 огромных серых 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5" descr="CCAT3MMDZCA0MZPCGCACDZCYMCA2Z5016CA2V1XVTCANK31HVCA1KEA4CCAE9OGJLCA8BQHB2CA1OG3F0CAINNAA0CAT07PMOCAB6TIB3CA1CJBD4CAM7MRT8CARPVUATCA798KWYCAP525VTCAVTCH7YCAYGNNBM"/>
          <p:cNvPicPr/>
          <p:nvPr/>
        </p:nvPicPr>
        <p:blipFill>
          <a:blip r:embed="rId1"/>
          <a:stretch/>
        </p:blipFill>
        <p:spPr>
          <a:xfrm>
            <a:off x="395280" y="4508640"/>
            <a:ext cx="2370240" cy="19587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" descr="GCAEU84T3CATTCHG9CAVU39H2CAZHG9GOCAECC9E6CAM6WVG6CA1GMJQHCAR559Q2CA7X0LOZCA47V18BCAX1EXBLCA8J3XQTCA6UX4M4CAAR3UFACACGSMGACA0AC1XRCA299KY1CA286ZU8CADH4DC5CADYTFJZ"/>
          <p:cNvPicPr/>
          <p:nvPr/>
        </p:nvPicPr>
        <p:blipFill>
          <a:blip r:embed="rId2"/>
          <a:stretch/>
        </p:blipFill>
        <p:spPr>
          <a:xfrm>
            <a:off x="7040520" y="1773360"/>
            <a:ext cx="14749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4"/>
          <p:cNvSpPr/>
          <p:nvPr/>
        </p:nvSpPr>
        <p:spPr>
          <a:xfrm>
            <a:off x="-720" y="981000"/>
            <a:ext cx="90853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дует глаз изящное сооружение 5 века до н.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е три числа последовательности 1,1,3,3,5,5 формиру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менатель, три последних- числи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очность до седьмого десятичного зна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cc66"/>
                </a:solidFill>
                <a:latin typeface="Arial"/>
                <a:ea typeface="Arial"/>
              </a:rPr>
              <a:t>Π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  <a:ea typeface="Arial"/>
              </a:rPr>
              <a:t> ≈ 355 /11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(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Цю-Шунь-Ш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6" descr="NCACEED35CAJZ8TB4CA0KW2TQCABEMNG9CAAIBQLYCABVLG9VCA5PD0GOCAB2YV83CAXXGR1WCAK6L8NXCAKSS38WCAG6PT9GCAENQ55NCAZ9EQQQCAFGF1PRCAZ44OHPCAEJZTGMCADJ5AEECAKT4XTGCA1KY3WW"/>
          <p:cNvPicPr/>
          <p:nvPr/>
        </p:nvPicPr>
        <p:blipFill>
          <a:blip r:embed="rId1"/>
          <a:stretch/>
        </p:blipFill>
        <p:spPr>
          <a:xfrm>
            <a:off x="3708360" y="4292640"/>
            <a:ext cx="18972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4"/>
          <p:cNvSpPr/>
          <p:nvPr/>
        </p:nvSpPr>
        <p:spPr>
          <a:xfrm>
            <a:off x="0" y="2349360"/>
            <a:ext cx="8047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424г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ал-Каш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шёл для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знач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алеко превосходящее по точности в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анее извест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ассмотрев вписанный и описанный многоугольники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800335168 сторонами он получ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cc66"/>
                </a:solidFill>
                <a:latin typeface="Arial"/>
              </a:rPr>
              <a:t>π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ffcc66"/>
                </a:solidFill>
                <a:latin typeface="Arial"/>
                <a:ea typeface="Arial"/>
              </a:rPr>
              <a:t>≈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 3,141592655358979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тут 16(!) верных зна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5" descr="6CAQ2LDYYCARF20TYCAPJXOGRCADCMQVBCAQ0SZELCATT90INCAXGX9A9CAFMUJTECALWWNIICAVOCHOACADXYV7FCAKPIO05CAF69W9UCA5HJZK6CAVXQ7GNCAK0Q27KCAZ2WVKHCA6P3364CAI3H41SCAHU2QIV"/>
          <p:cNvPicPr/>
          <p:nvPr/>
        </p:nvPicPr>
        <p:blipFill>
          <a:blip r:embed="rId1"/>
          <a:stretch/>
        </p:blipFill>
        <p:spPr>
          <a:xfrm>
            <a:off x="6948360" y="260280"/>
            <a:ext cx="1890720" cy="2448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GCA0EDQ59CAHTK17JCAREY9GOCA6XX5ZBCA4B2I1ACACGM4W2CAU5B76DCAOMA3XKCATEALZTCAAFL63CCAYEN23WCA7GFGQLCA8OA0VBCAJFKE6XCACSDDELCA3KN9WKCAPZTQHTCAIQOND1CA1FLB1ACAMLQEJB"/>
          <p:cNvPicPr/>
          <p:nvPr/>
        </p:nvPicPr>
        <p:blipFill>
          <a:blip r:embed="rId2"/>
          <a:stretch/>
        </p:blipFill>
        <p:spPr>
          <a:xfrm>
            <a:off x="250920" y="5300640"/>
            <a:ext cx="13683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4"/>
          <p:cNvSpPr/>
          <p:nvPr/>
        </p:nvSpPr>
        <p:spPr>
          <a:xfrm>
            <a:off x="250560" y="692280"/>
            <a:ext cx="8110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ое терпение и выдержку обнаружил голланд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числитель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Лудольф ван-Цейле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1540-1610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торый применяя метод Архимед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шёл до многоугольников с 60 * 2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2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торона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ив 35 верных десятичных знаков для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числения заняли всю его жизн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гласно завещанию Лудольф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его надгробии было высеч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йденное им значение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5" descr="па"/>
          <p:cNvPicPr/>
          <p:nvPr/>
        </p:nvPicPr>
        <p:blipFill>
          <a:blip r:embed="rId1"/>
          <a:stretch/>
        </p:blipFill>
        <p:spPr>
          <a:xfrm>
            <a:off x="5364000" y="3933720"/>
            <a:ext cx="2799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4"/>
          <p:cNvSpPr/>
          <p:nvPr/>
        </p:nvSpPr>
        <p:spPr>
          <a:xfrm>
            <a:off x="0" y="692280"/>
            <a:ext cx="9315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иная с конца 17 века для вычисления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именяются бол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фективные методы высшей математ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Леонард Эйл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числил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точностью д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53 десятичных зна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гличанин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В. Шенк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1873 году определ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точностью до 707 десятичных зна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5" descr="XCAHVNT25CAQX097HCA0V6Q5LCACD9YM7CA0I5Z0XCAFAW9Q6CAQ3RJQ7CAGWELW5CACUUA4UCA111Q9QCA285EHCCAH9SQWSCAHYQTESCABPVTOQCAL2GBCSCAKCA7C7CAI1YKFPCAG4YGA2CADHGDQVCAH0DJ1B"/>
          <p:cNvPicPr/>
          <p:nvPr/>
        </p:nvPicPr>
        <p:blipFill>
          <a:blip r:embed="rId1"/>
          <a:stretch/>
        </p:blipFill>
        <p:spPr>
          <a:xfrm>
            <a:off x="6877080" y="3789360"/>
            <a:ext cx="2022480" cy="287964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6"/>
          <p:cNvSpPr/>
          <p:nvPr/>
        </p:nvSpPr>
        <p:spPr>
          <a:xfrm>
            <a:off x="360" y="1484280"/>
            <a:ext cx="929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имер, к числу "пи" можно прийти, отыскивая предел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которых рядов. Так,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Г.Лейбниц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1646-1716) получил в 1674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яд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1-1/3+1/5-1/7+1/9-1/11+... =p/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торый дал возможность вычислить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олее коротким путё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жел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рхиме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ё же указанный ряд сходится очень медленно и поэто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бует довольно продолжительных расчёто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5:02:53Z</dcterms:created>
  <dc:creator>1</dc:creator>
  <dc:description/>
  <dc:language>en-US</dc:language>
  <cp:lastModifiedBy>Admin</cp:lastModifiedBy>
  <dcterms:modified xsi:type="dcterms:W3CDTF">2012-11-26T16:31:51Z</dcterms:modified>
  <cp:revision>11</cp:revision>
  <dc:subject/>
  <dc:title>Слайд 1</dc:title>
</cp:coreProperties>
</file>