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85AB-6B64-4DC3-B923-D0EF07192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4818-9EAD-4ADA-9D1D-76B467AF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22F4-C9D6-4EC0-A164-B5AB3B601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8CE7-27E8-42E7-AF07-456EBD61C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D540-0CD2-4480-BD2B-2530BBDC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1E6D-A1AB-4B7B-A718-AA109E50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834D-C340-4DF7-9FBD-45FC6819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5C22-8E47-4A0E-8A79-3908E1A9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4EA0-EE1B-4D4F-8714-8E27C553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1FD8-70FD-4B05-82FD-A532DFC5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997E-14A8-4558-9EA3-82EB6F86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D393-6FE8-45AF-AD86-5A50F9AE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7854-045B-428B-ACEC-17E11076FBB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330800" y="304920"/>
            <a:ext cx="4576680" cy="6459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3581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ан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тобы животные пили, люди, поливаем землю с лучком. Без водички мы будем грязн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аш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тобы плавать, нырять, пить, фрукты варить, овощи. Мама моет в воде посуду в перчатка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ен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тобы пить. Её пьют ещё животные и цветы, можно умываться, купаться. Мама кашку гречневую варит в водич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343400" y="228600"/>
            <a:ext cx="4522680" cy="6383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880" y="609120"/>
            <a:ext cx="3733920" cy="58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арк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 ёлочки танцуем, она хочет, чтобы мы спели ей.  Играем в снег, лепим гор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им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снежки, лопатки играем. Снеговика делаем, на санках папа катает, а мама не может ката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ст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имой играем в санки, большие лопатки, лепим Снеговика и горку из снег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ся</cp:lastModifiedBy>
  <dcterms:modified xsi:type="dcterms:W3CDTF">2012-11-26T18:14:0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