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4C1-3F8C-4D54-AED8-52DE307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5DC-DA98-4C01-A17A-233718C1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F28-9BB8-4F3B-8D11-91BDB833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AFD-77ED-4591-8C38-14D81C3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C65-9E4E-4CA7-A744-FD8FA9B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819-6793-4C91-B5F1-DB6C09D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194-16AD-4C06-A9DE-D052BBC3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0DC-1C43-4279-A008-783ACDD6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39F-BAAA-4264-A954-9332982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756-EF3C-4590-9F84-9E6C981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3CE-FA44-4DA1-B3AB-A5CCFB3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475-8C52-415A-87B0-95336FE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A71-F44B-4C94-B8BD-ABBEBCFB9E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30800" y="304920"/>
            <a:ext cx="4576680" cy="645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н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животные пили, люди, поливаем землю с лучком. Без водички мы будем гряз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лавать, нырять, пить, фрукты варить, овощи. Мама моет в воде посуду в перчат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пить. Её пьют ещё животные и цветы, можно умываться, купаться. Мама кашку гречневую варит в води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22680" cy="638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373392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р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ёлочки танцуем, она хочет, чтобы мы спели ей.  Играем в снег, лепим гор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нежки, лопатки играем. Снеговика делаем, на санках папа катает, а мама не может кат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ой играем в санки, большие лопатки, лепим Снеговика и горку из сне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4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