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49F-F180-4704-91B4-016C4002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5E7-2A92-41E7-9F84-1E3D31F6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082-F5A5-47B7-B4CC-1691D65D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EC1-D494-49C8-8AE8-2D59AB66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D53-8EE5-4E1B-81D1-866119D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231-DE3A-4E30-A7E8-D942073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E77-F93F-4BD5-B484-97845A9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C52-049D-4393-AFB8-61B1E8CE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CC1-FD7F-4D9A-B771-102C99D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839-FF2F-4DC5-8345-3DDAE244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69F-79E2-40D9-8F61-ADE20D1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2D6-2035-4151-B2A9-A8E0359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F3C-767D-4E1E-80C5-6D5959DCCD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ьбом детского словотворчеств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Давай поговорим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работала воспитатель ГБДОУ детский сад №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бинированного вида Киров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сильева Людмила 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4091040" cy="577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альбоме представлены высказывания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младшей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 – 4 г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ьбомы детского словотворчества дают возможность воспитателям закрепить пройденный материал, выявить необходимость работы по какой-либо теме, а так же дают родителям возможность по-другому посмотреть на своих детей, получить удовольствие от их высказываний, вызвать желание больше общаться со своими дет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481640" cy="632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ездила на автобусе – он возит людей, деток, есть троллейбус. Есть грузовик – он возит мусор, проду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грузовые и легковые. Они нужны, чтобы ехать на них куда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рил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знаю автобус, троллейбус, маршрутки – они нужны возить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2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