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0EA-523B-40C9-9C86-DC78734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1E0-634E-43C4-B530-8EAE178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2F8-1804-4D9F-862A-00940DDA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A69-0956-4690-A081-2E444943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271-0B40-46BD-B8D6-758890AA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858-AF4F-41BA-B834-428667DE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A35-E2EB-4270-B3F8-43E23B8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192-FB16-4538-BEDD-4A5ABEE1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C12-6D00-461E-A482-B055779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2E8-CA7B-403D-A776-46489F0D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FA0-7EE0-4E5F-83CF-7F8AD9A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341-7FBF-428C-8603-73D2F44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50FD-6491-44F7-AC2E-F0C795A823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 детского словотворчеств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авай поговорим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работала воспитатель ГБДОУ детский сад №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бинированного вида Киров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сильева Людмила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4091040" cy="577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альбоме представлены высказывани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младшей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 – 4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ы детского словотворчества дают возможность воспитателям закрепить пройденный материал, выявить необходимость работы по какой-либо теме, а так же дают родителям возможность по-другому посмотреть на своих детей, получить удовольствие от их высказываний, вызвать желание больше общаться со своими дет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48164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ездила на автобусе – он возит людей, деток, есть троллейбус. Есть грузовик – он возит мусор, проду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грузовые и легковые. Они нужны, чтобы ехать на них куда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рил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знаю автобус, троллейбус, маршрутки – они нужны возить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2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