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69A-2930-42CB-A383-24EB9E57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9A2-4663-48B0-BA35-E938BB60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F41-5E7B-48DE-9760-947CB4A2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231-FC1E-47B5-A777-96D418D7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66A-5E5E-4352-AC99-E9ED4664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CFE-0DBD-4880-9276-1A17FB24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9B5-8D87-458E-B65E-B9C5371E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56B-CFF5-4B2E-95E0-404AC1B8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32A-DA46-41C3-A387-7D7EF47A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AF9-E1D0-44F0-B071-05B8F4FC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9D5-0CB7-4266-B084-FEFE715E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205-E2D4-47CF-804F-C9FE394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DD04-C2C1-44BD-82F5-CB1D6F5AFA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427640" cy="6248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а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ому, что она рыба и ножек у неё нет, только хвостик и плав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нас в аквариуме оранжевая рыбка. У неё есть плавнички, а ножек нет, есть хвостик – он помогает плавать, поворачи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неё есть хвостик и плавнички. Она плавает, ест ротиком, смотрит глаз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51240" y="304920"/>
            <a:ext cx="4469040" cy="6306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3886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они питались, пили, или они погибнут. Ещё нужно тепло, свет и зем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ёш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росли, если не поливать, то листики завян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а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да – чтобы расти, чтобы были цветочки. Без воды они расти не буд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ирил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они не погибли, ещё земля нуж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11-26T18:13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