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5C7-2CB0-40E5-8D67-B8E35BD2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9036-1352-4216-B893-DD2BDC5A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D80-775A-4E2D-9E67-DA6B6A37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826E-44F8-47CB-9111-C614CBC6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1120-935C-4AAD-BDF9-9EEC3D38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5A32-7D42-40E4-93EE-B13CC419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4C3-7C8C-40F6-AB5E-6B02A37C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89C8-D526-4A1F-8367-7D573DBF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26A8-C1FE-4CF0-8FB5-80F15DBF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E980-C8D8-4BFC-8A53-4635C80B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69FB-6D8A-400A-A339-B3518F92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E834-25FB-4751-BA6F-9952D716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EAAD-2FE3-47B0-9B8A-0F23633AB5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4427640" cy="6248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3581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ла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тому, что она рыба и ножек у неё нет, только хвостик и плав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ли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 нас в аквариуме оранжевая рыбка. У неё есть плавнички, а ножек нет, есть хвостик – он помогает плавать, поворачив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ст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 неё есть хвостик и плавнички. Она плавает, ест ротиком, смотрит глаз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51240" y="304920"/>
            <a:ext cx="4469040" cy="6306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3886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ст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они питались, пили, или они погибнут. Ещё нужно тепло, свет и зем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ёш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росли, если не поливать, то листики завяну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иа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да – чтобы расти, чтобы были цветочки. Без воды они расти не буду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ирил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они не погибли, ещё земля нуж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ся</cp:lastModifiedBy>
  <dcterms:modified xsi:type="dcterms:W3CDTF">2012-11-26T18:13:2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