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461-5E9B-43B4-8BE5-32A3517A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448-8F7F-4002-A468-9C3CE6B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893-F54E-4AF6-BD29-861B2796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038-67F0-470D-991B-530C0A4A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A32-113B-43C5-A1B7-1E92207D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686-D1FA-4283-9032-0F631A11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7BF-24D7-4DF6-98CB-9B944BD6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3C4-01A2-42F4-892D-41168157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348-8602-4036-ADC8-853960B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EA5-4906-4EC1-91CE-7FE1EC1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F86-C030-4943-A214-FC232AD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FB6-B691-4B6E-8A04-3A84527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2623-7D81-485A-908E-F3FA8A3309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03720" y="228600"/>
            <a:ext cx="45356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657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м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знаю сказку «Семеро козлят». Я люблю добрые сказ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люблю их потому, что их хорошо рассказывают. Я знаю про козлят, про Колобка, про реп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а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читали про непослушную мышку, про Федору. Книжки нужно читать, не р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577040" cy="645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3733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ли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в мозаику, в конструктор люблю играть, книжку читать. Ещё в домино играю с мамой, а папа умеет меня кидать и крут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а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группе я люблю играть в доктора, а дома в обезьянку и большую куклу, что умеет петь и разговари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люблю заниматься физкультурой, упражнениями, играть в конструк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3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