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71D3-7AC6-4586-A565-466419310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9B79-0377-4C17-ACBD-E17A4B220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6D3C-541F-476C-8BAB-6EF1E6288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5E42-D100-4160-A69D-EA2A9F3B2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3C00-C5F8-4B06-B1D5-7D461E94F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5D91-F5F5-491F-9B56-655A2FB71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7E56-965F-4F6C-8072-BF04F8524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5CA4-7A21-4B4E-83AB-4640CAA5D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0124-7DAA-4DBF-A9CA-3EA87F6AA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C008-912B-444D-AB1B-D32201870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5854-948C-4260-8843-C0DA74679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EB21-43F4-4BB1-B900-9A90F80ED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98AF6-78E9-4435-84A3-91EA63A6BF9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203720" y="228600"/>
            <a:ext cx="4535640" cy="64008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3657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Амира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Я знаю сказку «Семеро козлят». Я люблю добрые сказк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Арина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Я люблю их потому, что их хорошо рассказывают. Я знаю про козлят, про Колобка, про репк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Диана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Мы читали про непослушную мышку, про Федору. Книжки нужно читать, не рват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267080" y="228600"/>
            <a:ext cx="4577040" cy="64594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37339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Алиса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Я в мозаику, в конструктор люблю играть, книжку читать. Ещё в домино играю с мамой, а папа умеет меня кидать и крутит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Диана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 группе я люблю играть в доктора, а дома в обезьянку и большую куклу, что умеет петь и разговариват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астя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Я люблю заниматься физкультурой, упражнениями, играть в конструктор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леся</cp:lastModifiedBy>
  <dcterms:modified xsi:type="dcterms:W3CDTF">2012-11-26T18:13:38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