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09634-6D5E-46E8-81E6-EC5E9784F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5DA17-A4AA-40AA-B1A6-881930563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52896-B334-43E2-9894-083531BA9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970C6-0ADC-4386-8E1D-E80B485D6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619C7-AEEB-4E46-94F7-D3BA663E5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1770F-53E1-4CAC-AFE4-FB399EC44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E77A2-6AB6-4F92-81E6-CD6A002C2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2552A-789E-4EE4-9402-4C32926CD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40E40-57AC-46E0-BD58-2DEB858BD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45D5F-BAAC-45B6-A35D-F3D87C714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1203A-7DF9-4F77-A11A-E988E4097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B36DF-F003-49CB-A11E-3FD6BE77E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2B905-ABE8-481F-BFB2-3DE69B751BE5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4200480" y="228600"/>
            <a:ext cx="4630680" cy="65358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358128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Таня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Они нужны для подарков. Игрушки все ребята любят. Я люблю мячик, Хрушу, Мишку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олина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В них играют. Я везде их убираю. Моя любимая игрушка кукла Люд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Степан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Если не будет игрушек, то не поиграешь ни во что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330800" y="304920"/>
            <a:ext cx="4576680" cy="64594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3581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Ваня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Чтобы животные пили, люди, поливаем землю с лучком. Без водички мы будем грязным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Саша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Чтобы плавать, нырять, пить, фрукты варить, овощи. Мама моет в воде посуду в перчатках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Лена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Чтобы пить. Её пьют ещё животные и цветы, можно умываться, купаться. Мама кашку гречневую варит в водичк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Алеся</cp:lastModifiedBy>
  <dcterms:modified xsi:type="dcterms:W3CDTF">2012-11-26T18:13:51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