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C2EE-6995-4E0A-89E2-7488B09E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DB0B-F337-40C8-ACD5-3C8DF487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B014-091F-4472-8CEB-802A2D58C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025E-46CF-4A63-B59A-F26E60421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17E2-D5C0-46D8-82EC-4144EAF0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D4A5-3E2B-489E-853C-7EE06257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9D31-03A9-4DBC-BC5E-7EC90651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105A-D617-477C-972F-C75AD12D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E147-8A2C-4CA4-814C-280D2E7E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E732-0103-49AB-AFF3-EB2C1012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A868-5621-4C60-98F7-605DDE4E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1724-8538-45CD-A3D0-3E17DE4B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F3B2-CACB-44C4-9F3B-9748FDB6ECE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200480" y="228600"/>
            <a:ext cx="4630680" cy="6535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35812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ан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ни нужны для подарков. Игрушки все ребята любят. Я люблю мячик, Хрушу, Миш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лин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них играют. Я везде их убираю. Моя любимая игрушка кукла Лю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епан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сли не будет игрушек, то не поиграешь ни во чт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330800" y="304920"/>
            <a:ext cx="4576680" cy="6459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3581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ан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бы животные пили, люди, поливаем землю с лучком. Без водички мы будем гряз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аш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бы плавать, нырять, пить, фрукты варить, овощи. Мама моет в воде посуду в перчатк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ен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бы пить. Её пьют ещё животные и цветы, можно умываться, купаться. Мама кашку гречневую варит в водич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ся</cp:lastModifiedBy>
  <dcterms:modified xsi:type="dcterms:W3CDTF">2012-11-26T18:13:5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