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7.jpeg" ContentType="image/jpeg"/>
  <Override PartName="/ppt/media/image5.wmf" ContentType="image/x-wmf"/>
  <Override PartName="/ppt/media/image6.jpeg" ContentType="image/jpeg"/>
  <Override PartName="/ppt/media/image1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7.png" ContentType="image/png"/>
  <Override PartName="/ppt/media/image3.gif" ContentType="image/gif"/>
  <Override PartName="/ppt/media/image2.wmf" ContentType="image/x-wmf"/>
  <Override PartName="/ppt/media/image1.wmf" ContentType="image/x-wmf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53A-3FD3-4370-A94A-D2AE72B2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FD1-660B-4437-8C17-009CD17D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5E8-E5A1-440F-A849-D67E9B8C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4A4-38F9-4A76-B79B-A9C49A3A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5DB1-1942-4940-8F15-DCB74E99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EAAC-7789-4C4A-B536-50DCBBA8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86E1-0CE7-45B0-8150-EBDF70A9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D561-D139-4CFA-A51C-240804BE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CAA6-6294-436E-A6E2-7C085819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F13D-3BE3-42C9-95CD-75C4645C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EE5A-C80A-42D0-98A9-DE85C59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AE8-7603-4519-80D3-A7BAF87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0C4D-B2F9-4F7D-8382-DC8748A2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6432-2A72-4248-B30C-E81271FF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CC59-669A-46C8-B1D8-275619AF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1857-B963-41DA-81F4-E29ED6CB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A44B-BBBD-472C-A12C-39AC5EA6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DD4-332F-4296-94AB-DE5A23EE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ED5-D947-4125-9A33-748F97E0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80D-882D-4AE6-AE66-33DDDF3C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F1B-9ACD-4E4F-AC22-A8A7BE0D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169-A67E-4387-953B-0C05246B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C93-22D9-43B9-9DCC-06B68A19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DA9-A6E5-4048-811A-51A914C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7CF3-00C2-47B7-9470-B590395E316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BBB4-8B55-4301-BE33-171ABFF6686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900igr.net/Detskie_prezentatsii/Biologija.Eda/Orekhi_2.files/detskie_kartinki_009_Fistashki.html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900igr.net/Detskie_prezentatsii/Biologija.Eda/Orekhi_2.files/detskie_kartinki_004_Gretskie_orekhi.html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hyperlink" Target="http://900igr.net/Detskie_prezentatsii/Biologija.Eda/Orekhi_2.files/detskie_kartinki_008_Funduk__lesnoj_orekh.html" TargetMode="External"/><Relationship Id="rId10" Type="http://schemas.openxmlformats.org/officeDocument/2006/relationships/image" Target="../media/image31.jpe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shop.24-7-365.ru/pictures/1169840b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Химия вокруг нас</a:t>
            </a:r>
            <a:br>
              <a:rPr sz="4600"/>
            </a:br>
            <a:r>
              <a:rPr b="1" lang="en-US" sz="4600" spc="-1" strike="noStrike">
                <a:solidFill>
                  <a:srgbClr val="ff3300"/>
                </a:solidFill>
                <a:latin typeface="Garamond"/>
              </a:rPr>
              <a:t>Опасно для здоровья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601640" cy="1390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9786000">
            <a:off x="5651280" y="4221000"/>
            <a:ext cx="2801880" cy="1897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27640" y="476280"/>
            <a:ext cx="3733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1193352307_05.gif"/>
          <p:cNvPicPr/>
          <p:nvPr/>
        </p:nvPicPr>
        <p:blipFill>
          <a:blip r:embed="rId3"/>
          <a:stretch/>
        </p:blipFill>
        <p:spPr>
          <a:xfrm>
            <a:off x="0" y="4214880"/>
            <a:ext cx="3519360" cy="2643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88000" y="0"/>
            <a:ext cx="2205000" cy="227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32000" y="6064200"/>
            <a:ext cx="60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втор презентации – Татьяна Анатольевна Ухо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6812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ленькое количество  добавок при частом употреблении вырастает в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ольшую до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35640" y="3510000"/>
            <a:ext cx="4608360" cy="334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2124000" cy="263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411280" y="4365720"/>
            <a:ext cx="26416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- «Lays» в маленькой упаковке (содержит аспартам </a:t>
            </a:r>
            <a:r>
              <a:rPr b="0" lang="ru-RU" sz="3800" spc="-1" strike="noStrike">
                <a:solidFill>
                  <a:srgbClr val="ff3300"/>
                </a:solidFill>
                <a:latin typeface="Garamond"/>
              </a:rPr>
              <a:t>Е951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);Pringles» (содержит эмульгатор </a:t>
            </a:r>
            <a:r>
              <a:rPr b="0" lang="ru-RU" sz="3800" spc="-1" strike="noStrike">
                <a:solidFill>
                  <a:srgbClr val="ff3300"/>
                </a:solidFill>
                <a:latin typeface="Garamond"/>
              </a:rPr>
              <a:t>Е471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);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95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спартам – синтетический сахарозаменитель.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здействие на орган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тощение запасов серотонина в коре головного мозг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витие маниакальной депрессии, припадков паники, насилия (при чрезмерном употреблении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400-499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загустители, стабилизаторы для повышения вязкости продукта (большинство из них запрещены в РФ).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здействие на орган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болевания пищеварительного тра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Чипсы Pringles"/>
          <p:cNvPicPr/>
          <p:nvPr/>
        </p:nvPicPr>
        <p:blipFill>
          <a:blip r:embed="rId1"/>
          <a:stretch/>
        </p:blipFill>
        <p:spPr>
          <a:xfrm>
            <a:off x="6948360" y="494172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ные Гарвардского университета решили выяснить, как фосфаты, которые добавляются в газированные напитки для того,  чтобы добиться выделения углекислого газа, влияют на здоровье человека. Исследователи пришли к выводу, что большое количество фосфорной кислоты, которое содержится в газированных напитках, ускоряет процесс старения организм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ca Cola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водит из организма  кальций, магний и цинк, которые находятся в костях  челове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81560" y="4365720"/>
            <a:ext cx="3862440" cy="2205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34923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ипсы – прямая дорога к прыщикам и ожирен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лика вероятность, что лишний вес, приобретенный в 10 – 14 лет,  сохранится на всю жизнь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1800360" cy="2125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6000" y="3141720"/>
            <a:ext cx="3168720" cy="273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348000" y="4292640"/>
            <a:ext cx="2000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олько фак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Производители кока-колы и пепси тратят около 3 миллиардов долларов в год на реклам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В большинстве безалкогольных напитках содержание бензола превышено в 9 раз. Употребление бензола в больших количествах может вызвать заболевание лейкемией (рак крови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 Для того, чтобы пограничный объем вредных веществ оказался в организме человека, достаточно съесть 0,5 г картофельных чипсов или 2 г картофеля-фри в день. В Калифорнии (США) требуют специальной маркировки на упаковках с чипсами, предупреждающей потребителей о том, что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продукт может вызывать ра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ый ингредиент Колы - фосфорная кисло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а 4 дня он может растворить ваши ног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еревозки концентрата Колы грузовик должен быть оборудован поддонами, предназначенными для коррозионных матери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трибьюторы Колы уже 20 лет используют ее для очистки моторов своих грузов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Не перекусывайте чипсами,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лучше замените их фруктами, орехами или сухофруктами</a:t>
            </a:r>
            <a:br>
              <a:rPr sz="2500"/>
            </a:b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 Детские картинки - Фисташк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5229360"/>
            <a:ext cx="1200240" cy="79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 Детские картинки - Грецкие орех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3962520"/>
            <a:ext cx="1200240" cy="819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533520" y="1523880"/>
            <a:ext cx="1428480" cy="98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04920" y="3200400"/>
            <a:ext cx="1428480" cy="933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1066680" y="47242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 Детские картинки - Фундук  (лесной орех)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72400" y="2286000"/>
            <a:ext cx="1200240" cy="876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81080" y="616572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фиста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67640" y="5661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1800" y="41497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носл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242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н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5800" y="3213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ин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7440" y="5084640"/>
            <a:ext cx="1003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рец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ре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3348000" y="306864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7380360" y="476280"/>
            <a:ext cx="13334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Чипс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в переводе с английского ) – ломтик, кусоче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История появления картофельных чипсов связана с капризом . В 19 веке в Америке  одному   посетителю ресторана не понравился жареный картофель. Тогда повар нарезал картошку тонкими ломтиками. Они прожарились настолько, что их невозможно было наколоть на вилку. Это новое блюдо понравилось посетител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артофель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тительное масло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ахар, соль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роматизаторы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кусовые добав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итаете ли вы состав на упаковк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522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9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5445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306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356000" y="3500280"/>
          <a:ext cx="429444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500280"/>
                    <a:ext cx="429444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Чипсы estrella деревенская сметана и лук 85г">
            <a:hlinkClick r:id="rId3"/>
          </p:cNvPr>
          <p:cNvPicPr/>
          <p:nvPr/>
        </p:nvPicPr>
        <p:blipFill>
          <a:blip r:embed="rId4"/>
          <a:stretch/>
        </p:blipFill>
        <p:spPr>
          <a:xfrm rot="599400">
            <a:off x="7164360" y="1197000"/>
            <a:ext cx="176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Питаясь 20 дней сухариками и чипсами, крысы облысели, ослепли и умерли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днепропетровской школе №25 учитель химии вместе с учениками решили провести необычный эксперимент с любимой едой школьников — чипсами и сухариками. В качестве подопытных выбрали 12 грызунов. Их разделили на группы: одних кормили чипсами, вторых — сухари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ысы на двадцатый день стали одна за другой умирать. Перед смертью они ослепли и облысели. Позже экспертиза показала — животные умерли от цирроза печени, серьезного нарушения пищеварения и сетчатки глаз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2880000" cy="273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Администратор\Рабочий стол\000h26dw.jpg"/>
          <p:cNvPicPr/>
          <p:nvPr/>
        </p:nvPicPr>
        <p:blipFill>
          <a:blip r:embed="rId2"/>
          <a:stretch/>
        </p:blipFill>
        <p:spPr>
          <a:xfrm rot="1467000">
            <a:off x="1116000" y="4220640"/>
            <a:ext cx="20001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Производство и состав чипсов. Как делают чипсы.</a:t>
            </a:r>
            <a:br>
              <a:rPr sz="3000"/>
            </a:b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дрогенизированный жир, накапливающийся в чипсах, приводит к образованию «плохого» холестерина – а это атеросклероз, тромбофлебиты и другие опасные заболевания. Чипсы в процессе готовки так пропитываются жиром, что, съев маленький пакетик, мы получаем этого жира целых 30 г, а ведь часто одним 100-граммовым пакетиком дело не ограничивается. Вроде как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лчашечки жира выпили на закус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цессе жарки абсолютно всё полезное, что есть в картофеле, разрушается, он приобретает другие свойства – канцерогенные. Продукт распада жиров – акролеин, обладает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мутаген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канцерогенным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войств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образуется он даже при относительном соблюдении технолог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Опы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Мы заворачивали ломтик в бума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а каждом листе  бумаги видны жирные пят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Значит в чипсах есть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жи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требление жира в больших количествах приводит к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ожире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3790800"/>
            <a:ext cx="3810240" cy="2235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F:\DCIM\100CANON\IMG_3172.JPG"/>
          <p:cNvPicPr/>
          <p:nvPr/>
        </p:nvPicPr>
        <p:blipFill>
          <a:blip r:embed="rId2"/>
          <a:srcRect l="13824" t="0" r="19081" b="0"/>
          <a:stretch/>
        </p:blipFill>
        <p:spPr>
          <a:xfrm>
            <a:off x="457200" y="1143000"/>
            <a:ext cx="22240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836640"/>
            <a:ext cx="44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Капаем на чипсы раствор йода, и  на них появлялись тёмные пятн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начит, чипсы содержат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крахма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рахмал, оставшийся во рту, превращается в глюкозу. Она  вызывает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кариес зубо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чипсы1"/>
          <p:cNvPicPr/>
          <p:nvPr/>
        </p:nvPicPr>
        <p:blipFill>
          <a:blip r:embed="rId1"/>
          <a:stretch/>
        </p:blipFill>
        <p:spPr>
          <a:xfrm>
            <a:off x="539640" y="3573360"/>
            <a:ext cx="3024360" cy="273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732720" y="3573360"/>
            <a:ext cx="2411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кусовые добавк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оматизато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227664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866920" y="227664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213000"/>
            <a:ext cx="539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Разрушают печень, поч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ражают нервную сист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ухудшают кож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пособствуют возникновению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р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3:33:25Z</dcterms:created>
  <dc:creator>Alex</dc:creator>
  <dc:description/>
  <dc:language>en-US</dc:language>
  <cp:lastModifiedBy>Alex</cp:lastModifiedBy>
  <dcterms:modified xsi:type="dcterms:W3CDTF">2012-11-26T17:31:18Z</dcterms:modified>
  <cp:revision>7</cp:revision>
  <dc:subject/>
  <dc:title>Слайд 1</dc:title>
</cp:coreProperties>
</file>