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866-DA3B-479D-874A-14150311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8FE-FEB7-459C-B800-608CC8B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5A1-8BF4-4DE7-8FAD-AB9E844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AB5-AAAB-41BD-B7D4-31C32884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7DC-539C-4C72-8F09-28545C26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A8F-5C50-4D5C-8340-8517146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727-EA4D-426C-81B8-E976861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0D8-4799-4E5D-9A90-1C5BCB0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61D-3700-4392-9692-E0F2932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C1D-2624-4B9B-9A9F-DAC84C1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C80-2039-4FFF-BDDC-1760305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FCA-DDC5-43A7-9308-7D36F96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FE38-A5F1-48D8-9E6B-52C5F589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Площадь </a:t>
            </a:r>
            <a:br>
              <a:rPr sz="6600"/>
            </a:b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параллелограм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400440" y="24382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0195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60195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9040" y="2286000"/>
            <a:ext cx="141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4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5400" y="4038480"/>
            <a:ext cx="141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7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895120" y="1523880"/>
            <a:ext cx="58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= 4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b = 7 c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 a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·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 4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м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7 c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28 см</a:t>
            </a:r>
            <a:r>
              <a:rPr b="0" lang="ru-RU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0880"/>
            <a:ext cx="1905120" cy="838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6553080" y="3504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2590560" y="48765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23120" y="4419720"/>
            <a:ext cx="30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28 см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Найдите 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(разрежьте его на две части, составьте прямоугольник, выполните измерения, вычислите площад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1752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52480"/>
            <a:ext cx="0" cy="99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0" cy="1371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7524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7617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14040" y="42670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382000">
            <a:off x="3428640" y="457200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382000">
            <a:off x="6629040" y="40384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11-16T18:02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