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CD6-5B59-470B-B3D5-B4943564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3B4A-5002-4EB9-AF27-D951EC40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837-9573-4070-9429-3959DE79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A70-9CBE-4BD9-9891-C0E105A9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B3A-4E34-4651-9298-59D9F526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EBE-5BB0-445A-89C8-90E70A82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8C5-8797-48D7-A54C-B477A025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8D2-B88F-4FC0-916B-8B2B9908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C635-4AC8-4662-98BF-484DDFF4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D9F-E20C-444A-89FA-42746349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DF9-B765-4E16-8714-DC32A2C8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8BB-6B81-4E8C-9981-9232A4EB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0BA3-F108-4B07-ABBD-FC6E4BD2E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Площадь </a:t>
            </a:r>
            <a:br>
              <a:rPr sz="6600"/>
            </a:b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параллелограм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6400440" y="243828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601956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601956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9040" y="2286000"/>
            <a:ext cx="141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4 с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5400" y="4038480"/>
            <a:ext cx="141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7 с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895120" y="1523880"/>
            <a:ext cx="58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 = 4 с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b = 7 c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S = a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Arial"/>
              </a:rPr>
              <a:t>·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S = 4 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см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7 c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S =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 28 см</a:t>
            </a:r>
            <a:r>
              <a:rPr b="0" lang="ru-RU" sz="4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80880"/>
            <a:ext cx="1905120" cy="83844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6553080" y="3504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2590560" y="48765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129528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129528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23120" y="4419720"/>
            <a:ext cx="305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S =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 28 см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5440" y="9907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Найдите площадь параллел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(разрежьте его на две части, составьте прямоугольник, выполните измерения, вычислите площад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129528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129528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1752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129528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52480"/>
            <a:ext cx="0" cy="990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743200"/>
            <a:ext cx="0" cy="13716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175248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76176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914040" y="426708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382000">
            <a:off x="3428640" y="457200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8120" y="1752480"/>
            <a:ext cx="3581280" cy="2362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382000">
            <a:off x="6629040" y="403848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6019200" y="2361960"/>
            <a:ext cx="2362320" cy="114300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09-11-16T18:02:5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