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FFD-03AD-462A-870F-35EB6E2E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602-E733-493A-86B4-EFC68A42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18F-00F7-4726-9457-C06A22E6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D70-7D4B-4DF6-BF38-167A6B1D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37A-45D5-4669-8436-8780B49E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5ED-8C04-40D2-9086-5800C16C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E5A-B62D-4C84-9671-AFBDBF0A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9E8-9CDD-4DD9-B812-E8D2253F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ADC-2FD5-4E83-A2D8-62F18E05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4C9-32BF-4B14-875A-C048AFF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0E9-B2EB-4837-8477-C6B1C1D5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DF9-0250-40DF-8497-E3189EA2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C846-E4A5-4E1B-868A-14E6C58036FA}" type="slidenum">
              <a:rPr b="0" lang="ru-RU" sz="1200" spc="-1" strike="noStrike">
                <a:solidFill>
                  <a:srgbClr val="0d0d0d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Практическая работа «Единица, десяток, сотня…»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Georgia"/>
              </a:rPr>
              <a:t>Работа со спичками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Из десятков складывали сотн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61" name="Рисунок 2" descr="Фото1607.jpg"/>
          <p:cNvPicPr/>
          <p:nvPr/>
        </p:nvPicPr>
        <p:blipFill>
          <a:blip r:embed="rId1"/>
          <a:srcRect l="6590" t="0" r="3933" b="6295"/>
          <a:stretch/>
        </p:blipFill>
        <p:spPr>
          <a:xfrm>
            <a:off x="971640" y="1146240"/>
            <a:ext cx="7272360" cy="57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Из десятков складывали сотн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63" name="Рисунок 2" descr="Фото1609.jpg"/>
          <p:cNvPicPr/>
          <p:nvPr/>
        </p:nvPicPr>
        <p:blipFill>
          <a:blip r:embed="rId1"/>
          <a:srcRect l="0" t="0" r="22535" b="3933"/>
          <a:stretch/>
        </p:blipFill>
        <p:spPr>
          <a:xfrm>
            <a:off x="1187280" y="1341360"/>
            <a:ext cx="629604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Из десятков складывали сотн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65" name="Рисунок 2" descr="Фото1608.jpg"/>
          <p:cNvPicPr/>
          <p:nvPr/>
        </p:nvPicPr>
        <p:blipFill>
          <a:blip r:embed="rId1"/>
          <a:srcRect l="0" t="2752" r="0" b="9839"/>
          <a:stretch/>
        </p:blipFill>
        <p:spPr>
          <a:xfrm>
            <a:off x="468360" y="1341360"/>
            <a:ext cx="81280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Из десятков складывали сотн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67" name="Рисунок 2" descr="Фото1605.jpg"/>
          <p:cNvPicPr/>
          <p:nvPr/>
        </p:nvPicPr>
        <p:blipFill>
          <a:blip r:embed="rId1"/>
          <a:srcRect l="0" t="0" r="0" b="8658"/>
          <a:stretch/>
        </p:blipFill>
        <p:spPr>
          <a:xfrm>
            <a:off x="611280" y="1289160"/>
            <a:ext cx="8128080" cy="55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Из десятков складывали сотн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69" name="Рисунок 2" descr="Фото1610.jpg"/>
          <p:cNvPicPr/>
          <p:nvPr/>
        </p:nvPicPr>
        <p:blipFill>
          <a:blip r:embed="rId1"/>
          <a:srcRect l="0" t="9839" r="0" b="18107"/>
          <a:stretch/>
        </p:blipFill>
        <p:spPr>
          <a:xfrm>
            <a:off x="539640" y="1773360"/>
            <a:ext cx="812808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Из сотен тысячу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71" name="Рисунок 2" descr="Фото1612.jpg"/>
          <p:cNvPicPr/>
          <p:nvPr/>
        </p:nvPicPr>
        <p:blipFill>
          <a:blip r:embed="rId1"/>
          <a:srcRect l="18992" t="12201" r="19878" b="11020"/>
          <a:stretch/>
        </p:blipFill>
        <p:spPr>
          <a:xfrm>
            <a:off x="2050920" y="1700280"/>
            <a:ext cx="4969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6120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Наш результат </a:t>
            </a: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– 1270 спичек:</a:t>
            </a:r>
            <a:br>
              <a:rPr sz="4400"/>
            </a:b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1 тысяча, 2 сотни и 7 десятков</a:t>
            </a:r>
            <a:br>
              <a:rPr sz="4400"/>
            </a:b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или</a:t>
            </a:r>
            <a:br>
              <a:rPr sz="4400"/>
            </a:b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12 сотен и 7 десятков</a:t>
            </a:r>
            <a:br>
              <a:rPr sz="4400"/>
            </a:b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или</a:t>
            </a:r>
            <a:br>
              <a:rPr sz="4400"/>
            </a:b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127 десятков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Как вы думаете, сколько здесь спичек?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44" name="Рисунок 5" descr="Фото1587.jpg"/>
          <p:cNvPicPr/>
          <p:nvPr/>
        </p:nvPicPr>
        <p:blipFill>
          <a:blip r:embed="rId1"/>
          <a:srcRect l="0" t="6644" r="0" b="0"/>
          <a:stretch/>
        </p:blipFill>
        <p:spPr>
          <a:xfrm>
            <a:off x="1042920" y="1557360"/>
            <a:ext cx="7058160" cy="4940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1564200" y="6087960"/>
            <a:ext cx="646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ы решили посчит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Сначала собирали десятк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47" name="Рисунок 2" descr="Фото1589.jpg"/>
          <p:cNvPicPr/>
          <p:nvPr/>
        </p:nvPicPr>
        <p:blipFill>
          <a:blip r:embed="rId1"/>
          <a:srcRect l="12401" t="0" r="0" b="9000"/>
          <a:stretch/>
        </p:blipFill>
        <p:spPr>
          <a:xfrm>
            <a:off x="1042920" y="1311120"/>
            <a:ext cx="7120080" cy="55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-316080"/>
            <a:ext cx="7772400" cy="14702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Сначала собирали десятк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49" name="Рисунок 2" descr="Фото1591.jpg"/>
          <p:cNvPicPr/>
          <p:nvPr/>
        </p:nvPicPr>
        <p:blipFill>
          <a:blip r:embed="rId1"/>
          <a:srcRect l="15449" t="2752" r="0" b="0"/>
          <a:stretch/>
        </p:blipFill>
        <p:spPr>
          <a:xfrm>
            <a:off x="1403280" y="930240"/>
            <a:ext cx="6872400" cy="59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Сначала собирали десятк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51" name="Рисунок 2" descr="Фото1592.jpg"/>
          <p:cNvPicPr/>
          <p:nvPr/>
        </p:nvPicPr>
        <p:blipFill>
          <a:blip r:embed="rId1"/>
          <a:srcRect l="0" t="7477" r="0" b="5114"/>
          <a:stretch/>
        </p:blipFill>
        <p:spPr>
          <a:xfrm>
            <a:off x="611280" y="1268280"/>
            <a:ext cx="812808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Сначала собирали десятк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53" name="Рисунок 2" descr="Фото1595.jpg"/>
          <p:cNvPicPr/>
          <p:nvPr/>
        </p:nvPicPr>
        <p:blipFill>
          <a:blip r:embed="rId1"/>
          <a:srcRect l="0" t="839" r="0" b="5114"/>
          <a:stretch/>
        </p:blipFill>
        <p:spPr>
          <a:xfrm>
            <a:off x="539640" y="1125360"/>
            <a:ext cx="812808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Сначала собирали десятк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55" name="Рисунок 2" descr="Фото1596.jpg"/>
          <p:cNvPicPr/>
          <p:nvPr/>
        </p:nvPicPr>
        <p:blipFill>
          <a:blip r:embed="rId1"/>
          <a:srcRect l="9248" t="5114" r="0" b="9839"/>
          <a:stretch/>
        </p:blipFill>
        <p:spPr>
          <a:xfrm>
            <a:off x="971640" y="1341360"/>
            <a:ext cx="7377120" cy="51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Сначала собирали десятк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57" name="Рисунок 2" descr="Фото1599.jpg"/>
          <p:cNvPicPr/>
          <p:nvPr/>
        </p:nvPicPr>
        <p:blipFill>
          <a:blip r:embed="rId1"/>
          <a:srcRect l="0" t="6295" r="0" b="2752"/>
          <a:stretch/>
        </p:blipFill>
        <p:spPr>
          <a:xfrm>
            <a:off x="684360" y="1125360"/>
            <a:ext cx="81277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rebuchet MS"/>
              </a:rPr>
              <a:t>Сначала собирали десятк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59" name="Рисунок 2" descr="Фото1597.jpg"/>
          <p:cNvPicPr/>
          <p:nvPr/>
        </p:nvPicPr>
        <p:blipFill>
          <a:blip r:embed="rId1"/>
          <a:srcRect l="0" t="0" r="0" b="8658"/>
          <a:stretch/>
        </p:blipFill>
        <p:spPr>
          <a:xfrm>
            <a:off x="539640" y="1125360"/>
            <a:ext cx="8128080" cy="556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6:11Z</dcterms:created>
  <dc:creator>Admin</dc:creator>
  <dc:description/>
  <dc:language>en-US</dc:language>
  <cp:lastModifiedBy>Ева</cp:lastModifiedBy>
  <dcterms:modified xsi:type="dcterms:W3CDTF">2012-11-12T17:55:27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0171049</vt:lpwstr>
  </property>
</Properties>
</file>