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70F-880F-4185-8BDA-91D658D4B1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B7F-BF58-4868-A957-86E305031E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C0E8-7199-4066-B3F6-EC770DC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6FD7-1DC2-4FB8-BFFE-8D6FB113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1468-42E8-48C5-B7B0-5CD0C6F3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C2FD-54D3-4EAD-85B4-4DE1F67D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4AF6-3603-47B9-9B85-5B463D93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8FD-BEF1-43E4-A0B3-82D7336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5B45-C6FA-4594-A513-65EB550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E79E-8B66-497C-887B-DB5ED26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0644-6DC0-4652-98A9-C002BD5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357C-9638-49AF-99BF-5652CD89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B0AF-B977-49D2-8ED3-0CBBB3B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7B73-9916-4619-97EA-02BC202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8993-43CA-441C-A680-25BAE25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56A-B7EE-4285-995F-83E3BDF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F115-0EA2-4A18-BF24-7C61C35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A7A0-4183-49B8-916B-AFD3384A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483-969B-49C0-AECE-D86AABB9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90D0-4248-4B36-8EC5-84E72DD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BC5F-F2C0-4281-A3A0-5ADF58C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2F82-A661-42FF-9B3B-7ABB22B4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454D-6958-4672-92EE-8500113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1CC4-2442-40DD-8545-B83F758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CB10-A488-491B-B5BE-1FEA33E0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DB90-1619-4ECD-86B7-D84B3E8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B6BF-7142-4CB9-BA99-E1E20873A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f4e7e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13f9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f4e7e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13f9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89BF-C0EC-4BDA-8410-8657E303B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2866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f02866"/>
                </a:solidFill>
                <a:latin typeface="Garamond"/>
              </a:rPr>
              <a:t>Дорогу осилит идущий,                               а математику мыслящий!”</a:t>
            </a:r>
            <a:endParaRPr b="1" lang="en-US" sz="4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80880" y="1981080"/>
            <a:ext cx="8382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ый случа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Garamond"/>
              </a:rPr>
              <a:t>Отгадайте ребусы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Шар</a:t>
            </a:r>
            <a:r>
              <a:rPr b="0" lang="ru-RU" sz="24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aramond"/>
              </a:rPr>
              <a:t>Луч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5717" t="0" r="40019" b="0"/>
          <a:stretch/>
        </p:blipFill>
        <p:spPr>
          <a:xfrm>
            <a:off x="609480" y="1295280"/>
            <a:ext cx="3657600" cy="16002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2"/>
          <a:srcRect l="5398" t="0" r="22527" b="0"/>
          <a:stretch/>
        </p:blipFill>
        <p:spPr>
          <a:xfrm>
            <a:off x="4952880" y="1371600"/>
            <a:ext cx="3200400" cy="16002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38" name="Picture 4" descr=""/>
          <p:cNvPicPr/>
          <p:nvPr/>
        </p:nvPicPr>
        <p:blipFill>
          <a:blip r:embed="rId3"/>
          <a:srcRect l="5356" t="2105" r="37476" b="1579"/>
          <a:stretch/>
        </p:blipFill>
        <p:spPr>
          <a:xfrm>
            <a:off x="2514600" y="3886200"/>
            <a:ext cx="4103640" cy="19051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ransition>
    <p:wheel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5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457200" y="1981080"/>
            <a:ext cx="8153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    капитан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icture 8"/>
          <p:cNvSpPr/>
          <p:nvPr/>
        </p:nvSpPr>
        <p:spPr>
          <a:xfrm>
            <a:off x="0" y="304920"/>
            <a:ext cx="213372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162920" y="4343400"/>
            <a:ext cx="141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icture 12"/>
          <p:cNvSpPr/>
          <p:nvPr/>
        </p:nvSpPr>
        <p:spPr>
          <a:xfrm>
            <a:off x="685800" y="4419720"/>
            <a:ext cx="1828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7" descr="C:\Documents and Settings\pk1\Мои документы\Учителя\Зотова Н.Ю\19.jpeg"/>
          <p:cNvPicPr/>
          <p:nvPr/>
        </p:nvPicPr>
        <p:blipFill>
          <a:blip r:embed="rId1"/>
          <a:stretch/>
        </p:blipFill>
        <p:spPr>
          <a:xfrm>
            <a:off x="914400" y="48006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Documents and Settings\pk1\Мои документы\Учителя\Зотова Н.Ю\23.jpeg"/>
          <p:cNvPicPr/>
          <p:nvPr/>
        </p:nvPicPr>
        <p:blipFill>
          <a:blip r:embed="rId2"/>
          <a:stretch/>
        </p:blipFill>
        <p:spPr>
          <a:xfrm>
            <a:off x="380880" y="22860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pk1\Мои документы\Учителя\Зотова Н.Ю\25.jpeg"/>
          <p:cNvPicPr/>
          <p:nvPr/>
        </p:nvPicPr>
        <p:blipFill>
          <a:blip r:embed="rId3"/>
          <a:stretch/>
        </p:blipFill>
        <p:spPr>
          <a:xfrm>
            <a:off x="7238880" y="4419720"/>
            <a:ext cx="119088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6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533520" y="182880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месте весело шагать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Picture 6"/>
          <p:cNvSpPr/>
          <p:nvPr/>
        </p:nvSpPr>
        <p:spPr>
          <a:xfrm>
            <a:off x="380880" y="152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2720" y="380880"/>
            <a:ext cx="23814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Picture 6" descr="C:\Documents and Settings\pk1\Мои документы\Учителя\Зотова Н.Ю\26.jpeg"/>
          <p:cNvPicPr/>
          <p:nvPr/>
        </p:nvPicPr>
        <p:blipFill>
          <a:blip r:embed="rId1"/>
          <a:stretch/>
        </p:blipFill>
        <p:spPr>
          <a:xfrm>
            <a:off x="6858000" y="380880"/>
            <a:ext cx="1752480" cy="2133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7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57200" y="1523880"/>
            <a:ext cx="8229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ная лошад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80880" y="3886200"/>
            <a:ext cx="129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505320" y="4648320"/>
            <a:ext cx="1295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238880" y="4724280"/>
            <a:ext cx="1295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Picture 8"/>
          <p:cNvSpPr/>
          <p:nvPr/>
        </p:nvSpPr>
        <p:spPr>
          <a:xfrm>
            <a:off x="6629400" y="152280"/>
            <a:ext cx="1905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6600ff"/>
                </a:solidFill>
                <a:latin typeface="Garamond"/>
              </a:rPr>
              <a:t>У нас сегодня в гостях создатель дифференциального и интегрального исчисления, законов классической механики. Английский физик, математик, член парламента, директор монетного двора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Garamond"/>
              </a:rPr>
              <a:t>Отгадайте, кто он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Garamond"/>
              </a:rPr>
              <a:t>Исаак Ньютон.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19480" y="1957320"/>
            <a:ext cx="270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icture 9"/>
          <p:cNvSpPr/>
          <p:nvPr/>
        </p:nvSpPr>
        <p:spPr>
          <a:xfrm>
            <a:off x="7500960" y="3860640"/>
            <a:ext cx="139212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5" descr="C:\Documents and Settings\pk1\Мои документы\Учителя\Зотова Н.Ю\port055.jpg"/>
          <p:cNvPicPr/>
          <p:nvPr/>
        </p:nvPicPr>
        <p:blipFill>
          <a:blip r:embed="rId1"/>
          <a:stretch/>
        </p:blipFill>
        <p:spPr>
          <a:xfrm>
            <a:off x="2057400" y="1676520"/>
            <a:ext cx="4048200" cy="42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Garamond"/>
              </a:rPr>
              <a:t>Вопросы от Исаака Ньютона. 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1. Как записать число 100 пятью тройками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2. Как разместить 45 кроликов в 9 клетках так, чтобы в каждой их было разное количество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3. Что выражает равенство а + в = в + а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4. Врач прописал больному три укола, через каждые полчаса. Первый укол сделали  в 8 часов. В какое время сделают последний укол?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8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457200" y="1447920"/>
            <a:ext cx="8381880" cy="26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нка за лидер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Picture 10"/>
          <p:cNvSpPr/>
          <p:nvPr/>
        </p:nvSpPr>
        <p:spPr>
          <a:xfrm>
            <a:off x="838080" y="4191120"/>
            <a:ext cx="1447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icture 11"/>
          <p:cNvSpPr/>
          <p:nvPr/>
        </p:nvSpPr>
        <p:spPr>
          <a:xfrm>
            <a:off x="6934320" y="4419720"/>
            <a:ext cx="9712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icture 13"/>
          <p:cNvSpPr/>
          <p:nvPr/>
        </p:nvSpPr>
        <p:spPr>
          <a:xfrm>
            <a:off x="3962520" y="4038480"/>
            <a:ext cx="1600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icture 14"/>
          <p:cNvSpPr/>
          <p:nvPr/>
        </p:nvSpPr>
        <p:spPr>
          <a:xfrm>
            <a:off x="838080" y="304920"/>
            <a:ext cx="1428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1" name="Picture 8" descr="C:\Documents and Settings\pk1\Мои документы\Учителя\Зотова Н.Ю\20.jpeg"/>
          <p:cNvPicPr/>
          <p:nvPr/>
        </p:nvPicPr>
        <p:blipFill>
          <a:blip r:embed="rId1"/>
          <a:stretch/>
        </p:blipFill>
        <p:spPr>
          <a:xfrm>
            <a:off x="6095880" y="3962520"/>
            <a:ext cx="1724040" cy="259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Documents and Settings\pk1\Мои документы\Учителя\Зотова Н.Ю\16.jpeg"/>
          <p:cNvPicPr/>
          <p:nvPr/>
        </p:nvPicPr>
        <p:blipFill>
          <a:blip r:embed="rId2"/>
          <a:stretch/>
        </p:blipFill>
        <p:spPr>
          <a:xfrm>
            <a:off x="1219320" y="4191120"/>
            <a:ext cx="157140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Documents and Settings\pk1\Мои документы\Учителя\Зотова Н.Ю\21.jpeg"/>
          <p:cNvPicPr/>
          <p:nvPr/>
        </p:nvPicPr>
        <p:blipFill>
          <a:blip r:embed="rId3"/>
          <a:stretch/>
        </p:blipFill>
        <p:spPr>
          <a:xfrm>
            <a:off x="7696080" y="228600"/>
            <a:ext cx="97164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Documents and Settings\pk1\Мои документы\Учителя\Зотова Н.Ю\24.jpeg"/>
          <p:cNvPicPr/>
          <p:nvPr/>
        </p:nvPicPr>
        <p:blipFill>
          <a:blip r:embed="rId4"/>
          <a:stretch/>
        </p:blipFill>
        <p:spPr>
          <a:xfrm>
            <a:off x="228600" y="2286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C:\Documents and Settings\pk1\Мои документы\Учителя\Зотова Н.Ю\22.jpeg"/>
          <p:cNvPicPr/>
          <p:nvPr/>
        </p:nvPicPr>
        <p:blipFill>
          <a:blip r:embed="rId5"/>
          <a:stretch/>
        </p:blipFill>
        <p:spPr>
          <a:xfrm>
            <a:off x="4572000" y="4419720"/>
            <a:ext cx="790560" cy="1428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Garamond"/>
              </a:rPr>
              <a:t>Подведение итогов</a:t>
            </a:r>
            <a:endParaRPr b="1" lang="en-US" sz="44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77" name="Picture 3"/>
          <p:cNvSpPr/>
          <p:nvPr/>
        </p:nvSpPr>
        <p:spPr>
          <a:xfrm>
            <a:off x="7620120" y="457200"/>
            <a:ext cx="11048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Picture 5" descr="C:\Documents and Settings\pk1\Мои документы\Учителя\Зотова Н.Ю\5.jpeg"/>
          <p:cNvPicPr/>
          <p:nvPr/>
        </p:nvPicPr>
        <p:blipFill>
          <a:blip r:embed="rId1"/>
          <a:stretch/>
        </p:blipFill>
        <p:spPr>
          <a:xfrm>
            <a:off x="6781680" y="304920"/>
            <a:ext cx="194328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pk1\Мои документы\Учителя\Зотова Н.Ю\18.jpeg"/>
          <p:cNvPicPr/>
          <p:nvPr/>
        </p:nvPicPr>
        <p:blipFill>
          <a:blip r:embed="rId2"/>
          <a:stretch/>
        </p:blipFill>
        <p:spPr>
          <a:xfrm>
            <a:off x="380880" y="3808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C:\Documents and Settings\pk1\Мои документы\Учителя\Зотова Н.Ю\11.jpeg"/>
          <p:cNvPicPr/>
          <p:nvPr/>
        </p:nvPicPr>
        <p:blipFill>
          <a:blip r:embed="rId3"/>
          <a:stretch/>
        </p:blipFill>
        <p:spPr>
          <a:xfrm>
            <a:off x="3124080" y="3200400"/>
            <a:ext cx="2067120" cy="25146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Счастливая случайность выпадает лишь на долю подготовленных умов”  </a:t>
            </a:r>
            <a:br>
              <a:rPr sz="3600"/>
            </a:br>
            <a:r>
              <a:rPr b="0" lang="ru-RU" sz="3600" spc="-1" strike="noStrike">
                <a:solidFill>
                  <a:srgbClr val="c414ab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c414ab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c414ab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c414ab"/>
                </a:solidFill>
                <a:latin typeface="Garamond"/>
              </a:rPr>
              <a:t>	</a:t>
            </a:r>
            <a:r>
              <a:rPr b="0" lang="ru-RU" sz="3600" spc="-1" strike="noStrike">
                <a:solidFill>
                  <a:srgbClr val="c414ab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(Луи Пастер)</a:t>
            </a:r>
            <a:endParaRPr b="1" lang="en-US" sz="36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3809880"/>
            <a:ext cx="876312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Garamond"/>
              </a:rPr>
              <a:t>  “</a:t>
            </a:r>
            <a:r>
              <a:rPr b="1" lang="ru-RU" sz="3200" spc="-1" strike="noStrike">
                <a:solidFill>
                  <a:srgbClr val="cc3399"/>
                </a:solidFill>
                <a:latin typeface="Garamond"/>
              </a:rPr>
              <a:t>Кто смолоду делает и думает сам, тот становится потом надежнее, крепче, умнее”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cc3399"/>
                </a:solidFill>
                <a:latin typeface="Garamond"/>
              </a:rPr>
              <a:t>   (В.Шукшин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Чтобы спорилось нужное дело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Чтобы в жизни не знать неудач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Мы в поход отправляемся смело -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В мир загадок и сложных задач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Не беда, что идти далеко,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Не боимся, что путь будет труден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Достижения крупные людям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14ab"/>
                </a:solidFill>
                <a:latin typeface="Garamond"/>
              </a:rPr>
              <a:t>Никогда не давались легко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Кто победит, кто проиграет-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ас эта тайна донимает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Но мы желаем всем успеха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Счастья, радости и смех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И пусть быстрей кипит борьба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Сильней соревнование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Успех решает не судьба,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А только ваши знания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icture 4"/>
          <p:cNvSpPr/>
          <p:nvPr/>
        </p:nvSpPr>
        <p:spPr>
          <a:xfrm>
            <a:off x="6629400" y="304920"/>
            <a:ext cx="2057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Мы говорим всем дружно,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И здесь сомнений нет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Сегодня будет дружба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Владычицей побед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От болельщиков от всех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Такое пожелание: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Через труд придёт победа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000" spc="-1" strike="noStrike">
                <a:solidFill>
                  <a:srgbClr val="6600ff"/>
                </a:solidFill>
                <a:latin typeface="Garamond"/>
              </a:rPr>
              <a:t>Через труд и знания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1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1. Какова ширина ученической тетради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2. Какова длина парты? </a:t>
            </a: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3. Сколько весит слон? </a:t>
            </a: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4. Определить величину данного угла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Garamond"/>
              </a:rPr>
              <a:t>5. Определить какой отрезок длиннее.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7 см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20 см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от 2 до 7 тон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75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˚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Одинаковы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914400" y="1523880"/>
            <a:ext cx="571500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30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20879 L -0.00087 -0.43746 E">
                                      <p:cBhvr>
                                        <p:cTn id="22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13411 L -0.00017 -0.42266 E">
                                      <p:cBhvr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8 -0.04162 L -0.05243 -0.44231 E">
                                      <p:cBhvr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3792 L 0.03941 -0.40416 E">
                                      <p:cBhvr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2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80880" y="3192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aramond"/>
              </a:rPr>
              <a:t>Каждой команде задаются по 20 вопрос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aramond"/>
              </a:rPr>
              <a:t>За правильный ответ присуждается 1 бал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aramond"/>
              </a:rPr>
              <a:t>Если нет ответа говорить – дальш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icture 6"/>
          <p:cNvSpPr/>
          <p:nvPr/>
        </p:nvSpPr>
        <p:spPr>
          <a:xfrm>
            <a:off x="-228600" y="4194000"/>
            <a:ext cx="2744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990720" y="137160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льше,... дальше,... дальш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3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23" name="Picture 3"/>
          <p:cNvSpPr/>
          <p:nvPr/>
        </p:nvSpPr>
        <p:spPr>
          <a:xfrm>
            <a:off x="6629400" y="3200400"/>
            <a:ext cx="1752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457200" y="1447920"/>
            <a:ext cx="8001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 из боч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Picture 10"/>
          <p:cNvSpPr/>
          <p:nvPr/>
        </p:nvSpPr>
        <p:spPr>
          <a:xfrm>
            <a:off x="685800" y="3581280"/>
            <a:ext cx="1981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icture 11"/>
          <p:cNvSpPr/>
          <p:nvPr/>
        </p:nvSpPr>
        <p:spPr>
          <a:xfrm>
            <a:off x="3962520" y="4114800"/>
            <a:ext cx="173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7" descr="C:\Documents and Settings\pk1\Мои документы\Учителя\Зотова Н.Ю\4.jpeg"/>
          <p:cNvPicPr/>
          <p:nvPr/>
        </p:nvPicPr>
        <p:blipFill>
          <a:blip r:embed="rId3"/>
          <a:stretch/>
        </p:blipFill>
        <p:spPr>
          <a:xfrm>
            <a:off x="457200" y="38098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Documents and Settings\pk1\Мои документы\Учителя\Зотова Н.Ю\i.jpeg"/>
          <p:cNvPicPr/>
          <p:nvPr/>
        </p:nvPicPr>
        <p:blipFill>
          <a:blip r:embed="rId4"/>
          <a:stretch/>
        </p:blipFill>
        <p:spPr>
          <a:xfrm>
            <a:off x="4724280" y="4191120"/>
            <a:ext cx="180972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Garamond"/>
              </a:rPr>
              <a:t>4 Г Е Й М</a:t>
            </a:r>
            <a:endParaRPr b="1" lang="en-US" sz="6000" spc="-1" strike="noStrike">
              <a:solidFill>
                <a:srgbClr val="b13f9a"/>
              </a:solidFill>
              <a:latin typeface="Garamond"/>
            </a:endParaRPr>
          </a:p>
        </p:txBody>
      </p:sp>
      <p:sp>
        <p:nvSpPr>
          <p:cNvPr id="130" name="WordArt 5"/>
          <p:cNvSpPr txBox="1"/>
          <p:nvPr/>
        </p:nvSpPr>
        <p:spPr>
          <a:xfrm rot="345000">
            <a:off x="458280" y="2052720"/>
            <a:ext cx="7772400" cy="27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ы мне, я тебе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Picture 7"/>
          <p:cNvSpPr/>
          <p:nvPr/>
        </p:nvSpPr>
        <p:spPr>
          <a:xfrm>
            <a:off x="6324480" y="533520"/>
            <a:ext cx="2519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icture 8"/>
          <p:cNvSpPr/>
          <p:nvPr/>
        </p:nvSpPr>
        <p:spPr>
          <a:xfrm>
            <a:off x="457200" y="4343400"/>
            <a:ext cx="2438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7" descr="C:\Documents and Settings\pk1\Мои документы\Учителя\Зотова Н.Ю\17.jpeg"/>
          <p:cNvPicPr/>
          <p:nvPr/>
        </p:nvPicPr>
        <p:blipFill>
          <a:blip r:embed="rId1"/>
          <a:stretch/>
        </p:blipFill>
        <p:spPr>
          <a:xfrm>
            <a:off x="609480" y="426708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1-20T22:04:55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