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DF2-8D62-4995-B9FB-1E4AD750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125-7942-43F1-B599-B586E548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741-0DA8-499C-8764-756DB35F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677-FB44-444C-9CEB-36E478BF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DB5-1D96-4C89-9854-D015E1C1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769-4480-49DC-94E7-A30052AD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FB4-6395-4072-8752-4B8949C0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991-AF8D-49B7-AE76-C94C4242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62C-7B70-42C8-8861-D8C98DE0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59D-5729-4D30-B309-164FC73B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002-E294-4B3E-BDC7-E1BBAB2F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D2B-B3B7-474E-8E2C-F97F5FE0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53FF-A618-43C3-90AB-0773468BE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efa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56000" y="2421000"/>
            <a:ext cx="403200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Ж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8ed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404640"/>
            <a:ext cx="7488000" cy="22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 образуются не только при помощ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ффиксов и приставок, но и сложением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ух основ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3141720"/>
            <a:ext cx="2232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ох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4508640"/>
            <a:ext cx="23767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шех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2392560" cy="1589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1644480" cy="203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03280" y="2997360"/>
            <a:ext cx="108108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11a3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2997360"/>
            <a:ext cx="93672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11a3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4365720"/>
            <a:ext cx="1150920" cy="142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11a3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4365720"/>
            <a:ext cx="863640" cy="142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11a3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716280"/>
            <a:ext cx="93492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645000"/>
            <a:ext cx="0" cy="7128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645000"/>
            <a:ext cx="0" cy="7128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3716280"/>
            <a:ext cx="936720" cy="0"/>
          </a:xfrm>
          <a:prstGeom prst="line">
            <a:avLst/>
          </a:prstGeom>
          <a:ln w="5724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645000"/>
            <a:ext cx="0" cy="7128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3573360"/>
            <a:ext cx="0" cy="14292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5084640"/>
            <a:ext cx="107964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5013360"/>
            <a:ext cx="0" cy="7128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5013360"/>
            <a:ext cx="0" cy="71280"/>
          </a:xfrm>
          <a:prstGeom prst="line">
            <a:avLst/>
          </a:prstGeom>
          <a:ln w="5724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5084640"/>
            <a:ext cx="93672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4360" y="5013360"/>
            <a:ext cx="0" cy="7128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4941720"/>
            <a:ext cx="0" cy="14292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2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920" y="549360"/>
            <a:ext cx="8582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ы в сложных словах соединяют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 помощи буквы О или 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6000" y="1773360"/>
            <a:ext cx="21600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1773360"/>
            <a:ext cx="21600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87280" y="2924280"/>
            <a:ext cx="2521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, катит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16000" y="3933720"/>
            <a:ext cx="2735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ыль, сосё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87280" y="508464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вит, мыш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3284640"/>
            <a:ext cx="0" cy="14436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3429000"/>
            <a:ext cx="72072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3357720"/>
            <a:ext cx="0" cy="7128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3284640"/>
            <a:ext cx="0" cy="14436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3429000"/>
            <a:ext cx="57600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3284640"/>
            <a:ext cx="0" cy="14436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788000" y="2852640"/>
            <a:ext cx="180000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ока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48360" y="1916280"/>
            <a:ext cx="1633680" cy="1623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51640" y="3357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4581360"/>
            <a:ext cx="115236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4437000"/>
            <a:ext cx="0" cy="14436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4437000"/>
            <a:ext cx="0" cy="14436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4581360"/>
            <a:ext cx="72072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4437000"/>
            <a:ext cx="0" cy="14436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4508640"/>
            <a:ext cx="0" cy="72720"/>
          </a:xfrm>
          <a:prstGeom prst="line">
            <a:avLst/>
          </a:prstGeom>
          <a:ln w="5724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3141720"/>
            <a:ext cx="504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3640" y="4076640"/>
            <a:ext cx="165600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ылес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5805360"/>
            <a:ext cx="64800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5661000"/>
            <a:ext cx="0" cy="14436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5661000"/>
            <a:ext cx="0" cy="14436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5805360"/>
            <a:ext cx="1008000" cy="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5734080"/>
            <a:ext cx="0" cy="7128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5661000"/>
            <a:ext cx="0" cy="144360"/>
          </a:xfrm>
          <a:prstGeom prst="line">
            <a:avLst/>
          </a:prstGeom>
          <a:ln w="38160">
            <a:solidFill>
              <a:srgbClr val="11a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59280" y="5300640"/>
            <a:ext cx="2376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ышелов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465300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80536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93080" y="3645000"/>
            <a:ext cx="1590480" cy="1403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506600" cy="1130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95640" y="4292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5516640"/>
            <a:ext cx="431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9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58920" y="549360"/>
            <a:ext cx="626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ьте сложные сло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7280" y="206064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ба, лов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58920" y="3213000"/>
            <a:ext cx="26654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ёд, коло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8920" y="4149720"/>
            <a:ext cx="2808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ря, ло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360" y="5445000"/>
            <a:ext cx="266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да, пад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219640" y="206064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бол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35640" y="328464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доко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35640" y="4221000"/>
            <a:ext cx="19447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рел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508720" y="537372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допа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2637000"/>
            <a:ext cx="142920" cy="0"/>
          </a:xfrm>
          <a:prstGeom prst="line">
            <a:avLst/>
          </a:prstGeom>
          <a:ln w="57240">
            <a:solidFill>
              <a:srgbClr val="0d8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3789360"/>
            <a:ext cx="144720" cy="0"/>
          </a:xfrm>
          <a:prstGeom prst="line">
            <a:avLst/>
          </a:prstGeom>
          <a:ln w="57240">
            <a:solidFill>
              <a:srgbClr val="0d8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797360"/>
            <a:ext cx="142920" cy="0"/>
          </a:xfrm>
          <a:prstGeom prst="line">
            <a:avLst/>
          </a:prstGeom>
          <a:ln w="57240">
            <a:solidFill>
              <a:srgbClr val="0d8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5877000"/>
            <a:ext cx="142920" cy="0"/>
          </a:xfrm>
          <a:prstGeom prst="line">
            <a:avLst/>
          </a:prstGeom>
          <a:ln w="57240">
            <a:solidFill>
              <a:srgbClr val="0d8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5:14:44Z</dcterms:created>
  <dc:creator>Добрынина</dc:creator>
  <dc:description/>
  <dc:language>en-US</dc:language>
  <cp:lastModifiedBy>Добрынина</cp:lastModifiedBy>
  <dcterms:modified xsi:type="dcterms:W3CDTF">2012-07-26T05:41:50Z</dcterms:modified>
  <cp:revision>3</cp:revision>
  <dc:subject/>
  <dc:title>Слайд 1</dc:title>
</cp:coreProperties>
</file>