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wmf" ContentType="image/x-wmf"/>
  <Override PartName="/ppt/media/chimes.wav" ContentType="audio/x-wav"/>
  <Override PartName="/ppt/media/image1.jpeg" ContentType="image/jpeg"/>
  <Override PartName="/ppt/media/image6.jpeg" ContentType="image/jpeg"/>
  <Override PartName="/ppt/media/applause.wav" ContentType="audio/x-wav"/>
  <Override PartName="/ppt/media/image2.jpeg" ContentType="image/jpeg"/>
  <Override PartName="/ppt/media/camera.wav" ContentType="audio/x-wav"/>
  <Override PartName="/ppt/media/image7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E0F-C76D-4AEA-81FB-A3E5E307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B7F-FA99-4F35-AB74-4F09746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C2C-6C69-44E4-AC96-248BA079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17F-C11B-4B68-BF2D-AF143F0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6346-D9D8-46CB-9527-0D3E4DA8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3DA3-0A72-4891-987C-33E3A8C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6105-A850-4C0F-BEB7-7BAFB78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887BC-5442-4472-ACF4-7E96C930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99D46-D9E8-4C30-B197-A47F851A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CD988-6480-4C66-A8B5-44F90E0A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C4761-A19E-4765-9DBF-8AE12891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ACF-CC32-40F0-9315-14C58834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BCDA-75D1-4B08-8B47-6A2917F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02C7C-3C34-4CD3-AEAF-6AC2633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D8F7-A7BD-4D03-8ECC-2C2E5552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F809B-C5B8-48F2-9C27-C4CA64BC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8B12B-DDBA-4F78-8B86-A8521E19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F21-0F55-47EE-A709-8FB1361D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007-217A-4355-BBED-BC3F515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31-BE53-483E-BB1F-19A34284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FEC-AFF9-4793-A02F-005D026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966-1FC7-43C6-A624-DC2D207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BF0-4785-4045-83B0-F838AAF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A03-2620-4D91-8FF2-CB18AB8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9872-7CFA-404A-B022-3C7FC4C3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625-BEFE-47CB-ACC1-F5AA66330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cb75"/>
                </a:solidFill>
                <a:latin typeface="Tahoma"/>
              </a:rPr>
              <a:t>СОЦИАЛЬНЫЙ ПРОЕКТ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НАША МЕЧТА</a:t>
            </a:r>
            <a:r>
              <a:rPr b="0" lang="en-US" sz="1400" spc="-1" strike="noStrike">
                <a:solidFill>
                  <a:srgbClr val="6f8406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8406"/>
                </a:solidFill>
                <a:latin typeface="Tahoma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КОМПЛЕКС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СПОРТИВНАЯ ПЛОЩА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СБОР ИНФОРМАЦИИ</a:t>
            </a:r>
            <a:br>
              <a:rPr sz="4000"/>
            </a:b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АНКЕТИРОВАНИЕ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«ЭКСКЛЮЗИВНЫЕ» УГОЛКИ СПОРТИВНОЙ ПЛОЩАД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64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46720" y="1700280"/>
            <a:ext cx="311292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46720" y="4038480"/>
            <a:ext cx="3112920" cy="2343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РАБОТА НАД ДИЗАЙНОМ СПОРТИВНОЙ ПЛОЩАД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264360" cy="4116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ФОРМЛЕНИЕ ПРОЕКТА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905120"/>
            <a:ext cx="6048360" cy="4116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640720" cy="6553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БОСНОВАНИЕ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ПРОЕКТА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ий уровень состояния здоровья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ость учащихся во внеуроч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устроенность дворовых спортивных площа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комплексной спортивной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СОСТОЯНИЕ ЗДОРОВЬЯ УЧАЩИХСЯ</a:t>
            </a:r>
            <a:br>
              <a:rPr sz="3600"/>
            </a:b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 МБОУ «СОШ №17»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844640"/>
          <a:ext cx="82296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96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3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ЗАНЯТОСТЬ УЧАЩИХСЯ</a:t>
            </a:r>
            <a:br>
              <a:rPr sz="3200"/>
            </a:b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ВО ВНЕУРОЧНОЕ ВРЕМЯ</a:t>
            </a:r>
            <a:br>
              <a:rPr sz="3200"/>
            </a:b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МБОУ «СОШ №17»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6560" y="1903320"/>
          <a:ext cx="822168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03320"/>
                    <a:ext cx="82216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ДЕЙСТВИЯ ПО РЕКОНСТРУКЦИИ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ШКОЛЬНОЙ СПОРТИВНОЙ ПЛОЩАДКИ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 И ЭКОНОМИЧЕСКИЙ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РАСЧЁТ.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брать с площадки не нужное оборуд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местить параллельные брусья в кол-ве 2-х штук, перекладины в кол-ве 2-х штук на место будущей игровой спортивной площад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ожить новое покрытие на спортивной площад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менить волейбольные стой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рудовать место для прыжков в длину с разбе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делать полосу препятст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овать зону для метаний в ц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овать игровую спортивную площадку для групп продлённого д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СНОВНАЯ ЦЕЛЬ ПОЛИТИКИ </a:t>
            </a:r>
            <a:br>
              <a:rPr sz="4400"/>
            </a:b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ГОСУДАРСТВА</a:t>
            </a:r>
            <a:br>
              <a:rPr sz="4400"/>
            </a:b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-</a:t>
            </a:r>
            <a:br>
              <a:rPr sz="4400"/>
            </a:b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ОЗДОРОВЛЕНИЕ НАЦИИ,ФОРМИРОВАНИЕ ЗДОРОВОГО ОБРАЗА ЖИЗНИ НАСЕЛЕНИЯ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f8406"/>
                </a:solidFill>
                <a:latin typeface="Tahoma"/>
              </a:rPr>
              <a:t>ОБЩАЯ СТОИМОСТЬ </a:t>
            </a:r>
            <a:br>
              <a:rPr sz="4800"/>
            </a:br>
            <a:r>
              <a:rPr b="1" lang="en-US" sz="4800" spc="-1" strike="noStrike">
                <a:solidFill>
                  <a:srgbClr val="6f8406"/>
                </a:solidFill>
                <a:latin typeface="Tahoma"/>
              </a:rPr>
              <a:t>ПРОЕКТА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6000" spc="-1" strike="noStrike">
                <a:solidFill>
                  <a:srgbClr val="c1cb75"/>
                </a:solidFill>
                <a:latin typeface="Tahoma"/>
              </a:rPr>
              <a:t>800000 руб. 00 коп.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applause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ЗАДАЧИ ПРОЕКТА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b75"/>
                </a:solidFill>
                <a:latin typeface="Tahoma"/>
              </a:rPr>
              <a:t>Воспитание у учащихся потребности в двигательных умениях и навыках в урочное и во внеуроч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b75"/>
                </a:solidFill>
                <a:latin typeface="Tahoma"/>
              </a:rPr>
              <a:t>Воспитание чувства личной причастности к обустройству и перепланировке спортивной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drumroll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f8406"/>
                </a:solidFill>
                <a:latin typeface="Tahoma"/>
              </a:rPr>
              <a:t>ЦЕЛЬ ПРОЕКТА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ФОРМИРОВАНИЕ ИНТЕРЕСА К СИСТЕМАТИЧЕСКИМ ЗАНЯТИЯМ ФИЗИЧЕСКОЙ КУЛЬТУРОЙ И СПОРТОМ И РАСШИРЕНИЕ ЗНАНИЙ УЧАЩИХСЯ ПО ПРЕДМЕТУ «ФИЗИЧЕСКАЯ КУЛЬТУРА»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f8406"/>
                </a:solidFill>
                <a:latin typeface="Tahoma"/>
              </a:rPr>
              <a:t>НАЗНАЧЕНИЕ ПРОЕКТ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c1cb75"/>
                </a:solidFill>
                <a:latin typeface="Tahoma"/>
              </a:rPr>
              <a:t>ПРЕДЛОЖИТЬ НОВЫЕ ОРИГИНАЛЬНЫЕ , ЭКОНОМИЧЕСКИ ВЫГОДНЫЕ ИДЕИ ДЛЯ РЕШЕНИЯ КОМПЛЕКСА ПРОБЛЕМ , СВЯЗАННЫХ С РЕОРГАНИЗАЦИЕЙ СПОРТИВНОЙ ПЛОЩАДКИ ШКОЛЫ , ИСПОЛЬЗОВАНИЕ ПУСТУЮЩИХ ПЛОЩАДЕЙ ШКОЛЬНОГО ДВОРА.</a:t>
            </a: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СОСТАВ УЧЕНИЧЕСКОЙ ПРОЕКТНОЙ ГРУППЫ</a:t>
            </a: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cb75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министратор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Исюк Илья Серге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аботчик ид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Политыкин Сергей    Андре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зайн-менеджер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Григова Наталья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хно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Черкасов Валерий Михайл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ке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Зайцева Екатерина Анатольевна , Мелентьева Марина Эдуард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бор сведений по вопросам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Зуева Ирина Андр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f8406"/>
                </a:solidFill>
                <a:latin typeface="Tahoma"/>
              </a:rPr>
              <a:t>СОСТАВ ПРЕПОДАВАТЕЛЬСКОЙ ПРОЕКТНОЙ ГРУПП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1. </a:t>
            </a:r>
            <a:r>
              <a:rPr b="1" i="1" lang="ru-RU" sz="2800" spc="-1" strike="noStrike">
                <a:solidFill>
                  <a:srgbClr val="c1cb75"/>
                </a:solidFill>
                <a:latin typeface="Tahoma"/>
              </a:rPr>
              <a:t>Руководитель проекта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Зайцева Е.Ю.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     (учитель по ФК) 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2. </a:t>
            </a:r>
            <a:r>
              <a:rPr b="1" i="1" lang="ru-RU" sz="2800" spc="-1" strike="noStrike">
                <a:solidFill>
                  <a:srgbClr val="c1cb75"/>
                </a:solidFill>
                <a:latin typeface="Tahoma"/>
              </a:rPr>
              <a:t>Консультанты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: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цептуальные идеи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Орлова М.А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Воробъёва Т.В.(учителя по ФК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аншафт,картография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Иванина Р.В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(зам.директора по АХЧ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ономические расчёты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Ласый Р.М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(учитель технологии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рганизация пространства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Финогенова С.Ю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(зам.директора по УВР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               Зайцева Е.Ю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(зав. МО учителей по ФК) 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ПЛАН ДЕЙСТВИЙ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Разработка индивидуального стиля спортивной площ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Составление плана по размещению спортив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Анкетирование и сбор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«Эксклюзивные» уголки спортивной площадки(игровая площадка для групп продлённого дня и начальной школ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Экономная перепланировка спортивной площадки(использование уже имеющегося оборудования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ИЗУЧЕНИЕ ЛИТЕРАТУРЫ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905120"/>
            <a:ext cx="6120000" cy="4044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9:18:17Z</dcterms:created>
  <dc:creator> Имя Пользователя</dc:creator>
  <dc:description/>
  <dc:language>en-US</dc:language>
  <cp:lastModifiedBy>Admin</cp:lastModifiedBy>
  <dcterms:modified xsi:type="dcterms:W3CDTF">2012-11-26T18:23:12Z</dcterms:modified>
  <cp:revision>13</cp:revision>
  <dc:subject/>
  <dc:title>СОЦИАЛЬНЫЙ ПРОЕКТ</dc:title>
</cp:coreProperties>
</file>