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wmf" ContentType="image/x-wmf"/>
  <Override PartName="/ppt/media/chimes.wav" ContentType="audio/x-wav"/>
  <Override PartName="/ppt/media/image1.jpeg" ContentType="image/jpeg"/>
  <Override PartName="/ppt/media/image6.jpeg" ContentType="image/jpeg"/>
  <Override PartName="/ppt/media/applause.wav" ContentType="audio/x-wav"/>
  <Override PartName="/ppt/media/image2.jpeg" ContentType="image/jpeg"/>
  <Override PartName="/ppt/media/camera.wav" ContentType="audio/x-wav"/>
  <Override PartName="/ppt/media/image7.jpeg" ContentType="image/jpeg"/>
  <Override PartName="/ppt/media/drumroll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DF2-058F-4516-9195-C17AFD93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01E-07F2-4DE3-B2DD-2547E5D6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748-0F71-4529-A50D-3011D107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E27-33C0-4F80-B9C4-4485985A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A77F5-9F74-4586-B32F-89C2280D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DD2D8-F8F8-47E7-9AB6-EA09C6F9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F908B-A103-4D43-9204-29FB2974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6884D-6181-40CB-BD9C-85A37D57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483C8-1F6B-4C60-B9DF-A73126DB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47D09-787E-4B1D-9BA5-B5935A08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77D5A-0A8D-410E-A777-FAD95625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595-5622-4B0D-9F73-3C4EFB50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0EE23-7354-4C66-A23F-1FC62F92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638DC-FEE3-4C54-9C24-E377CD9D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08840-0BC6-4489-8600-BEA1B164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F3543-F6D3-4E4D-8A44-72A7C0BF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D335A-0DE6-4CE3-A81C-A92679A4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EF2-0614-43A0-8B92-7DA4E3A6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185-F2DC-42BF-98A2-65258842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E41-30EC-405B-8075-195227CD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B26-56EF-4AC5-A186-F2A4FAD5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074-DA0D-498D-ABB7-7282AADB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6A4-F046-4FCB-89FA-65890F5D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C62-34B4-4DF3-992A-6A380402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D8D9-C582-444E-A709-F56C7CB82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F62E-1BA1-46A7-801E-7F5BF7D3A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1cb75"/>
                </a:solidFill>
                <a:latin typeface="Tahoma"/>
              </a:rPr>
              <a:t>СОЦИАЛЬНЫЙ ПРОЕКТ</a:t>
            </a:r>
            <a:endParaRPr b="0" lang="en-US" sz="5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8406"/>
                </a:solidFill>
                <a:latin typeface="Tahoma"/>
              </a:rPr>
              <a:t>НАША МЕЧТА</a:t>
            </a:r>
            <a:r>
              <a:rPr b="0" lang="en-US" sz="1400" spc="-1" strike="noStrike">
                <a:solidFill>
                  <a:srgbClr val="6f8406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8406"/>
                </a:solidFill>
                <a:latin typeface="Tahoma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406"/>
                </a:solidFill>
                <a:latin typeface="Tahoma"/>
              </a:rPr>
              <a:t>КОМПЛЕКС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406"/>
                </a:solidFill>
                <a:latin typeface="Tahoma"/>
              </a:rPr>
              <a:t>СПОРТИВНАЯ ПЛОЩАД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98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498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8406"/>
                </a:solidFill>
                <a:latin typeface="Tahoma"/>
              </a:rPr>
              <a:t>СБОР ИНФОРМАЦИИ</a:t>
            </a:r>
            <a:br>
              <a:rPr sz="4000"/>
            </a:br>
            <a:r>
              <a:rPr b="0" lang="en-US" sz="4000" spc="-1" strike="noStrike">
                <a:solidFill>
                  <a:srgbClr val="6f8406"/>
                </a:solidFill>
                <a:latin typeface="Tahoma"/>
              </a:rPr>
              <a:t>АНКЕТИРОВАНИЕ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4038480" cy="403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4038840" cy="4032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8406"/>
                </a:solidFill>
                <a:latin typeface="Tahoma"/>
              </a:rPr>
              <a:t>«ЭКСКЛЮЗИВНЫЕ» УГОЛКИ СПОРТИВНОЙ ПЛОЩАДКИ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3645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46720" y="1700280"/>
            <a:ext cx="311292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46720" y="4038480"/>
            <a:ext cx="3112920" cy="2343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8406"/>
                </a:solidFill>
                <a:latin typeface="Tahoma"/>
              </a:rPr>
              <a:t>РАБОТА НАД ДИЗАЙНОМ СПОРТИВНОЙ ПЛОЩАДКИ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03280" y="1905120"/>
            <a:ext cx="6264360" cy="4116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f8406"/>
                </a:solidFill>
                <a:latin typeface="Tahoma"/>
              </a:rPr>
              <a:t>ОФОРМЛЕНИЕ ПРОЕКТА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19280" y="1905120"/>
            <a:ext cx="6048360" cy="4116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8640720" cy="65530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f8406"/>
                </a:solidFill>
                <a:latin typeface="Tahoma"/>
              </a:rPr>
              <a:t>ОБОСНОВАНИЕ</a:t>
            </a: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f8406"/>
                </a:solidFill>
                <a:latin typeface="Tahoma"/>
              </a:rPr>
              <a:t>ПРОЕКТА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зкий уровень состояния здоровья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нятость учащихся во внеурочное вр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устроенность дворовых спортивных площад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комплексной спортивной площад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8406"/>
                </a:solidFill>
                <a:latin typeface="Tahoma"/>
              </a:rPr>
              <a:t>СОСТОЯНИЕ ЗДОРОВЬЯ УЧАЩИХСЯ</a:t>
            </a:r>
            <a:br>
              <a:rPr sz="3600"/>
            </a:br>
            <a:r>
              <a:rPr b="0" lang="en-US" sz="3600" spc="-1" strike="noStrike">
                <a:solidFill>
                  <a:srgbClr val="6f8406"/>
                </a:solidFill>
                <a:latin typeface="Tahoma"/>
              </a:rPr>
              <a:t> МБОУ «СОШ №17»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844640"/>
          <a:ext cx="822960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96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  <p:sndAc>
      <p:stSnd>
        <p:snd r:embed="rId3" name="drumroll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406"/>
                </a:solidFill>
                <a:latin typeface="Tahoma"/>
              </a:rPr>
              <a:t>ЗАНЯТОСТЬ УЧАЩИХСЯ</a:t>
            </a:r>
            <a:br>
              <a:rPr sz="3200"/>
            </a:br>
            <a:r>
              <a:rPr b="0" lang="en-US" sz="3200" spc="-1" strike="noStrike">
                <a:solidFill>
                  <a:srgbClr val="6f8406"/>
                </a:solidFill>
                <a:latin typeface="Tahoma"/>
              </a:rPr>
              <a:t>ВО ВНЕУРОЧНОЕ ВРЕМЯ</a:t>
            </a:r>
            <a:br>
              <a:rPr sz="3200"/>
            </a:br>
            <a:r>
              <a:rPr b="0" lang="en-US" sz="3200" spc="-1" strike="noStrike">
                <a:solidFill>
                  <a:srgbClr val="6f8406"/>
                </a:solidFill>
                <a:latin typeface="Tahoma"/>
              </a:rPr>
              <a:t>МБОУ «СОШ №17»</a:t>
            </a:r>
            <a:endParaRPr b="0" lang="en-US" sz="3200" spc="-1" strike="noStrike">
              <a:solidFill>
                <a:srgbClr val="c1cb75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6560" y="1903320"/>
          <a:ext cx="822168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903320"/>
                    <a:ext cx="822168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  <p:sndAc>
      <p:stSnd>
        <p:snd r:embed="rId3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8406"/>
                </a:solidFill>
                <a:latin typeface="Tahoma"/>
              </a:rPr>
              <a:t>ДЕЙСТВИЯ ПО РЕКОНСТРУКЦИИ</a:t>
            </a:r>
            <a:br>
              <a:rPr sz="2400"/>
            </a:br>
            <a:r>
              <a:rPr b="0" lang="en-US" sz="2400" spc="-1" strike="noStrike">
                <a:solidFill>
                  <a:srgbClr val="6f8406"/>
                </a:solidFill>
                <a:latin typeface="Tahoma"/>
              </a:rPr>
              <a:t>ШКОЛЬНОЙ СПОРТИВНОЙ ПЛОЩАДКИ</a:t>
            </a:r>
            <a:br>
              <a:rPr sz="2400"/>
            </a:br>
            <a:r>
              <a:rPr b="0" lang="en-US" sz="2400" spc="-1" strike="noStrike">
                <a:solidFill>
                  <a:srgbClr val="6f8406"/>
                </a:solidFill>
                <a:latin typeface="Tahoma"/>
              </a:rPr>
              <a:t> И ЭКОНОМИЧЕСКИЙ</a:t>
            </a:r>
            <a:br>
              <a:rPr sz="2400"/>
            </a:br>
            <a:r>
              <a:rPr b="0" lang="en-US" sz="2400" spc="-1" strike="noStrike">
                <a:solidFill>
                  <a:srgbClr val="6f8406"/>
                </a:solidFill>
                <a:latin typeface="Tahoma"/>
              </a:rPr>
              <a:t>РАСЧЁТ.</a:t>
            </a:r>
            <a:endParaRPr b="0" lang="en-US" sz="2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брать с площадки не нужное оборуд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еместить параллельные брусья в кол-ве 2-х штук, перекладины в кол-ве 2-х штук на место будущей игровой спортивной площад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ложить новое покрытие на спортивной площад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менить волейбольные стой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орудовать место для прыжков в длину с разбе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делать полосу препятств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рганизовать зону для метаний в це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рганизовать игровую спортивную площадку для групп продлённого д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f8406"/>
                </a:solidFill>
                <a:latin typeface="Tahoma"/>
              </a:rPr>
              <a:t>ОСНОВНАЯ ЦЕЛЬ ПОЛИТИКИ </a:t>
            </a:r>
            <a:br>
              <a:rPr sz="4400"/>
            </a:br>
            <a:r>
              <a:rPr b="0" lang="en-US" sz="4400" spc="-1" strike="noStrike">
                <a:solidFill>
                  <a:srgbClr val="6f8406"/>
                </a:solidFill>
                <a:latin typeface="Tahoma"/>
              </a:rPr>
              <a:t>ГОСУДАРСТВА</a:t>
            </a:r>
            <a:br>
              <a:rPr sz="4400"/>
            </a:b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-</a:t>
            </a:r>
            <a:br>
              <a:rPr sz="4400"/>
            </a:b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ОЗДОРОВЛЕНИЕ НАЦИИ,ФОРМИРОВАНИЕ ЗДОРОВОГО ОБРАЗА ЖИЗНИ НАСЕЛЕНИЯ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f8406"/>
                </a:solidFill>
                <a:latin typeface="Tahoma"/>
              </a:rPr>
              <a:t>ОБЩАЯ СТОИМОСТЬ </a:t>
            </a:r>
            <a:br>
              <a:rPr sz="4800"/>
            </a:br>
            <a:r>
              <a:rPr b="1" lang="en-US" sz="4800" spc="-1" strike="noStrike">
                <a:solidFill>
                  <a:srgbClr val="6f8406"/>
                </a:solidFill>
                <a:latin typeface="Tahoma"/>
              </a:rPr>
              <a:t>ПРОЕКТА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6000" spc="-1" strike="noStrike">
                <a:solidFill>
                  <a:srgbClr val="c1cb75"/>
                </a:solidFill>
                <a:latin typeface="Tahoma"/>
              </a:rPr>
              <a:t>800000 руб. 00 коп.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applause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f8406"/>
                </a:solidFill>
                <a:latin typeface="Tahoma"/>
              </a:rPr>
              <a:t>ЗАДАЧИ ПРОЕКТА</a:t>
            </a: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b75"/>
                </a:solidFill>
                <a:latin typeface="Tahoma"/>
              </a:rPr>
              <a:t>Воспитание у учащихся потребности в двигательных умениях и навыках в урочное и во внеурочное вр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cb75"/>
                </a:solidFill>
                <a:latin typeface="Tahoma"/>
              </a:rPr>
              <a:t>Воспитание чувства личной причастности к обустройству и перепланировке спортивной площад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drumroll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f8406"/>
                </a:solidFill>
                <a:latin typeface="Tahoma"/>
              </a:rPr>
              <a:t>ЦЕЛЬ ПРОЕКТА</a:t>
            </a:r>
            <a:br>
              <a:rPr sz="4800"/>
            </a:br>
            <a:br>
              <a:rPr sz="4800"/>
            </a:br>
            <a:r>
              <a:rPr b="0" lang="en-US" sz="4000" spc="-1" strike="noStrike">
                <a:solidFill>
                  <a:srgbClr val="c1cb75"/>
                </a:solidFill>
                <a:latin typeface="Tahoma"/>
              </a:rPr>
              <a:t>ФОРМИРОВАНИЕ ИНТЕРЕСА К СИСТЕМАТИЧЕСКИМ ЗАНЯТИЯМ ФИЗИЧЕСКОЙ КУЛЬТУРОЙ И СПОРТОМ И РАСШИРЕНИЕ ЗНАНИЙ УЧАЩИХСЯ ПО ПРЕДМЕТУ «ФИЗИЧЕСКАЯ КУЛЬТУРА»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f8406"/>
                </a:solidFill>
                <a:latin typeface="Tahoma"/>
              </a:rPr>
              <a:t>НАЗНАЧЕНИЕ ПРОЕКТА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c1cb75"/>
                </a:solidFill>
                <a:latin typeface="Tahoma"/>
              </a:rPr>
              <a:t>ПРЕДЛОЖИТЬ НОВЫЕ ОРИГИНАЛЬНЫЕ , ЭКОНОМИЧЕСКИ ВЫГОДНЫЕ ИДЕИ ДЛЯ РЕШЕНИЯ КОМПЛЕКСА ПРОБЛЕМ , СВЯЗАННЫХ С РЕОРГАНИЗАЦИЕЙ СПОРТИВНОЙ ПЛОЩАДКИ ШКОЛЫ , ИСПОЛЬЗОВАНИЕ ПУСТУЮЩИХ ПЛОЩАДЕЙ ШКОЛЬНОГО ДВОРА.</a:t>
            </a:r>
            <a:r>
              <a:rPr b="0" lang="en-US" sz="4000" spc="-1" strike="noStrike">
                <a:solidFill>
                  <a:srgbClr val="c1cb75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8406"/>
                </a:solidFill>
                <a:latin typeface="Tahoma"/>
              </a:rPr>
              <a:t>СОСТАВ УЧЕНИЧЕСКОЙ ПРОЕКТНОЙ ГРУППЫ</a:t>
            </a:r>
            <a:r>
              <a:rPr b="0" lang="en-US" sz="3600" spc="-1" strike="noStrike">
                <a:solidFill>
                  <a:srgbClr val="6f840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cb75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дминистратор проек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6f8406"/>
                </a:solidFill>
                <a:latin typeface="Tahoma"/>
              </a:rPr>
              <a:t>Исюк Илья Сергее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работчик иде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6f8406"/>
                </a:solidFill>
                <a:latin typeface="Tahoma"/>
              </a:rPr>
              <a:t>Политыкин Сергей    Андрее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изайн-менеджер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6f8406"/>
                </a:solidFill>
                <a:latin typeface="Tahoma"/>
              </a:rPr>
              <a:t>Григова Наталья Александ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хнолог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6f8406"/>
                </a:solidFill>
                <a:latin typeface="Tahoma"/>
              </a:rPr>
              <a:t>Черкасов Валерий Михайл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нкетирова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6f8406"/>
                </a:solidFill>
                <a:latin typeface="Tahoma"/>
              </a:rPr>
              <a:t>Зайцева Екатерина Анатольевна , Мелентьева Марина Эдуард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бор сведений по вопросам проек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6f8406"/>
                </a:solidFill>
                <a:latin typeface="Tahoma"/>
              </a:rPr>
              <a:t>Зуева Ирина Андре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f8406"/>
                </a:solidFill>
                <a:latin typeface="Tahoma"/>
              </a:rPr>
              <a:t>СОСТАВ ПРЕПОДАВАТЕЛЬСКОЙ ПРОЕКТНОЙ ГРУПП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1. </a:t>
            </a:r>
            <a:r>
              <a:rPr b="1" i="1" lang="ru-RU" sz="2800" spc="-1" strike="noStrike">
                <a:solidFill>
                  <a:srgbClr val="c1cb75"/>
                </a:solidFill>
                <a:latin typeface="Tahoma"/>
              </a:rPr>
              <a:t>Руководитель проекта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– Зайцева Е.Ю.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                          (учитель по ФК) 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2. </a:t>
            </a:r>
            <a:r>
              <a:rPr b="1" i="1" lang="ru-RU" sz="2800" spc="-1" strike="noStrike">
                <a:solidFill>
                  <a:srgbClr val="c1cb75"/>
                </a:solidFill>
                <a:latin typeface="Tahoma"/>
              </a:rPr>
              <a:t>Консультанты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: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цептуальные идеи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– Орлова М.А.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Воробъёва Т.В.(учителя по ФК)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аншафт,картография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– Иванина Р.В.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         (зам.директора по АХЧ)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кономические расчёты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– Ласый Р.М.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             (учитель технологии)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-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рганизация пространства</a:t>
            </a: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– Финогенова С.Ю.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              (зам.директора по УВР)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                                    Зайцева Е.Ю.</a:t>
            </a:r>
            <a:br>
              <a:rPr sz="2800"/>
            </a:br>
            <a:r>
              <a:rPr b="0" lang="ru-RU" sz="2800" spc="-1" strike="noStrike">
                <a:solidFill>
                  <a:srgbClr val="c1cb75"/>
                </a:solidFill>
                <a:latin typeface="Tahoma"/>
              </a:rPr>
              <a:t>                               (зав. МО учителей по ФК) 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8406"/>
                </a:solidFill>
                <a:latin typeface="Tahoma"/>
              </a:rPr>
              <a:t>ПЛАН ДЕЙСТВИЙ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b75"/>
                </a:solidFill>
                <a:latin typeface="Tahoma"/>
              </a:rPr>
              <a:t>Разработка индивидуального стиля спортивной площад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b75"/>
                </a:solidFill>
                <a:latin typeface="Tahoma"/>
              </a:rPr>
              <a:t>Составление плана по размещению спортивного оборуд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b75"/>
                </a:solidFill>
                <a:latin typeface="Tahoma"/>
              </a:rPr>
              <a:t>Анкетирование и сбор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b75"/>
                </a:solidFill>
                <a:latin typeface="Tahoma"/>
              </a:rPr>
              <a:t>«Эксклюзивные» уголки спортивной площадки(игровая площадка для групп продлённого дня и начальной школ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b75"/>
                </a:solidFill>
                <a:latin typeface="Tahoma"/>
              </a:rPr>
              <a:t>Экономная перепланировка спортивной площадки(использование уже имеющегося оборудования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ИЗУЧЕНИЕ ЛИТЕРАТУРЫ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905120"/>
            <a:ext cx="6120000" cy="40449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9:18:17Z</dcterms:created>
  <dc:creator> Имя Пользователя</dc:creator>
  <dc:description/>
  <dc:language>en-US</dc:language>
  <cp:lastModifiedBy>Admin</cp:lastModifiedBy>
  <dcterms:modified xsi:type="dcterms:W3CDTF">2012-11-26T18:23:12Z</dcterms:modified>
  <cp:revision>13</cp:revision>
  <dc:subject/>
  <dc:title>СОЦИАЛЬНЫЙ ПРОЕКТ</dc:title>
</cp:coreProperties>
</file>