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3EC-C7EA-43CA-8F68-0E7D8072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F03-CC4E-42F6-913D-9A95C773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E55-6AF7-4C89-9C93-591377D3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7D6-D5A3-4CC9-9CCF-7D576080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162C-CC2F-484C-87F6-ABCF1859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1E9-C0A2-4276-9780-44F8B66B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73C-0D70-4A3D-B4F1-646D4F18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A651-4174-4BCC-837E-61363645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050E-7B16-4837-A917-8910C9A8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920-37CD-44A0-8783-F742D31C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A29F-FB67-4DFD-9333-07B8296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B08-A3BD-46E7-89ED-802681B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53FB-7953-4CF1-85AF-06F94DD9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3D30-2E9E-453B-8F11-5A15F734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005F-092E-402B-9DAF-91CDA23B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7FCC-6174-42AE-B945-A290C7D3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B8F-DFF3-44C4-A559-7BCF4542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DCB-609F-49AB-A04B-AB6ACEEE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77A-631E-4A55-B0E2-C2758350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D30-4920-461E-A00E-55B4BAEB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3F7-CA7E-4C60-934A-9039AF2B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AB1-93C9-4AB9-857F-8C0E3063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FC2-EAEA-4A17-8B3F-8286E80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92E-05AC-45D2-99D0-A3E0518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2DA7-4D8B-4510-AA48-583634D0DE3D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41F5-A05D-451B-A9D6-387123188170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Тре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6494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Пословицы и поговорк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3809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коси коса, пока роса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не подмажешь - не поедешь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угря в руках не удержишь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сухая ложка рот дерет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скрипит как немазаная телега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пошло дело как по маслу;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что кругло — легко катится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лыжи скользят по погоде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из навощенной нити сеть не сплетешь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колодезная веревка сруб перетирает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ржавый плуг только на пахоте очищается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363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нет такого человека, который хоть бы раз на льду не поскользнулся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4"/>
          <a:stretch/>
        </p:blipFill>
        <p:spPr>
          <a:xfrm>
            <a:off x="5076720" y="292428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176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систематизировать знания,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определение места видов трения в природе</a:t>
            </a:r>
            <a:r>
              <a:rPr b="1" lang="en-US" sz="3200" spc="-1" strike="noStrike">
                <a:solidFill>
                  <a:srgbClr val="8383a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выяснение причин возникновения трени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4152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Блиц-опрос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Что такое сил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Каким прибором измеряют силу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Опишите устройство динамоме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Что такое сила трения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Какая сила удерживает тела на наклонной плоскости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Причины возникновения силы трения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Какие виды трения вы знает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Monotype Corsiva"/>
              </a:rPr>
              <a:t>Кроссворд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7960" y="1628280"/>
            <a:ext cx="3809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ждое слово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заканчивается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на букву «А»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чина изменения скорости тела или его формы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диница массы, содержащая 1000 кг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ука о неживой природе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бор для измерения длины, например длины земельного участка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бор для измерения объема тела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Д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инный и тонкий кусок металла круглого сечения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щество, которое делается эластичным при небольшом нагревании.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личина, характеризующая степень нагретости тела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0"/>
          <a:stretch/>
        </p:blipFill>
        <p:spPr>
          <a:xfrm>
            <a:off x="250920" y="2457360"/>
            <a:ext cx="4105080" cy="2987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Виды тр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175200" cy="22478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048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Как трение помогает добывать огонь?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74552"/>
          <a:stretch/>
        </p:blipFill>
        <p:spPr>
          <a:xfrm>
            <a:off x="1042920" y="2349360"/>
            <a:ext cx="7056360" cy="2880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2421000"/>
            <a:ext cx="287964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1—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растения типа гороха, вьюна, лианы; </a:t>
            </a: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2—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хватательные органы жуков;  </a:t>
            </a: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3 —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лапки птиц; </a:t>
            </a: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4—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хвост обезьяны; </a:t>
            </a: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5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— змея; </a:t>
            </a:r>
            <a:br>
              <a:rPr sz="1800"/>
            </a:b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6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— хобот слона; </a:t>
            </a: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7—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лапки насекомых; </a:t>
            </a: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8—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конечности </a:t>
            </a:r>
            <a:br>
              <a:rPr sz="1800"/>
            </a:b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обезьяны; </a:t>
            </a:r>
            <a:r>
              <a:rPr b="0" i="1" lang="en-US" sz="1800" spc="-1" strike="noStrike">
                <a:solidFill>
                  <a:srgbClr val="404176"/>
                </a:solidFill>
                <a:latin typeface="Times New Roman"/>
              </a:rPr>
              <a:t>9 </a:t>
            </a:r>
            <a:r>
              <a:rPr b="0" lang="en-US" sz="1800" spc="-1" strike="noStrike">
                <a:solidFill>
                  <a:srgbClr val="404176"/>
                </a:solidFill>
                <a:latin typeface="Times New Roman"/>
              </a:rPr>
              <a:t>— рука человека. </a:t>
            </a:r>
            <a:endParaRPr b="0" lang="en-US" sz="1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0" t="13555" r="0" b="0"/>
          <a:stretch/>
        </p:blipFill>
        <p:spPr>
          <a:xfrm rot="10800000">
            <a:off x="3492000" y="620640"/>
            <a:ext cx="5326200" cy="5618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4000" y="981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176"/>
                </a:solidFill>
                <a:latin typeface="Arial"/>
              </a:rPr>
              <a:t>Роль трения в жизни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404176"/>
                </a:solidFill>
                <a:latin typeface="Arial"/>
              </a:rPr>
              <a:t>растений и животных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176"/>
                </a:solidFill>
                <a:latin typeface="Times New Roman"/>
              </a:rPr>
              <a:t>Роль трения в жизни растений и животных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В жизни многих растений трение играет положительную роль. Вот, например, лианы, хмель, горох, бобы и другие вьющиеся растения благодаря трению они цепляются за находящиеся поблизости опоры, удерживаются на них и тянутся к свету. Трение создается за счет того, что стебли многократно обвивают опоры и поэтому очень плотно прилегают к ним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На железной дорог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511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8 августа 1851 года император Николай 1 совершил первую поездку из Петербурга в Москву по железной дороге. Начальник строительства дороги, генерал Клейнмихель, чтобы подчеркнуть торжественность события, приказал первую версту железнодорожного полотна покрасить белой масляной краской. Однако Клейнмихель не учел одного обстоятельства. Он забыл о смазочном действи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масляной краски, уменьшающем трение.— паровоз буксовал. А что было дальше? Жандармы бежали эту версту перед поездом и посыпали песком покрашенные рельсы. Зачем?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3168360" cy="2113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9:57:32Z</dcterms:created>
  <dc:creator>Гузелия</dc:creator>
  <dc:description/>
  <dc:language>en-US</dc:language>
  <cp:lastModifiedBy>Admin</cp:lastModifiedBy>
  <dcterms:modified xsi:type="dcterms:W3CDTF">2012-11-26T19:44:49Z</dcterms:modified>
  <cp:revision>8</cp:revision>
  <dc:subject/>
  <dc:title>Трение полезно или вредно?</dc:title>
</cp:coreProperties>
</file>