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27.jpeg" ContentType="image/jpeg"/>
  <Override PartName="/ppt/media/image13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31.png" ContentType="image/png"/>
  <Override PartName="/ppt/media/image14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16F-1E45-4EF3-8358-46A525E7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65C-84AA-4587-8F87-8BD10933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91537-E54E-4A3F-8DB7-7749F539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DAAA9-0C53-4A64-9CA9-6D53687A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DBA4C-1DCB-4C7E-9D19-76C29D0A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87837-7E21-4891-8F86-45FA368E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AD7A2-2087-454C-8AF8-F5851665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23B78-BA08-40CD-8A36-DF085599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54003-29E6-4407-A2E7-F53E8329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A3164-567A-46F3-8512-ADF5E4D1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1423A-3ABC-4F00-9FBC-C87EE2A5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7C867-89DE-4D99-AA4A-4ACFADB2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1C0-1800-456C-A520-A86205C8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E8FFA-4245-4BF9-87A5-2992AD7C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2CDE3-022F-46CD-B35E-1B2DBE90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8849D-EC30-43E9-8924-A4B75D1A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C4BAB-5FF3-4678-818A-EE671520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3984D-D558-4987-B1C7-1FC32C01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46543-5EC8-4712-AA5A-64F4AADF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CD3AC-0264-43E9-86BF-0BF66873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5F014-F9FC-4253-AB50-F581FECE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BB10B-957C-4D07-B9BC-03A21F89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0362B-B014-4218-8470-DF218653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852-A128-4E92-9020-BC85F679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AC0E3-DCBD-418D-BC08-5F1121F1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CA072-F888-4A2B-B736-C8B07067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C565B-B09C-40BB-B388-F0501567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1B67D-AE0B-40B2-A4F8-25986562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0AC56-0D69-4208-8E61-1C774EC7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B385-4A98-4538-A719-CC265F71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2DD8D-AEA9-49DA-AAEB-4AE363F3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6944A-5D4E-4A53-A4A7-F1B58FAB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82EFC-6019-4905-822F-E6DCC3DA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A4A69-5870-4415-BF7F-B33AA47A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E981-8551-4768-8A4A-B938D0DC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43654-0FC2-4E17-B3A6-C9719469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C8BD8-79CD-4642-B819-406F1500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12F63-ED70-4062-93BC-2A5693DD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0895D-065D-4FDE-A56D-7733238E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47A60-2981-4469-8748-F7754744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B7EE0-DCDC-4EEF-8C9D-A9501553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A175E-8F29-4BE4-B2F0-757557A2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52794-A7EA-4174-AC04-02A43D4C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60906-0814-4817-9977-BD7A096A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3880F-7DC1-45D7-9AEA-3CDEAFC2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01BC-A667-440A-9D71-B8A4C5E3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57881-FEA8-4862-BBB1-63AA55C5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7773B-F925-48DC-885C-D2CEFA9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3F1BE-9AA4-47DE-978E-7FCEF440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3955E-6B50-49BB-8561-5967A47C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B081C-E5DB-491F-9FAD-9101E4F4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A428-79E6-402F-8282-5F13F20A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9070-6107-4CB1-8518-C87140F2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5086-96B2-40AD-95FC-34C567DC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7E4F-ABAE-46AD-ADA8-492C49E0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ADDA-2082-49A0-8198-ECDFB855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F52-0737-4023-9D32-3E57EEA1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CFFB-03A7-4C01-B925-7855F4D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9ED9-3370-4BCA-8420-120A1ED6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0C76-D23E-49A4-AE0C-ED4CB494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9905-FB85-4DCF-B677-47A3383F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8B69-6FB4-4DF1-B356-BFBCAD35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35CA-7ADA-4F19-9D73-959648F1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DFA16-73C3-4964-AB52-971674BC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371C-F338-4A8D-963D-1C6582EB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96051-5B61-474C-8FC9-2320A820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FDBC-4A2C-4A40-B65D-DC9FDA4A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D10-F62A-4906-8C58-A97F313F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B042-3194-4BD4-B806-DF02C0E2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F7B0-46FC-4628-A0A7-E2DBE33C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F567-EEF0-4F61-83FC-7AF7CFC3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A99E-F084-4164-A4C1-8EE267ED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8B36E-3CFC-479C-B26B-2A5D0D52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9670-EFFC-4F74-AE77-1D898CB7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8EDB-105B-47AF-A2D8-A47C8244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BBAB-01D4-4690-8CA8-8B93AC1B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F881-9022-4FB7-9BE5-82FE8E30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386CD-C58E-4E72-AF05-5DECB6F7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5CB-E7BF-4CD7-9FC9-4C505CD9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75231-61CA-4B21-A080-EEBFE122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F9A32-4C5A-4235-91DE-25C9E08C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AAAD-C0F1-4288-ABE1-A19EF644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EF1A-CB19-44D7-8AC9-9250924A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EE865-C51D-4FE8-A8DE-A0410199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727C2-368F-4B3A-92CB-D4616696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9E705-79CD-41F1-9C09-7887CCFE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A2F4-D26F-4D11-84A8-691929E2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1E32C-5681-417E-BB91-67A0C906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2F162-D4AF-45D8-A87F-7F7FB232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3E3-64C0-42CC-8700-01B5B0B5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BCABC-85F1-429E-AC93-39B43E22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16849-8141-46D7-BA68-19BA065C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41EC0-E0AC-462E-A739-5F57B19E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A9C67-E1BC-4009-8833-7C06D4C3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47419-DAB6-49A7-B05A-553A1FDC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86FC6-ECA1-4141-B939-F9581C2B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44400-4B34-45D9-8A45-60E9F125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3AC16-0EA2-424F-89E8-27CF0222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F6145-3F3E-49A3-BA30-1EE6094E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64E90-7357-4ED4-8E9A-4AED1CC3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5A5-B0F8-4164-82F6-D4CE8E66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767E2-0E44-4971-96E2-2EE53748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FB1A5-22A2-4E13-8FE7-A8FF31FC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28AAC-D51F-4A8E-B4E3-18E732DC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132BF-2428-486E-B958-A3E05AD2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63C2B-C544-4B53-BA71-683B6816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BCE86-C39E-4420-976E-82E0F0B5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DA86A-95BA-4393-AE48-B6C9CC19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7446A-E073-4388-879C-A784CA62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13F09-E199-445D-B56E-89A748D1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B93C5-865D-4AC9-9E6B-92DF61E8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6C0-CC68-415B-93E8-130098D9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00E8-3C11-4175-8E10-01EF6EA5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F0FB0-49EE-4464-B4B6-6A1B0A7D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BD608-01D2-4789-9BB8-05954767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A064C-E0F7-4579-93C1-9B75F39E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502F-348C-4EA1-8D9C-D216DA43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1F2A2-141C-43EB-BB47-406B7B91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A3D46-9809-44F7-86B9-AE3E68A4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2FF5B-F50C-4A85-BAEC-2D9540C1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CCEEA-9746-447F-AE59-13409DF7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3C843-68DF-43F0-B30C-17E11884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38D-7A51-44D3-BE72-CB8D1A06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47E5F-82EE-43D4-9CC8-509ABDE3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4E3F0-D188-4BED-991F-B1170A75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6010F-2165-4FEC-8F46-35B272B1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6A562-8F69-43D0-9AFB-AD080D59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3C505-E8DD-495B-A0B1-D7E785CF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EC024-035C-4701-83E2-62C164B2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9ED4B-9882-4CA4-A166-846A2426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272DE-4532-416B-B781-45A56DE4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15B0F-0BEE-42B4-BA3A-37733A88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EF20A-22F4-411A-92D4-569DB16B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480-7C74-4CE1-A851-5BA6D0DA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95BAD-F021-40F7-9EB0-F9BB0042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D83EC-7EDE-48CC-91C9-8F9C1E62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6FE49-8E32-4DB0-96E1-D6156DB4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170D9-FC70-40E5-9D9C-50C0EDFD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E0876-78AB-4D00-A23F-480C26D8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A9026-6C61-4784-AE68-4EF855F7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4BA78-803A-4656-9FEF-5AC63E44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1F7B7-64FC-446E-8808-81061EA9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47C22-4A44-4C22-888D-88A1205E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B959D-2AAF-48E9-948B-B5E17AED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CC43-D30E-40F2-ACB5-1901B6395B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B467-E722-4087-9511-FA760413AB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6142-209E-465B-BEC5-8AAD3FE683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A3AD-F7C1-4212-B5B8-249D7009D7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0581-203A-4A88-90B0-BBF1F18492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2336-2A5E-4542-B4DA-611BC03A5C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A6C3-6F8F-4BDC-9C6A-46F1CDEEB1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00DD-8168-4EC2-8A45-29AF40281A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9EAA-ABFE-42BE-98C6-753E81A926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CDB3-B811-42F5-A96C-812F6B3C6B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C140-735F-49B3-9CEC-572C66F105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753F-249C-44F6-8081-ABAA464D87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wmf"/><Relationship Id="rId20" Type="http://schemas.openxmlformats.org/officeDocument/2006/relationships/image" Target="../media/image22.wmf"/><Relationship Id="rId21" Type="http://schemas.openxmlformats.org/officeDocument/2006/relationships/image" Target="../media/image23.wmf"/><Relationship Id="rId22" Type="http://schemas.openxmlformats.org/officeDocument/2006/relationships/image" Target="../media/image24.wmf"/><Relationship Id="rId23" Type="http://schemas.openxmlformats.org/officeDocument/2006/relationships/image" Target="../media/image25.wmf"/><Relationship Id="rId24" Type="http://schemas.openxmlformats.org/officeDocument/2006/relationships/image" Target="../media/image26.wmf"/><Relationship Id="rId2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множение и деление обыкновенных дроб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1618920" y="4149720"/>
            <a:ext cx="7056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ка 6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ила Зотова Н.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WordArt 9"/>
          <p:cNvSpPr txBox="1"/>
          <p:nvPr/>
        </p:nvSpPr>
        <p:spPr>
          <a:xfrm>
            <a:off x="1332000" y="981000"/>
            <a:ext cx="590544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1065" name="Picture 11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2519640" cy="287964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696080" cy="31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вторить п. 17-19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16 (г, з), 7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Comic Sans MS"/>
              </a:rPr>
              <a:t>Урок сегодня завершён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Comic Sans MS"/>
              </a:rPr>
              <a:t>Но каждый должен знат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Comic Sans MS"/>
              </a:rPr>
              <a:t>Познание, упорство, тру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Comic Sans MS"/>
              </a:rPr>
              <a:t>К успеху в жизни приведу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8" name="Picture 7" descr="ves"/>
          <p:cNvPicPr/>
          <p:nvPr/>
        </p:nvPicPr>
        <p:blipFill>
          <a:blip r:embed="rId1"/>
          <a:stretch/>
        </p:blipFill>
        <p:spPr>
          <a:xfrm>
            <a:off x="611280" y="549360"/>
            <a:ext cx="2025720" cy="2158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Кто ничего не замечает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Тот ничего не изуча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Кто ничего не изучает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Тот вечно хнычет и скуча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4" name="Picture 4" descr="1"/>
          <p:cNvPicPr/>
          <p:nvPr/>
        </p:nvPicPr>
        <p:blipFill>
          <a:blip r:embed="rId1"/>
          <a:stretch/>
        </p:blipFill>
        <p:spPr>
          <a:xfrm>
            <a:off x="755640" y="189000"/>
            <a:ext cx="1400040" cy="1428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1263585272_018681a"/>
          <p:cNvPicPr/>
          <p:nvPr/>
        </p:nvPicPr>
        <p:blipFill>
          <a:blip r:embed="rId2"/>
          <a:stretch/>
        </p:blipFill>
        <p:spPr>
          <a:xfrm>
            <a:off x="7093080" y="5013360"/>
            <a:ext cx="1439640" cy="1390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ЛОТЕРЕ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684360" y="907920"/>
          <a:ext cx="7775280" cy="5500800"/>
        </p:xfrm>
        <a:graphic>
          <a:graphicData uri="http://schemas.openxmlformats.org/drawingml/2006/table">
            <a:tbl>
              <a:tblPr/>
              <a:tblGrid>
                <a:gridCol w="1944720"/>
                <a:gridCol w="2095200"/>
                <a:gridCol w="1981440"/>
                <a:gridCol w="175392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9" name="Picture 103" descr="Рисунок6"/>
          <p:cNvPicPr/>
          <p:nvPr/>
        </p:nvPicPr>
        <p:blipFill>
          <a:blip r:embed="rId1"/>
          <a:stretch/>
        </p:blipFill>
        <p:spPr>
          <a:xfrm>
            <a:off x="6659640" y="907920"/>
            <a:ext cx="1800000" cy="1944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09" descr="Рисунок12"/>
          <p:cNvPicPr/>
          <p:nvPr/>
        </p:nvPicPr>
        <p:blipFill>
          <a:blip r:embed="rId2"/>
          <a:stretch/>
        </p:blipFill>
        <p:spPr>
          <a:xfrm>
            <a:off x="2627280" y="285264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11" descr="Рисунок14"/>
          <p:cNvPicPr/>
          <p:nvPr/>
        </p:nvPicPr>
        <p:blipFill>
          <a:blip r:embed="rId3"/>
          <a:stretch/>
        </p:blipFill>
        <p:spPr>
          <a:xfrm>
            <a:off x="6659640" y="2852640"/>
            <a:ext cx="1800000" cy="1728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13" descr="Рисунок16"/>
          <p:cNvPicPr/>
          <p:nvPr/>
        </p:nvPicPr>
        <p:blipFill>
          <a:blip r:embed="rId4"/>
          <a:stretch/>
        </p:blipFill>
        <p:spPr>
          <a:xfrm>
            <a:off x="4716360" y="450864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16" descr="Рисунок19"/>
          <p:cNvPicPr/>
          <p:nvPr/>
        </p:nvPicPr>
        <p:blipFill>
          <a:blip r:embed="rId5"/>
          <a:stretch/>
        </p:blipFill>
        <p:spPr>
          <a:xfrm>
            <a:off x="2627280" y="907920"/>
            <a:ext cx="2089080" cy="1944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17" descr="Рисунок20"/>
          <p:cNvPicPr/>
          <p:nvPr/>
        </p:nvPicPr>
        <p:blipFill>
          <a:blip r:embed="rId6"/>
          <a:stretch/>
        </p:blipFill>
        <p:spPr>
          <a:xfrm>
            <a:off x="4643280" y="907920"/>
            <a:ext cx="2089440" cy="1944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19" descr="Рисунок22"/>
          <p:cNvPicPr/>
          <p:nvPr/>
        </p:nvPicPr>
        <p:blipFill>
          <a:blip r:embed="rId7"/>
          <a:stretch/>
        </p:blipFill>
        <p:spPr>
          <a:xfrm>
            <a:off x="684360" y="2852640"/>
            <a:ext cx="2016000" cy="1751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20" descr="Рисунок23"/>
          <p:cNvPicPr/>
          <p:nvPr/>
        </p:nvPicPr>
        <p:blipFill>
          <a:blip r:embed="rId8"/>
          <a:stretch/>
        </p:blipFill>
        <p:spPr>
          <a:xfrm>
            <a:off x="684360" y="907920"/>
            <a:ext cx="2016000" cy="1944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21" descr="Рисунок24"/>
          <p:cNvPicPr/>
          <p:nvPr/>
        </p:nvPicPr>
        <p:blipFill>
          <a:blip r:embed="rId9"/>
          <a:stretch/>
        </p:blipFill>
        <p:spPr>
          <a:xfrm>
            <a:off x="4643280" y="2852640"/>
            <a:ext cx="2089440" cy="1728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22" descr="Рисунок25"/>
          <p:cNvPicPr/>
          <p:nvPr/>
        </p:nvPicPr>
        <p:blipFill>
          <a:blip r:embed="rId10"/>
          <a:stretch/>
        </p:blipFill>
        <p:spPr>
          <a:xfrm>
            <a:off x="684360" y="4581360"/>
            <a:ext cx="2016000" cy="18720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24" descr="Рисунок27"/>
          <p:cNvPicPr/>
          <p:nvPr/>
        </p:nvPicPr>
        <p:blipFill>
          <a:blip r:embed="rId11"/>
          <a:stretch/>
        </p:blipFill>
        <p:spPr>
          <a:xfrm>
            <a:off x="2627280" y="4508640"/>
            <a:ext cx="2089080" cy="19447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25" descr="Рисунок28"/>
          <p:cNvPicPr/>
          <p:nvPr/>
        </p:nvPicPr>
        <p:blipFill>
          <a:blip r:embed="rId12"/>
          <a:stretch/>
        </p:blipFill>
        <p:spPr>
          <a:xfrm>
            <a:off x="6659640" y="4508640"/>
            <a:ext cx="1805040" cy="1944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29" descr="Рисунок4"/>
          <p:cNvPicPr/>
          <p:nvPr/>
        </p:nvPicPr>
        <p:blipFill>
          <a:blip r:embed="rId13"/>
          <a:stretch/>
        </p:blipFill>
        <p:spPr>
          <a:xfrm>
            <a:off x="2556000" y="2781360"/>
            <a:ext cx="4176720" cy="20527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30" descr="Рисунок5"/>
          <p:cNvPicPr/>
          <p:nvPr/>
        </p:nvPicPr>
        <p:blipFill>
          <a:blip r:embed="rId14"/>
          <a:stretch/>
        </p:blipFill>
        <p:spPr>
          <a:xfrm>
            <a:off x="2556000" y="2781360"/>
            <a:ext cx="4033800" cy="19447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31" descr="Рисунок6"/>
          <p:cNvPicPr/>
          <p:nvPr/>
        </p:nvPicPr>
        <p:blipFill>
          <a:blip r:embed="rId15"/>
          <a:stretch/>
        </p:blipFill>
        <p:spPr>
          <a:xfrm>
            <a:off x="2556000" y="2781360"/>
            <a:ext cx="4176720" cy="22543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32" descr="Рисунок7"/>
          <p:cNvPicPr/>
          <p:nvPr/>
        </p:nvPicPr>
        <p:blipFill>
          <a:blip r:embed="rId16"/>
          <a:stretch/>
        </p:blipFill>
        <p:spPr>
          <a:xfrm>
            <a:off x="2556000" y="2781360"/>
            <a:ext cx="4249440" cy="2050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33" descr="Рисунок8"/>
          <p:cNvPicPr/>
          <p:nvPr/>
        </p:nvPicPr>
        <p:blipFill>
          <a:blip r:embed="rId17"/>
          <a:stretch/>
        </p:blipFill>
        <p:spPr>
          <a:xfrm>
            <a:off x="2627280" y="2852640"/>
            <a:ext cx="4105440" cy="22320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34" descr="Рисунок9"/>
          <p:cNvPicPr/>
          <p:nvPr/>
        </p:nvPicPr>
        <p:blipFill>
          <a:blip r:embed="rId18"/>
          <a:stretch/>
        </p:blipFill>
        <p:spPr>
          <a:xfrm>
            <a:off x="2627280" y="4508640"/>
            <a:ext cx="3959280" cy="18730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35" descr="Рисунок10"/>
          <p:cNvPicPr/>
          <p:nvPr/>
        </p:nvPicPr>
        <p:blipFill>
          <a:blip r:embed="rId19"/>
          <a:stretch/>
        </p:blipFill>
        <p:spPr>
          <a:xfrm>
            <a:off x="1187280" y="4581360"/>
            <a:ext cx="6500880" cy="1893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36" descr="Рисунок11"/>
          <p:cNvPicPr/>
          <p:nvPr/>
        </p:nvPicPr>
        <p:blipFill>
          <a:blip r:embed="rId20"/>
          <a:stretch/>
        </p:blipFill>
        <p:spPr>
          <a:xfrm>
            <a:off x="2627280" y="4581360"/>
            <a:ext cx="4176720" cy="18720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37" descr="Рисунок12"/>
          <p:cNvPicPr/>
          <p:nvPr/>
        </p:nvPicPr>
        <p:blipFill>
          <a:blip r:embed="rId21"/>
          <a:stretch/>
        </p:blipFill>
        <p:spPr>
          <a:xfrm>
            <a:off x="3203640" y="4581360"/>
            <a:ext cx="4897440" cy="18720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39" descr="Рисунок14"/>
          <p:cNvPicPr/>
          <p:nvPr/>
        </p:nvPicPr>
        <p:blipFill>
          <a:blip r:embed="rId22"/>
          <a:stretch/>
        </p:blipFill>
        <p:spPr>
          <a:xfrm>
            <a:off x="684360" y="2732040"/>
            <a:ext cx="7753320" cy="1751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40" descr="Рисунок15"/>
          <p:cNvPicPr/>
          <p:nvPr/>
        </p:nvPicPr>
        <p:blipFill>
          <a:blip r:embed="rId23"/>
          <a:stretch/>
        </p:blipFill>
        <p:spPr>
          <a:xfrm>
            <a:off x="826920" y="2781360"/>
            <a:ext cx="7704360" cy="17287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41" descr="Рисунок16"/>
          <p:cNvPicPr/>
          <p:nvPr/>
        </p:nvPicPr>
        <p:blipFill>
          <a:blip r:embed="rId24"/>
          <a:stretch/>
        </p:blipFill>
        <p:spPr>
          <a:xfrm>
            <a:off x="755640" y="2781360"/>
            <a:ext cx="7632720" cy="2016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«Умная мысль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488360" cy="45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1. Чтобы умножить 3/5 на 2/3 – нужно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(3*2/5*3 = 6/1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2. Число обратное натуральному – это дробь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(числитель которой равен 1, а знаменатель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– само натуральное число).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3. Чтобы разделить 3/5 на 9/10 - нужно…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(3/5 *10/9 = 2/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4. На нуль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(делить нельзя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5. Чтобы найти число, зная что 20% его равны 60, нужно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(60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20/100 = 30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6. Чтобы найти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¾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от 12 нужно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(12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¾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= 9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5" name="Picture 6" descr="1260863885_kopiya-4-237"/>
          <p:cNvPicPr/>
          <p:nvPr/>
        </p:nvPicPr>
        <p:blipFill>
          <a:blip r:embed="rId1"/>
          <a:stretch/>
        </p:blipFill>
        <p:spPr>
          <a:xfrm>
            <a:off x="250920" y="189000"/>
            <a:ext cx="1368360" cy="1511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0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0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4" descr="1"/>
          <p:cNvPicPr/>
          <p:nvPr/>
        </p:nvPicPr>
        <p:blipFill>
          <a:blip r:embed="rId1"/>
          <a:stretch/>
        </p:blipFill>
        <p:spPr>
          <a:xfrm>
            <a:off x="1258920" y="1916280"/>
            <a:ext cx="6769080" cy="3600360"/>
          </a:xfrm>
          <a:prstGeom prst="rect">
            <a:avLst/>
          </a:prstGeom>
          <a:ln w="0">
            <a:noFill/>
          </a:ln>
        </p:spPr>
      </p:pic>
      <p:sp>
        <p:nvSpPr>
          <p:cNvPr id="1057" name="Rectangle 5"/>
          <p:cNvSpPr/>
          <p:nvPr/>
        </p:nvSpPr>
        <p:spPr>
          <a:xfrm>
            <a:off x="1763640" y="692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«Ипподром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1.  Вычисли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3/8 · 2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(3/4;  3/16;   5/8)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3/4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11/12 ·  8/9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(44/ 57;  1 5/22  ; 22/27)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22/2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1/2 : 3/5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(5/2;  5/6;  6/5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5/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4/7: 1/3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(12/7;  4/21;  13/1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2/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5/11 : 1/6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( 5/66;  66/5;  2 8/1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28/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3/10 : 2/3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(9/21;  0,45;  6/13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0,4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0" fill="hold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50" fill="hold"/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50" fill="hold"/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0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10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0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50" fill="hold"/>
                                        <p:tgtEl>
                                          <p:spTgt spid="10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0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0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50" fill="hold"/>
                                        <p:tgtEl>
                                          <p:spTgt spid="10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7696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2. Решите уравн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1/8 х = 1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1/8;   8;  1/4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2/3 у = 1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2/3;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4/5;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1,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3/5 а = 1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1 3/8;  5/8; 1/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5/8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0,5у = 1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4,  1/4;  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3. Найдит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7/8 от 64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56;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1/56;   1,5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0,2 от 0,8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0,4;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 1,6    0,16;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0,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30% от 5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150;   15;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1,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5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500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5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500"/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50" fill="hold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500"/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0" fill="hold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500"/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450" fill="hold"/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500"/>
                                        <p:tgtEl>
                                          <p:spTgt spid="10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500"/>
                                        <p:tgtEl>
                                          <p:spTgt spid="1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50" fill="hold"/>
                                        <p:tgtEl>
                                          <p:spTgt spid="1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500"/>
                                        <p:tgtEl>
                                          <p:spTgt spid="10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50" fill="hold"/>
                                        <p:tgtEl>
                                          <p:spTgt spid="1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500"/>
                                        <p:tgtEl>
                                          <p:spTgt spid="10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0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50" fill="hold"/>
                                        <p:tgtEl>
                                          <p:spTgt spid="10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4. Найди чис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4/5 которого равны 16.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24; 20; 24/5)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2/3 которого равны 1,8.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2,7; 0,27; 1,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,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3/4  которого равны 15.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30, 20; 1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2% которого равны 4.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100; 200; 5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8% которого равны 32.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400; 30; 8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120% которого равны 240.     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(12; 200; 340)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50" fill="hold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0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0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50" fill="hold"/>
                                        <p:tgtEl>
                                          <p:spTgt spid="10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0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0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450" fill="hold"/>
                                        <p:tgtEl>
                                          <p:spTgt spid="10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0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0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0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450" fill="hold"/>
                                        <p:tgtEl>
                                          <p:spTgt spid="10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0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0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50" fill="hold"/>
                                        <p:tgtEl>
                                          <p:spTgt spid="10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10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10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«Олимпиад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6960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1. Первая автомашина за 5/6 часа проехала 60 км, вторая за 2/3 часа проехала 54 км. Скорость какой автомашины больш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2. Цена книги снизилась с 2,5 р. до 2,3 р. На сколько процентов снизилась цена книг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3" name="Picture 6" descr="6"/>
          <p:cNvPicPr/>
          <p:nvPr/>
        </p:nvPicPr>
        <p:blipFill>
          <a:blip r:embed="rId1"/>
          <a:stretch/>
        </p:blipFill>
        <p:spPr>
          <a:xfrm>
            <a:off x="5724360" y="4437000"/>
            <a:ext cx="2951280" cy="2016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5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10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100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4:44:27Z</dcterms:created>
  <dc:creator>Даша</dc:creator>
  <dc:description/>
  <dc:language>en-US</dc:language>
  <cp:lastModifiedBy>атто</cp:lastModifiedBy>
  <dcterms:modified xsi:type="dcterms:W3CDTF">2012-11-19T17:39:16Z</dcterms:modified>
  <cp:revision>46</cp:revision>
  <dc:subject/>
  <dc:title>Умножение и деление обыкновенных дробей</dc:title>
</cp:coreProperties>
</file>