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5C7-0F45-4A3E-BD82-EAF96BEC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D9D-53B0-4CCC-AD95-C3FC8055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AAC-EEC2-47F9-95CB-42A6D60D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CDD-B0A3-4F96-A3F8-59B243EF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540-A12C-4ABE-A433-1FAE2979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36F-20D9-45D9-BD59-CA09463F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0FA-689D-44F2-A26C-1ACC7395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455-90AC-4374-B058-5044AFD5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840-B68A-4169-B2F1-C353FBA9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270-1627-45A5-B02E-74C668F7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A42-FA8F-4849-AE25-B5411F95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1F2-297D-4E53-9485-844952B9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0957-E1BC-44FC-BEBA-6C60FEAD81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-274680" y="706320"/>
            <a:ext cx="92962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Пользователь\Desktop\открытый урок\для групп\время суток 1 и 2\лунная ночь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Рассвет -лет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Пользователь\Desktop\пейзаж\2 пейзаж утро.pn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Monotype Corsiva"/>
              </a:rPr>
              <a:t>Ясный летний пол</a:t>
            </a: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ден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Пользователь\Desktop\пейзаж\3 пейзаж день.pn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Летний зака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Пользователь\Desktop\пейзаж\5 пейзаж вечер.png"/>
          <p:cNvPicPr/>
          <p:nvPr/>
        </p:nvPicPr>
        <p:blipFill>
          <a:blip r:embed="rId1"/>
          <a:stretch/>
        </p:blipFill>
        <p:spPr>
          <a:xfrm>
            <a:off x="1357200" y="1285920"/>
            <a:ext cx="63579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Лунная летняя ноч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Пользователь\Desktop\пейзаж\6 пейзаж ночь.png"/>
          <p:cNvPicPr/>
          <p:nvPr/>
        </p:nvPicPr>
        <p:blipFill>
          <a:blip r:embed="rId1"/>
          <a:stretch/>
        </p:blipFill>
        <p:spPr>
          <a:xfrm>
            <a:off x="1000080" y="10717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1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11:57Z</dcterms:created>
  <dc:creator>Пользователь</dc:creator>
  <dc:description/>
  <dc:language>en-US</dc:language>
  <cp:lastModifiedBy>Пользователь</cp:lastModifiedBy>
  <dcterms:modified xsi:type="dcterms:W3CDTF">2012-04-26T16:51:04Z</dcterms:modified>
  <cp:revision>5</cp:revision>
  <dc:subject/>
  <dc:title>Времена года</dc:title>
</cp:coreProperties>
</file>