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BE6-073A-400B-ACF3-26FEF7CD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BF1-02A8-4214-A6E2-164F0C0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A77-AC48-4C23-970F-72CA2591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9C5-5909-4B7F-8CC2-05E2ADF4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CAA45-EC23-4A4B-A464-0C3B4BE7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D062-10EB-45C7-AA1D-46BE43E3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AF765-CD27-407D-ABD6-542DE3D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AD456-67DA-4D9F-9668-9D463C75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FC91A-B266-437F-8948-14BD624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CDFC-DA22-4211-97B7-EC586D3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01E6C-F91C-4424-940C-494E9954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3C4-96A1-4A9A-A1F9-AE45BDE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C01F-B6FE-4A59-9212-55ADC0BB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D17B4-9D27-4B5C-9FC7-C7D1835A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9D5EF-CC22-4174-9465-B80E802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3873B-E33C-420C-A55B-A00773AB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0EE6C-3BCA-4541-B1C7-B4D81A96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E73-D69C-4A80-B8E4-91F145BC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B34-CC4E-4C32-AD11-397D08B5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5AB-D56A-4AD4-B6F8-34BC4225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C34-3AAF-4112-8147-1634303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C24-8DBE-4D62-B100-4135EED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87-BB57-4A1F-AB07-58882D0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288-0A35-410D-92FA-7374985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F937-D851-4EFD-85AC-EB97857AC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682E-4494-4433-8583-3ACFC2A60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692280"/>
            <a:ext cx="7993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Environmental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Protection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istening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77868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908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1280" y="0"/>
            <a:ext cx="7632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MEMBER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8007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throw the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 litter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 it in a rubbish b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break plants and baby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paint on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leave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wast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 ecolog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e energy and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‘t dump chemical waste into 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aper, not pla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created this video because I wanted to show people that we are the ones who are causing environmental pollution and that we should be the first ones to stop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metask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9 p. 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what you would like to do for improving the environmental situation in this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oose the best way to define thes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765000"/>
          <a:ext cx="9144000" cy="6039000"/>
        </p:xfrm>
        <a:graphic>
          <a:graphicData uri="http://schemas.openxmlformats.org/drawingml/2006/table">
            <a:tbl>
              <a:tblPr/>
              <a:tblGrid>
                <a:gridCol w="1758960"/>
                <a:gridCol w="7385040"/>
              </a:tblGrid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Dirty water, air and atmospher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Making water, air, atmosphere dirty and dangerou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and animals to live i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People who make water, air and atmosphere dirty and dangerou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air, water and land in which people, animals and plants liv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organization that wants to protect the natural worl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Something that we do to prevent air and water pollutio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Plants growing in some area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Part of medicine that helps people to lead a healthy lif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atural balance between plants, animals, people and their environment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Find out the English equivalents to the following Russian words and expressions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be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es of animals and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ollute na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ut tree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rotect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mical 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live among litter and 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lant tr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d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k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pred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l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1267920"/>
            <a:ext cx="417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живые су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ды животных и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грязнять естественную среду обит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рубать дере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щищать прир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имические отх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жить среди мусора и от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ажать дере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к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хлопн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едная 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ать про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вож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4175280" cy="2863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809880" cy="26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467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51280" y="3414600"/>
            <a:ext cx="5578560" cy="344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218200" cy="3373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8974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014640"/>
            <a:ext cx="5124600" cy="3843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03680" y="3357720"/>
            <a:ext cx="5440320" cy="3749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4579920" cy="3056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UBB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21080" cy="3183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STIC BA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200400" cy="3848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700360" y="304812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rd-formation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at the words and form nouns from these verbs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3671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ol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estr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orga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red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xp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ommun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6720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rd-formation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at the words and form adjectives from these nouns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898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773360"/>
            <a:ext cx="3898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15:04Z</dcterms:created>
  <dc:creator>USER</dc:creator>
  <dc:description/>
  <dc:language>en-US</dc:language>
  <cp:lastModifiedBy>Домашний компьютер</cp:lastModifiedBy>
  <dcterms:modified xsi:type="dcterms:W3CDTF">2012-11-26T16:10:40Z</dcterms:modified>
  <cp:revision>12</cp:revision>
  <dc:subject/>
  <dc:title>Слайд 1</dc:title>
</cp:coreProperties>
</file>