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139-440F-4815-B6A0-CFE05B4A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362-BC81-4245-AEB8-7C428EE4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022-1A32-4806-989C-8CF54A6A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142-E15A-4A55-AC29-19FFECE6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56442-D7E2-482A-816F-50EC254B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20577-A24A-401B-8714-E06711A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C6429-8A2C-4478-A9A4-D31FF7C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DCF74-02C9-4833-92C7-B41B78D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4425-CF71-4DD2-9C39-AC376F92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C00E9-51CE-463E-B86F-BC8D9B3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15A37-6C61-453D-90B6-393FDA4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DE8-25F5-4098-945D-D210AD03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7E27-7551-4E2E-83C8-9C176A4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C0F3-147B-4B24-943A-52BDD50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26265-545C-42B6-902A-74CAE638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25ADA-6B11-4666-AD53-22284F2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F29E2-D68E-411A-8CA9-DA380A50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5FE-6249-4EF9-8083-27F1AAD4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86B-B2E1-4828-A6B7-F09618F0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C49-5AA0-4744-BD3B-0BE88357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1AD-54E9-48AE-AB0D-1E42D5D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87F-0B4D-4390-BDDD-6A4DEA61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A43-3B52-401E-A118-E5373DB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681-FDC8-4050-B55F-8072D4B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B9E6-CCA2-4D68-957D-0A06AE31FF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DE9B-A7E0-41D0-9392-8552FB97F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692280"/>
            <a:ext cx="7993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Environmental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Protection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istening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77868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908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1280" y="0"/>
            <a:ext cx="7632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MEMBER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80074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throw the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 litter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 it in a rubbish b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er break plants and baby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paint on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leave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wast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 ecologic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e energy and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‘t dump chemical waste into 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paper, not pla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created this video because I wanted to show people that we are the ones who are causing environmental pollution and that we should be the first ones to stop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metask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9 p. 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what you would like to do for improving the environmental situation in this t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oose the best way to define thes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765000"/>
          <a:ext cx="9144000" cy="6039000"/>
        </p:xfrm>
        <a:graphic>
          <a:graphicData uri="http://schemas.openxmlformats.org/drawingml/2006/table">
            <a:tbl>
              <a:tblPr/>
              <a:tblGrid>
                <a:gridCol w="1758960"/>
                <a:gridCol w="7385040"/>
              </a:tblGrid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Dirty water, air and atmospher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Making water, air, atmosphere dirty and dangerou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and animals to live i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People who make water, air and atmosphere dirty and dangerou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air, water and land in which people, animals and plants liv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organization that wants to protect the natural worl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Something that we do to prevent air and water pollutio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Plants growing in some area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Part of medicine that helps people to lead a healthy lif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atural balance between plants, animals, people and their environment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Find out the English equivalents to the following Russian words and expressions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be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es of animals and bi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ollute na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ut trees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rotect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mical w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live among litter and wa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lant tr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d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k 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pred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la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1267920"/>
            <a:ext cx="417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живые су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ды животных и пт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грязнять естественную среду обит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рубать дере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щищать прир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имические отх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жить среди мусора и от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ажать дере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кая при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хлопн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едная 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лать про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вож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4175280" cy="2863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809880" cy="26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467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51280" y="3414600"/>
            <a:ext cx="5578560" cy="344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218200" cy="3373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8974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014640"/>
            <a:ext cx="5124600" cy="3843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03680" y="3357720"/>
            <a:ext cx="5440320" cy="3749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4579920" cy="3056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UBBI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21080" cy="3183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STIC BA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200400" cy="3848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700360" y="304812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ord-formation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at the words and form nouns from these verbs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36716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ol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estr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orga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red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expl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ommuni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6720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ord-formation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at the words and form adjectives from these nouns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898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773360"/>
            <a:ext cx="3898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15:04Z</dcterms:created>
  <dc:creator>USER</dc:creator>
  <dc:description/>
  <dc:language>en-US</dc:language>
  <cp:lastModifiedBy>Домашний компьютер</cp:lastModifiedBy>
  <dcterms:modified xsi:type="dcterms:W3CDTF">2012-11-26T16:10:40Z</dcterms:modified>
  <cp:revision>12</cp:revision>
  <dc:subject/>
  <dc:title>Слайд 1</dc:title>
</cp:coreProperties>
</file>