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2356C-73B6-4CD5-976B-45A77796F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46EC6-D2D2-4574-A598-8D4C253B5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F47F0-ADA5-4D5E-941E-B13839794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3069B-6C66-4FD6-B34C-2E301F16D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EDCC3-AB15-4728-B8C0-2C0EC4E6B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488FF-6857-4ACF-A22D-E1289A45F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00AF1-2DA1-4211-8A24-F63245A6A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AF5DB-A2D9-4558-A599-AA2B49C21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5F8BF-60D6-40B9-8176-CE7C07745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7CD70-103F-4EBA-ADBD-4310F7F46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0F71A-00C9-4EDD-A5DA-870ED5A20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53B9A-BF62-4BC6-A7C7-F9A8BD7A4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C9782-C7E3-4704-A4D5-A19835303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55F8F-0324-4230-8373-6D26EB0CC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42B22-4BCC-48EA-B2DB-CD6C52262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A9B08-428C-4014-A041-777714CDC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45564-7927-406D-A90C-7F1266791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D50881-633C-41BA-85E3-97E3FA2FA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A8B771-8046-49E2-9C53-6E76EC5C4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084564-E1E2-4DD3-B841-646280857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9D6305-28A8-4CFD-8DD8-B2F4A232D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D3B668-21F8-4177-B3AB-306DA3117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172C8-88D8-408A-8E40-C179BA08B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F8B690-6C77-476D-9E48-EFEA4A4F0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C2D52F-26C6-4C0A-B7D6-5DE1DF343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D553F1-FD9D-4225-9941-0DB0F0F8B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56E4F2-2B95-482A-9D7F-D0DC2AABA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4C1E0D-3671-4009-87DB-A8B21BA2F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4BD9B0-F9F9-4A17-9BEE-C679501E1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7987F6-E57F-4B4B-B790-50C76DAD7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99226E-B0CE-4B0E-A576-7F5125A84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F902B2-FFE3-4F61-9E87-C108FED6C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861C61-B53E-44F1-9209-891564664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786F6-D875-488A-AA5D-359B93DBF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08758D-AFEF-40A8-8713-57584D561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BBCD8A-3BC9-4973-9FAE-9FD377596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3BA796-14A1-41D4-8F4D-444B1EDDC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F802FA-316D-4997-9A13-B7FA00959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2E0B59-1BA6-4F52-95CA-FA1C999D7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B4C64D-7B77-4FA4-B89B-39FCFD98D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DEC2B0-7503-46C8-AF73-26CCBD925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4FD4E6-75C7-4AB9-9C6D-901546711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E07178-EF91-4A8A-8AA8-7D482FB7A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7D4D83-1EBF-4814-AC6B-34EA1E3AD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4518C-5772-40AF-87E3-B8F0E0C3F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8208F6-99FC-4E16-8B64-EBDB88D19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844DF4-4BDE-4B15-874C-ED7FCCD94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2F8320-599E-4F72-A02C-9912C3130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E76942-6831-48B1-A149-CD45EC8BF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4ED474-07D6-4401-8632-88E0EC065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F12C43-E3A5-4A93-A8CF-60CC4B9F1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6E0F70-2BF0-404B-B857-4FF3D1E37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E15D92-58BE-4966-822F-E58913E33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BC0099-FC94-49CB-93FD-6172823B6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133F1C-A2E9-4A34-8A8A-AE7D1A635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2AB58-0EB0-40D1-B757-5FF48DED6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A8BB6E-FCA7-4F84-8CCD-D8DF09BB3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7F405B-061C-48AE-B9A3-5B9E4F3E0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F00B69-0BF4-45D0-800E-A08C063C4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57ABE0-CB2A-42BD-8C45-8D1435507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BD7402-664B-4051-BA0C-D3A0C09C7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3B601C-5BFF-4035-A791-D4C43C93B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836DDE-E682-4916-B301-9AABD532B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766998-54E0-41DF-BF91-E6BB56673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3E3FA3-E144-43AF-944B-FEE16B01F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73E271-5BD2-4115-8124-A8DDBE6A0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E87B3-A345-4E17-98E4-6844486EF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EA87DF-8C6A-45E5-9669-73577085D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25CEBC-D1A2-4BBB-97F1-89EAC9381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B7B2DE-3C69-4489-A1BC-3706E3DAA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66B6A0-841F-4A4D-95C8-01AA7E842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BA30C5-4457-45A1-8723-2D70D0943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8C4C3A-B2E8-4D6B-9AA0-16016781E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D28DF5-BBA9-420C-9F1F-F00B87F35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8DE3B2-1E88-4576-B291-8407EC324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02AC01-98AE-428F-A91C-265B0DC35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3276E4-598D-45EF-B902-D52C10249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CC615-E9CC-4DF0-9F2D-F07EEB7B9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04EA47-BF52-4954-894B-45087AC90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0B0837-0181-488F-B5D8-D2DFFAC50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F3952F-C3B1-458D-A491-A0F10853A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BBD8CB-E26C-4422-AB10-5F3D8E31E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7ADEBB-C3D8-4503-8A42-F724A08B8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5F9BD-AEB8-47C2-8483-3A9E3C568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7E5A2-5BB5-400C-81DE-797905DE03A0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D220F-715D-4939-8DE9-420195B3DB81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99864-2283-4FAA-A125-FA58608A2489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A39BC-3CC3-4A7B-A26A-7A8D2E330FFD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985D7-3305-462A-9FFF-85E2EEDC9B84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E256A-DCFE-4A90-906F-ED2570606BCA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F52E4-B661-4950-899B-15DE17A4EC61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28840" y="928440"/>
            <a:ext cx="7407360" cy="27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Corbel"/>
              </a:rPr>
              <a:t>Сравнение </a:t>
            </a:r>
            <a:br>
              <a:rPr sz="6600"/>
            </a:br>
            <a:r>
              <a:rPr b="1" lang="ru-RU" sz="6600" spc="-1" strike="noStrike">
                <a:solidFill>
                  <a:srgbClr val="000000"/>
                </a:solidFill>
                <a:latin typeface="Corbel"/>
              </a:rPr>
              <a:t>смешанных чисел</a:t>
            </a:r>
            <a:endParaRPr b="0" lang="en-US" sz="6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428840" y="4214880"/>
            <a:ext cx="7407360" cy="171432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rbel"/>
              </a:rPr>
              <a:t>Жолобов Павел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700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rbel"/>
              </a:rPr>
              <a:t>6 б класс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700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rbel"/>
              </a:rPr>
              <a:t>539 школа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3550"/>
                            </p:stCondLst>
                            <p:childTnLst>
                              <p:par>
                                <p:cTn id="1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4850"/>
                            </p:stCondLst>
                            <p:childTnLst>
                              <p:par>
                                <p:cTn id="2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431720" y="360000"/>
            <a:ext cx="74070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rbel"/>
              </a:rPr>
              <a:t>Смешанная дробь 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orbel"/>
              </a:rPr>
              <a:t>всегда больше любой правильной дроби. </a:t>
            </a:r>
            <a:endParaRPr b="0" lang="en-US" sz="44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subTitle"/>
          </p:nvPr>
        </p:nvSpPr>
        <p:spPr>
          <a:xfrm>
            <a:off x="1500120" y="4071960"/>
            <a:ext cx="7407360" cy="221472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70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Правильная дробь, по определению, меньше 1, поэтому смешанная дробь (имеющая в своем составе число, равное или больше 1) больше правильной дроби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70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2" name="Object 2"/>
              <p:cNvSpPr txBox="1"/>
              <p:nvPr/>
            </p:nvSpPr>
            <p:spPr>
              <a:xfrm>
                <a:off x="4429080" y="2857680"/>
                <a:ext cx="1357200" cy="14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 spd="med">
    <p:random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85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Из двух смешанных дробей больше (меньше) та, у которой целая часть дроби больше (меньше). </a:t>
            </a:r>
            <a:endParaRPr b="0" lang="en-US" sz="24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1357200" y="3571920"/>
            <a:ext cx="7407360" cy="128592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При равенстве целых частей смешанных дробей больше (меньше) та дробь, у которой больше (меньше) дробная часть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70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5" name="Object 2"/>
              <p:cNvSpPr txBox="1"/>
              <p:nvPr/>
            </p:nvSpPr>
            <p:spPr>
              <a:xfrm>
                <a:off x="2786040" y="1357200"/>
                <a:ext cx="1209600" cy="197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6" name="Object 3"/>
              <p:cNvSpPr txBox="1"/>
              <p:nvPr/>
            </p:nvSpPr>
            <p:spPr>
              <a:xfrm>
                <a:off x="2643120" y="4809960"/>
                <a:ext cx="1143000" cy="192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7" name="Object 6"/>
              <p:cNvSpPr txBox="1"/>
              <p:nvPr/>
            </p:nvSpPr>
            <p:spPr>
              <a:xfrm>
                <a:off x="5143680" y="1357200"/>
                <a:ext cx="1071360" cy="182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8" name="Object 7"/>
              <p:cNvSpPr txBox="1"/>
              <p:nvPr/>
            </p:nvSpPr>
            <p:spPr>
              <a:xfrm>
                <a:off x="4000680" y="1571760"/>
                <a:ext cx="776160" cy="142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⟩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9" name="Object 8"/>
              <p:cNvSpPr txBox="1"/>
              <p:nvPr/>
            </p:nvSpPr>
            <p:spPr>
              <a:xfrm>
                <a:off x="4714920" y="4876920"/>
                <a:ext cx="1127160" cy="18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0" name="Object 9"/>
              <p:cNvSpPr txBox="1"/>
              <p:nvPr/>
            </p:nvSpPr>
            <p:spPr>
              <a:xfrm>
                <a:off x="4000680" y="5000760"/>
                <a:ext cx="571320" cy="15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⟨</m:t>
                    </m:r>
                  </m:oMath>
                </a14:m>
              </a:p>
            </p:txBody>
          </p:sp>
        </mc:Choice>
        <mc:Fallback/>
      </mc:AlternateContent>
    </p:spTree>
  </p:cSld>
  <p:transition spd="med">
    <p:random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2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000"/>
                            </p:stCondLst>
                            <p:childTnLst>
                              <p:par>
                                <p:cTn id="6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520" cy="57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4000" spc="-1" strike="noStrike">
                <a:solidFill>
                  <a:srgbClr val="000000"/>
                </a:solidFill>
                <a:latin typeface="Corbel"/>
              </a:rPr>
              <a:t>Чтобы сравнить  дроби с разными знаменателями, надо:   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orbel"/>
              </a:rPr>
              <a:t> 1) привести данные дроби к наименьшему общему знаменателю;   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orbel"/>
              </a:rPr>
              <a:t> 2) сравнить полученные дроби.    </a:t>
            </a:r>
            <a:br>
              <a:rPr sz="4000"/>
            </a:br>
            <a:br>
              <a:rPr sz="3900"/>
            </a:b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</p:spTree>
  </p:cSld>
  <p:transition spd="med">
    <p:random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4" dur="80"/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72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1,-57,-11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5" dur="80"/>
                                        <p:tgtEl>
                                          <p:spTgt spid="3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72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1,-57,-11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" dur="80"/>
                                        <p:tgtEl>
                                          <p:spTgt spid="3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213920" y="571320"/>
            <a:ext cx="7572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rbel"/>
              </a:rPr>
              <a:t>Пример: сравнить                  и </a:t>
            </a:r>
            <a:br>
              <a:rPr sz="4000"/>
            </a:b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3" name="Object 2"/>
              <p:cNvSpPr txBox="1"/>
              <p:nvPr/>
            </p:nvSpPr>
            <p:spPr>
              <a:xfrm>
                <a:off x="6215040" y="214200"/>
                <a:ext cx="785880" cy="116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4" name="Object 3"/>
              <p:cNvSpPr txBox="1"/>
              <p:nvPr/>
            </p:nvSpPr>
            <p:spPr>
              <a:xfrm>
                <a:off x="7929720" y="214200"/>
                <a:ext cx="785520" cy="116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35" name="Прямоугольник 5"/>
          <p:cNvSpPr/>
          <p:nvPr/>
        </p:nvSpPr>
        <p:spPr>
          <a:xfrm>
            <a:off x="1500120" y="1357200"/>
            <a:ext cx="45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К (12; 18)=36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Прямоугольник 6"/>
          <p:cNvSpPr/>
          <p:nvPr/>
        </p:nvSpPr>
        <p:spPr>
          <a:xfrm>
            <a:off x="1071720" y="2000160"/>
            <a:ext cx="771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ые части равны, сравним дробные част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7" name="Object 4"/>
              <p:cNvSpPr txBox="1"/>
              <p:nvPr/>
            </p:nvSpPr>
            <p:spPr>
              <a:xfrm>
                <a:off x="2286000" y="2643120"/>
                <a:ext cx="1257480" cy="92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8" name="Object 5"/>
              <p:cNvSpPr txBox="1"/>
              <p:nvPr/>
            </p:nvSpPr>
            <p:spPr>
              <a:xfrm>
                <a:off x="5857920" y="2643120"/>
                <a:ext cx="1255680" cy="92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9" name="Object 6"/>
              <p:cNvSpPr txBox="1"/>
              <p:nvPr/>
            </p:nvSpPr>
            <p:spPr>
              <a:xfrm>
                <a:off x="4071960" y="3500280"/>
                <a:ext cx="1357200" cy="113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den>
                    </m:f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40" name="Прямоугольник 10"/>
          <p:cNvSpPr/>
          <p:nvPr/>
        </p:nvSpPr>
        <p:spPr>
          <a:xfrm>
            <a:off x="2786040" y="5500800"/>
            <a:ext cx="171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чит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1" name="Object 7"/>
              <p:cNvSpPr txBox="1"/>
              <p:nvPr/>
            </p:nvSpPr>
            <p:spPr>
              <a:xfrm>
                <a:off x="5975280" y="5000760"/>
                <a:ext cx="1927440" cy="13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  <m:r>
                      <m:t xml:space="preserve">1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 spd="med">
    <p:random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2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1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2500"/>
                            </p:stCondLst>
                            <p:childTnLst>
                              <p:par>
                                <p:cTn id="1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7" dur="80"/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72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1,-57,-11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8" dur="80"/>
                                        <p:tgtEl>
                                          <p:spTgt spid="3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72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1,-57,-11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9" dur="80"/>
                                        <p:tgtEl>
                                          <p:spTgt spid="3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2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356840" y="257148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orbel"/>
              </a:rPr>
              <a:t>Спасибо за внимание!</a:t>
            </a:r>
            <a:endParaRPr b="0" lang="en-US" sz="4800" spc="-1" strike="noStrike">
              <a:solidFill>
                <a:srgbClr val="572314"/>
              </a:solidFill>
              <a:latin typeface="Corbel"/>
            </a:endParaRPr>
          </a:p>
        </p:txBody>
      </p:sp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1T11:41:46Z</dcterms:created>
  <dc:creator>Ирина</dc:creator>
  <dc:description/>
  <dc:language>en-US</dc:language>
  <cp:lastModifiedBy>Ирина</cp:lastModifiedBy>
  <dcterms:modified xsi:type="dcterms:W3CDTF">2012-11-23T16:18:00Z</dcterms:modified>
  <cp:revision>16</cp:revision>
  <dc:subject/>
  <dc:title>Слайд 1</dc:title>
</cp:coreProperties>
</file>