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779-3649-4B4A-BAA4-FD629627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DC9-02F1-4122-A07B-BADD48E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7AE-C485-48DA-9DDF-C60102BF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3B9-EC9B-48F2-9E86-C7487C0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29C5-76BE-4832-A614-378C362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C65-ACCF-411D-94FD-065E833F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9050-DEC7-450A-85D4-44EA42A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EDE0-327E-4369-BBAD-659A93B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23E1-FF5D-47FE-95F6-2320B00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F5D-DC90-4AE3-B55E-C3A6848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20B3-B0F4-4C7E-A393-1A54891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F8C-C612-4AB0-A7D7-E2DE22D0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F6E9-37F6-4D35-9038-AF66DDC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51C9-E11A-44E5-9CDC-296B39D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179-5B89-4423-A370-73506A2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955E-44B5-44E7-8B93-049D0C6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5A93-133C-4D04-95F8-16DBB25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532A-DEC5-4D22-A436-ACAEFF6D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E5D4-815E-4BCA-A4E5-1515A2F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A16B-AECA-409D-BB13-A941FC0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3AB4-8E2C-4156-BAC1-E4F05CD4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CF77-FA79-454E-B6D9-F764499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616-927F-49CA-A151-22A8F09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DCFD-481D-4660-8759-0063F57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1208-039C-4B91-BDC5-37B61507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D066-3A4A-4FDC-8C26-215A51B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750D-EAAC-4CA8-86EA-2E1D47F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EC62-C6D0-43C7-8E7A-22CCA01E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BDA8-DE88-4441-A19F-69A282DD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BBEC-0333-47D4-8E92-3529AFD5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F915-ABFE-4EEF-BA9A-74AC5BC5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A8E1-5DD5-4B0C-A0D7-3CC4BE25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7428-8551-438F-807C-55C926E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65D-301D-4C94-8045-EEF9A45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1431-9545-421A-8244-95DF149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7A15-F0A5-4E40-B9BE-D4BD8D4D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13B4-0584-457B-8CD5-2DCD7679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E4A6-31AE-46DE-AE9A-D649840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C487-57A7-46E7-8EB7-658F9A7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CC8B-81B2-41FD-AE70-CBED44A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A8FF-A2EA-48E5-B518-862276F9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B324-D057-4789-BBCC-1AE6A76D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8840-5CE8-44F3-BCB3-52B080A2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3F66-A4D8-4BE3-A3B3-BA38409C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525-13DE-45DF-9275-F6EA7EA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EFB5-D2A4-4050-A310-15A7760D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57AC-F63F-4848-A81E-3C926AC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3AFB-16A3-4762-A8B1-62D6C38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9550F-EF50-4C29-8598-1E922C2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688C-A7E3-4151-859B-6027376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39094-E804-4319-90A6-AE53532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FB86-B27A-4401-B5CF-310916A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CD29-3F80-4D8B-82D9-3588B59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0FAD-2F5A-4991-9AFE-01162EE1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0FD1-08CB-489E-BAE0-9BF5FD1F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F5F-E53B-4386-919C-D3B0B410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4C0A-B739-41FE-A276-D9887E4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E5A2-4780-49DE-851B-A6728979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4D6B-334C-4ED4-A4DF-8744725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9462A-69CF-4316-8489-716B152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2F61-C312-4664-A822-FE33AC0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50AB9-BFE1-43AE-95AD-92DDB04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DF5B4-DC33-4A15-8CDD-73DA2E0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928C-090A-4E66-8F61-C05DA32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0B5C-99F6-4C5C-9ADD-DF259B1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11CF-EAC0-4352-95C4-8FBF4E7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469-CCC1-466C-90A5-0A9DE93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1106-5BD8-49D3-855A-F8FEB8C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7B95-A1D9-49A4-9D70-3C13F613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6000A-8AA8-4CBF-B1CE-B3EF556A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4C2A-8D88-427F-B3EF-3F581DE3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3B38-37B2-41E8-B9DE-CDDD0C8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4FC5-FB79-4242-B80C-2D6BB00F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B65CA-2A44-4CB2-9D51-0861AAEC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E015-0155-42A6-AF30-91B91BD1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01BC7-7143-4FB8-BAB6-3D23574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CA93-6DBB-4CD4-A6A4-32F2E6C0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6BD-F658-4CED-8D01-80C0072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5BBC-0946-4249-8CAB-85B9386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3164-67A6-4CD8-8A74-CB97791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39B5-EBFD-420A-A9E4-7A008B98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C4DFC-18E6-4644-98BB-31A067E1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5EA17-38AB-4EEE-9E76-2A0CD29B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0F7-EEA0-4649-8F8D-AB9FABC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9CF-03A0-4A36-B1B6-978D77F133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9EF-837B-4965-AE5B-E1C3CFE613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505-4AC7-4D91-9DB4-C3A693360E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4B69-4D80-4E10-B729-3730868E12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B0B-BE1B-44E9-B14B-96A9B0347F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454-8588-4C9E-AFBD-A5F1BB7624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7B8-09A5-4D9F-900E-0208715701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928440"/>
            <a:ext cx="74073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Сравнение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orbel"/>
              </a:rPr>
              <a:t>смешанных чисел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28840" y="4214880"/>
            <a:ext cx="7407360" cy="1714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Жолобов Пав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6 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39 школ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85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Смешанная дроб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всегда больше любой правильной дроби.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500120" y="4071960"/>
            <a:ext cx="7407360" cy="2214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авильная дробь, по определению, меньше 1, поэтому смешанная дробь (имеющая в своем составе число, равное или больше 1) больше правильной дроб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4429080" y="2857680"/>
                <a:ext cx="13572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з двух смешанных дробей больше (меньше) та, у которой целая часть дроби больше (меньше)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7407360" cy="1285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и равенстве целых частей смешанных дробей больше (меньше) та дробь, у которой больше (меньше) дробная ча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2786040" y="1357200"/>
                <a:ext cx="12096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2643120" y="4809960"/>
                <a:ext cx="114300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5143680" y="1357200"/>
                <a:ext cx="107136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4000680" y="1571760"/>
                <a:ext cx="7761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8"/>
              <p:cNvSpPr txBox="1"/>
              <p:nvPr/>
            </p:nvSpPr>
            <p:spPr>
              <a:xfrm>
                <a:off x="4714920" y="4876920"/>
                <a:ext cx="1127160" cy="18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9"/>
              <p:cNvSpPr txBox="1"/>
              <p:nvPr/>
            </p:nvSpPr>
            <p:spPr>
              <a:xfrm>
                <a:off x="4000680" y="5000760"/>
                <a:ext cx="5713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Чтобы сравнить  дроби с разными знаменателями, надо:   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 1) привести данные дроби к наименьшему общему знаменателю;   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 2) сравнить полученные дроби.    </a:t>
            </a:r>
            <a:br>
              <a:rPr sz="4000"/>
            </a:br>
            <a:br>
              <a:rPr sz="39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75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имер: сравнить                  и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6215040" y="214200"/>
                <a:ext cx="7858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7929720" y="214200"/>
                <a:ext cx="785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Прямоугольник 5"/>
          <p:cNvSpPr/>
          <p:nvPr/>
        </p:nvSpPr>
        <p:spPr>
          <a:xfrm>
            <a:off x="1500120" y="13572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 (12; 18)=36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107172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е части равны, сравним дробные ч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2286000" y="2643120"/>
                <a:ext cx="12574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5857920" y="2643120"/>
                <a:ext cx="12556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4071960" y="3500280"/>
                <a:ext cx="13572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Прямоугольник 10"/>
          <p:cNvSpPr/>
          <p:nvPr/>
        </p:nvSpPr>
        <p:spPr>
          <a:xfrm>
            <a:off x="2786040" y="55008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5975280" y="5000760"/>
                <a:ext cx="1927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6840" y="2571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1:41:46Z</dcterms:created>
  <dc:creator>Ирина</dc:creator>
  <dc:description/>
  <dc:language>en-US</dc:language>
  <cp:lastModifiedBy>Ирина</cp:lastModifiedBy>
  <dcterms:modified xsi:type="dcterms:W3CDTF">2012-11-23T16:18:00Z</dcterms:modified>
  <cp:revision>16</cp:revision>
  <dc:subject/>
  <dc:title>Слайд 1</dc:title>
</cp:coreProperties>
</file>