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27B-446E-45B1-9C17-1F62A1E04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5802-D51D-4A6D-A125-0FA712A3FD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1E2E-9FFF-4D91-91A0-35F6C62274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5D3-F22E-4E26-889E-851723C820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B82D-C201-424B-9C11-D995B04000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C868-2499-4BE4-B111-F6F8BDC2CD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F29-81E7-4D6A-8F38-4D9A63E73F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F1B-6186-4BF4-8060-E75B65C6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24B-D0D4-44E4-8B32-56A56048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4B7-9AD7-4186-BD37-60E2B025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B1A-F1B6-4D84-8FD8-E8E55DD0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24D6-82BF-4058-B665-9DCD514E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CE7-D7B1-41AF-BF67-F6C60B4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2F6C-56EB-49F4-B412-058F88B7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9E4-799E-426C-84A4-2545DD9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1FA7-66D8-40C5-8CAE-5BB29FF2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2BDC-2B2D-4956-A77B-61012E99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7D62-5E02-43BE-9B3F-9D90448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260-96E4-4D33-9AB4-7474EBAD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9851-F752-48EB-94A6-2A95F67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E35-F7DD-4113-B33D-FD3466E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77DF-0EEC-47B5-94BD-CA5E083A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DD2-2F3A-4F51-AE03-E3477681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7EE8-6847-476E-B620-260D5EC0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6289-E541-4D20-BA46-1C9EDCED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E4E8-88D2-4D7B-BB06-90443A0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2C90-2267-4342-8557-FD95DCB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2A01-EC9A-4F04-A12B-EA23F43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9F19-4B25-4B90-85DE-562045F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53A-6CDF-40F7-8AA5-C0740232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9532-CD8A-4E13-A541-46B75E22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AB87-1D38-45ED-B4EC-91E350F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8C32-1974-4DC8-979A-72BA896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4AE8-A650-4F32-B411-C4FA2716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06C06-A7C5-4B88-9370-30D31F2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8244-31D3-42E1-9DD0-6D50BF1B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2D83-BD65-4D86-81FE-AADB81B4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0D54-9FA1-4B0D-8A4A-37CC6541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3DEB-C8E6-4F09-BD08-425820EF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2D64-2EF2-4F96-8CEE-BEA8A207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AE4-4137-4CCC-8286-1A27533C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BE9C6-CB12-4451-9D5F-FFD67573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506C-1676-4A0E-AA03-CFF09F1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9FBF-2B68-45BE-A469-862B84B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F19A-FDAC-4164-ABBE-3ED182D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8CA9-9164-4263-B2FE-EDBF687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52A7-9DEC-4056-B0B2-7980030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DCB2-0400-499C-A913-9A2A887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3E94-888D-4330-B770-2CD37500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B79C-4A07-4F70-A0A4-EAA7B461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F97F-1FC2-45D0-A636-9811B67A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A4C-3AA3-4D80-A677-4289E4E0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D0FE-BC16-4763-A74E-92460F2E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2269-0BF5-4F23-9DF1-37CE5939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6F49-EBEF-43BB-B165-D62B7655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0E4D-D7F2-4AD4-9885-68D386A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997A-2509-41E3-8B1E-F08D0E6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453F-D4AB-4E6D-9BF2-40BEE94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C20BF-47F9-48A3-9858-B319016F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A71F-D76C-449F-AF50-F050BB5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CD70-64B4-4555-92FD-195F7F0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950B-42C7-482B-8AAA-AD67F308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7BC-1C94-4626-9073-ED427022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13EF-6F37-4D9A-BE12-14BD6795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7B0F3-B82C-4C19-8F91-A8BA88F7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0C3F-B0F4-4303-8EFC-25E5A9DB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C283-37DE-4F18-BDB5-C54A3C11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03579-1129-444A-B1A9-8E6752A3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61613-B3F4-4C0C-8DA8-5F2FD78F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369B-D98A-45EE-BF1D-FAF4A28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817B-3551-4B28-A157-24BEAFA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DA14-A830-4119-BBD9-812AC552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BCED-D64A-4E50-BE65-8C3EA2A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FAA-6731-4BDC-A947-B492DBA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6877E-F047-4D2E-B275-8DADC11C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E011-B97D-41F4-B3F7-0A92A002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C0C06-865B-41F8-9723-49CB9E7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CE6-8504-4FAB-B4B3-E8D5A7B7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2AC-B6B6-4160-8A04-DF00B85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0B4C-0473-4C21-A70B-62781B2EE99D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0B3B-AC9C-4C8F-B214-5F27B6DB8BD9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1370"/>
            </a:gs>
            <a:gs pos="100000">
              <a:srgbClr val="e35dc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0908-F8C9-495C-85CF-AD03F119F7BA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F84-3459-463B-B2BE-ECE86DE4F99A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723-35FF-4C97-A5A2-B36336FD19CE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b83d6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9FA-15BA-48DB-932D-EAB53A755535}" type="slidenum">
              <a:rPr b="0" lang="ru-RU" sz="1000" spc="-1" strike="noStrike">
                <a:solidFill>
                  <a:srgbClr val="b3aaae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ойся, что не знаешь, -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йся, что не учишься.</a:t>
            </a:r>
            <a:br>
              <a:rPr sz="60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итайская мудрость)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6753240" y="0"/>
            <a:ext cx="2390760" cy="1771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0" y="471492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0" y="2071800"/>
            <a:ext cx="89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м временем можно, распорядится по-разному. Можно «пересидеть», проговорить с соседом, промечтать. А можно использовать его для совершенствования своих способностей. Я думаю, что многие из вас при подготовке домашних заданий ловили себя на мысли о том, что совершенно ничего не запомнили на уроке и дома всё приходится разбирать заново. Выходит - время, потраченное на уроке, прошло даром. А на разбор учебного материала дома придётся затратить ещё больше времени и сил. Хотя можно было бы использовать его для занятий по ду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714760" y="0"/>
            <a:ext cx="2714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нтерес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0" name="Содержимое 4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лез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3" name="Содержимое 3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лож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6" name="Содержимое 3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нятн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9" name="Содержимое 3"/>
          <p:cNvGraphicFramePr/>
          <p:nvPr/>
        </p:nvGraphicFramePr>
        <p:xfrm>
          <a:off x="0" y="1981080"/>
          <a:ext cx="778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778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42920" y="28584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ресурсы (биологические, интеллектуальные и психологические) т.е. потенциальные и актуальные возможности обучения можно определить словом «Могу», а желание учиться - словом «Хочу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т он секрет хорошей успеваемости: хочу, могу и нравится уч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начинаются там, где выпадает какое-либо зве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928960" y="3576600"/>
            <a:ext cx="2800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285840" y="214200"/>
            <a:ext cx="88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лушайтесь к словам выдающегося человека современности академика Дмитрия Лихачёва, который предлагает своеобразную программу для успешной учё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28880" y="2357280"/>
            <a:ext cx="4929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0" y="0"/>
            <a:ext cx="892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нужно всегда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благоприятное время для учения – юность. Именно… в юности ум человека наиболее восприимчив…к изучению языков, к математике, к усвоению просто знаний и развитию эстетическому…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йте не терять время,…не заполняйте …разум мутными потоками глупой и бесцельной “информации”. Берегите себя для учения, для приобретения новых знаний и навыков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 любить учиться и формы отдыха и развлечений выбирать умные, способные также чему-то научить…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робуйте любить все предметы…Если вам что-то не нравится в каком–либо предмете – напрягитесь и постарайтесь найти в нём источник радости – радости приобретения нового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йте стоящие книги, а не просто чтиво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йте историю и литературу...Именно они дают человеку нравственный и эстетический кругозор, делают окружающий мир большим, интересным, излучающим опыт и радость”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  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сь любить учиться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колько полезных советов…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к стать отличником?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ачале, запишите все названия предметов.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, обведите предметы, которые вы не очень-то знаете.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После того, как вы поняли какие же уроки вам нужно учить усерднее, повторите весь прошедший материал.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не только за этот год.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Каждый раз готовьтесь так, будто вы готовитесь к экзамену по этому материалу, даже если он малюсенький. Готовьтесь так, чтобы вы автоматически отвечали на любой вопрос.</a:t>
            </a:r>
            <a:br>
              <a:rPr sz="11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етоды запоминания</a:t>
            </a:r>
            <a:br>
              <a:rPr sz="4600"/>
            </a:b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Чтобы запомнить , например, дату проведения первой Олимпиады в Москве. Все помнят и знают Олимпийского Мишку. Так вот «нарисуйте» в воображении этого симпатягу с датой «1980 год» на животе. Кстати, автором персонажа является книжный иллюстратор Виктор Чижиков. Так что если вы на плече у Мишки представите птичку и условно назовете ее «чиж», то запомните и автора. «Нарисовали» эту картинку?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214800" y="5072040"/>
            <a:ext cx="2790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428760" y="0"/>
            <a:ext cx="85723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им из продолжительных этапов в жизни человека является учёб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я думаю, что вы согласитесь со мной, что это один из важнейших этап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е знает пословицу «Ученье – свет, а не ученье – тьма»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огласен ли ты с этой пословицей? Придумай свой вариант пословиц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ье -  ___________, а неученье - ________________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2"/>
          <p:cNvSpPr/>
          <p:nvPr/>
        </p:nvSpPr>
        <p:spPr>
          <a:xfrm>
            <a:off x="642960" y="57168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 напишите дату на бумаге, тщательно выводя цифры. Посмотрите еще раз на нее внимательно, закройте глаза и отвернитесь. Оживите картинку. Дата должна зрительно «всплыть» сама собой. На первых порах, это придется повторять по нескольку раз. Но потом запоминание пойдет намного быстр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357280" y="4000680"/>
            <a:ext cx="4381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0" y="42876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одно «Но»: все вышеописанные приемы, больше применимы для визуалов. Т.е. для тех, у кого есть склонность именно к зрительному восприятию информации. Тем, кого зрительная память «подводит», даты лучше говорить вслу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643040" y="3000240"/>
            <a:ext cx="5238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1"/>
          <p:cNvSpPr/>
          <p:nvPr/>
        </p:nvSpPr>
        <p:spPr>
          <a:xfrm>
            <a:off x="285840" y="50004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есть трудности с диктантами, и никак не даются правила по русскому языку, то можно попробовать переписывать какой-либо книжный текст, хотя бы по 1-2 страницы в день. В текст вчитываться и вдумываться не обязательно. Здесь «работа» исключительно механическая. Но после, желательно, чтобы кто-нибудь проверил текст на присутствие/отсутствие ошибок. Единственное, что от тебя потребуется, — это внима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214200" y="214200"/>
            <a:ext cx="85726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цеп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«крючка»: надо связать уже имеющуюся информацию с новой с помощью «крючка» — по смыслу, созвучию, цвету, внешнему ви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род знаний»: для хранения разнородной информации можно «выстроить» целый город — вспоминая, мы мысленно путешествуем по не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овое «дерево»: основная мысль — ствол дерева, а от него отходят основные ветви-идеи (не больше семи), затем идут «веточки», также послушные принципу семер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643400" cy="1143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928800" y="3643200"/>
            <a:ext cx="2143080" cy="135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3357720" y="2000160"/>
            <a:ext cx="224784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4"/>
          <a:stretch/>
        </p:blipFill>
        <p:spPr>
          <a:xfrm>
            <a:off x="4857840" y="5643720"/>
            <a:ext cx="2176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0" y="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из самых трудных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елать сразу двадцать де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что ни ч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ть на вс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й час и врем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безделье, и на тру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веселье пять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потеху сладкий ми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олгий час на чтенье книг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сь с удовольствием, отдыхай с пользой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0" y="165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и успехи в школе во многом зависят от того, умеешь ли ты… уч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овать вершины знаний тоже нужно уметь. Познакомься с некоторыми советами успешной уче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бе не хочется писать сочинение? Представь, что ты – знаменитый автор, чьи книги сразу расхватываются, как только они попадают на прилавок магазина, и сейчас ты создаешь очередной бестселл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0" y="357192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что тебе поможет  подготовить задание п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лийскому язы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285840" y="285840"/>
            <a:ext cx="82152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еперь давайте всё-таки ответим на вопрос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ёб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с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4143240" y="135720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онституция (Гл. 2 ст. 43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име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 образ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рантируется общедоступность и бесплатность дошкольного, основного общего и среднего профессионального образования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вправе на конкурсной основе бесплатно получить высшее образовани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83d68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ое общее образова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язатель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Родители или лица, их замещающие, обеспечивают получение детьми основного обще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14200" y="714240"/>
            <a:ext cx="8715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ёба – это право и в то же время – обязанность, и  многие в нашем классе понимают, что это необходимость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85840" y="42876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 очень важно получить не просто образование, а хорошее образова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«хорошее образование»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и ближайшие цели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орошо учиться в 6-9 классах.  Хорошо сдать ГИА. Поступить в 10 класс или в колледж на хорошую специа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сдать ЕГЭ и получить хороший аттестат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ние цели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тупить в престижное учебное заведение, получить работу, сделать карьеру и т.д. В наши дни на рынке труда требуются высококвалифицированные специали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428760" y="35712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что способствует получению хорошего образования в школе?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ые специалисты, хорошее оснащение, старание, прилежание ученика, заинтересованность родителей. Конечно,  хорошая дисциплина на урок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2286000" y="3786120"/>
            <a:ext cx="357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– 45 минут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нь – 6 уроков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неделю - 30 часов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 школьные годы ученик: посещает  12 тысяч уроков,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ется более чем 120 учебниками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ывает более чем 25 тысяч страниц,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ет примерно 25 тысяч школьных звонков…</a:t>
            </a:r>
            <a:br>
              <a:rPr sz="2500"/>
            </a:br>
            <a:br>
              <a:rPr sz="3200"/>
            </a:br>
            <a:br>
              <a:rPr sz="32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857680" y="3857760"/>
            <a:ext cx="3429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8:44:46Z</dcterms:created>
  <dc:creator>Шакиров</dc:creator>
  <dc:description/>
  <dc:language>en-US</dc:language>
  <cp:lastModifiedBy>Admin</cp:lastModifiedBy>
  <dcterms:modified xsi:type="dcterms:W3CDTF">2012-11-27T18:01:47Z</dcterms:modified>
  <cp:revision>49</cp:revision>
  <dc:subject/>
  <dc:title>«Учиться надо ……, чтоб хорошо учиться»</dc:title>
</cp:coreProperties>
</file>