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10.wmf" ContentType="image/x-wmf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79D6-27B4-4DAE-8EAD-2A1CB69AC1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7629-2F49-4EA2-91B8-E84537AFA1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8A76-6291-443F-BA7D-AF797E3C97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6340-ABBD-4A1A-83BD-BE251B7A18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D2E-B173-4687-B4D9-83BC043B9C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094D-9591-4C28-8395-8CFB1A4DB7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EAA6-379F-4729-BF7B-3F10074BA8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B4E-845A-4A92-99E0-5A87A531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825-D8B4-45B9-BACC-47DF3007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988-C971-449D-B3B3-E4A67A61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930-633E-44D0-A1E0-19F2CCE5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ED03-8F5D-4C9F-B25E-FF26E6C6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D5EA-5B76-450B-A2A7-6A9A732B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CF18-10A7-4756-9097-A04A9432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3DF-CA2D-4277-A507-0EF7EB2D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19BB-513E-4BC8-A8C4-88A4F9F5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453D-E1D9-42A2-9996-3AD68F11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F3F1-CC8A-41EC-8BA3-0AB3EC5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CCF-6D86-40F5-A408-1ACC8EC2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C0DA-DC9A-4029-89FC-3CFAA9C4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5DC5-E3B3-49E4-AFE9-D5491A3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96F6-70C0-4621-B32B-E78E5F0E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E2CF-0C54-461A-AA8A-2FBFF508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EF3C-8F74-4D6C-8FF2-0250C659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2293-EB2F-4328-A5D8-ADB64AFC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BE84-A7B6-49CF-8795-2077E525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895B-935B-4785-8F52-122C2437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7C45-C5B9-4BDC-9888-90B17FBB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B054-9A25-4833-BEF4-1BE8FE44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6D0-6C22-4C95-BD32-BA7BB4B1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15F0-D259-41D6-84DB-1152962F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A5D3-AAA0-4692-9DB3-DDA1732D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CE5C-6734-435D-A075-BC5BD028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099D-2124-4A41-A554-6E8E845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AF50-D743-428A-88BF-FD2A2128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B909-ADA7-495B-9C6D-E931ADDD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C6E4-16A3-49BB-9C4E-070B7CEA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E726-306D-43FE-A8FE-9A11A973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663B8-16DC-472E-A778-7CD2055F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8380-0026-4C7C-8C36-CB013F11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721-E1C5-4EE1-B1D9-FA6B103C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A7AF-7371-4146-A624-1C97F5D0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2E05-4CD2-452A-81B2-AC47AD2A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5264B-D83C-4255-AF9F-254CFFC2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4162-8966-44AE-971F-138DAB7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C6A8-F181-45EE-8F33-C94F6714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7229-2768-4D3D-8ED9-A09AB3BD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4FC5-ED6E-4512-9F8A-EE0A1FC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0F55D-5349-44A1-A2E5-7B8B61B1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E2A2-B167-4EBE-AD59-876EA353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D0591-0BEA-40E0-B3EE-2640AA28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B98-C59D-408C-AA68-23F71321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CB35-06D2-414E-A294-4331E5FA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ADDF8-AB0D-4D4B-A71D-B4459D08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ABE35-2027-4FA4-B0B0-DE51106D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A631D-8EC4-4404-BDFF-611D784C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4BA3-B6E9-400F-96DD-F4F67F82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F1621-F76E-4629-85D6-A6114C43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CDDB-F070-470C-9C7D-5FA3A83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8A8F-1904-4998-8D5C-D302C66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68F6-F549-4098-8A2B-0D012F9B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2522-1BD5-4F7C-A596-C647C0C3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451-F28B-4DFC-B252-B24C3AEB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34B43-E885-4E4A-AACC-E346E964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E98B6-4576-4339-8F3F-D5CA14B5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B36E5-69EE-4570-9A5C-1B98D11B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65994-ABBD-4108-8A26-A20FD25C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9CFD3-4762-42CD-A524-05780650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FB3A-56D9-4166-91CD-60E09436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5276-1E49-4271-A23C-04BB5F2E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C7F75-8DD3-475B-918A-D93067B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F45D-512C-4500-A0C7-1C1EFDAF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41380-5A97-4960-A519-A429C7EF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BC7-6F3F-419F-AA59-449A968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3C4D2-9676-44A3-B9DA-DD540C1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B67F0-177A-479C-8D02-CB455588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3FC64-73C1-4BEC-9DEE-87B6DD7B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BFE-EAD4-4675-B38B-B3EB7B4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E8D-A925-4181-AC6B-B7A42DA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C6E-EC4E-45D5-B045-08AAC9C98460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1370"/>
            </a:gs>
            <a:gs pos="100000">
              <a:srgbClr val="e35dc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8937-D969-4007-B459-54803BA8B859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1370"/>
            </a:gs>
            <a:gs pos="100000">
              <a:srgbClr val="e35dc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D5E9-2A30-415D-996D-B65E56E1BEA1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A689-5A05-498D-8084-C42405C4E0CC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B61-11ED-4A97-9749-B85630CA45C9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22D3-AD03-43E7-B955-3F754A35F3FD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бойся, что не знаешь, -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йся, что не учишься.</a:t>
            </a:r>
            <a:br>
              <a:rPr sz="60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итайская мудрость)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6753240" y="0"/>
            <a:ext cx="2390760" cy="1771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0" y="4714920"/>
            <a:ext cx="2928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0" y="2071800"/>
            <a:ext cx="89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м временем можно, распорядится по-разному. Можно «пересидеть», проговорить с соседом, промечтать. А можно использовать его для совершенствования своих способностей. Я думаю, что многие из вас при подготовке домашних заданий ловили себя на мысли о том, что совершенно ничего не запомнили на уроке и дома всё приходится разбирать заново. Выходит - время, потраченное на уроке, прошло даром. А на разбор учебного материала дома придётся затратить ещё больше времени и сил. Хотя можно было бы использовать его для занятий по ду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2714760" y="0"/>
            <a:ext cx="2714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нтересн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0" name="Содержимое 4"/>
          <p:cNvGraphicFramePr/>
          <p:nvPr/>
        </p:nvGraphicFramePr>
        <p:xfrm>
          <a:off x="0" y="1981080"/>
          <a:ext cx="778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78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олезн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3" name="Содержимое 3"/>
          <p:cNvGraphicFramePr/>
          <p:nvPr/>
        </p:nvGraphicFramePr>
        <p:xfrm>
          <a:off x="0" y="1981080"/>
          <a:ext cx="778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78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ложн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6" name="Содержимое 3"/>
          <p:cNvGraphicFramePr/>
          <p:nvPr/>
        </p:nvGraphicFramePr>
        <p:xfrm>
          <a:off x="0" y="1981080"/>
          <a:ext cx="778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78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онятн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9" name="Содержимое 3"/>
          <p:cNvGraphicFramePr/>
          <p:nvPr/>
        </p:nvGraphicFramePr>
        <p:xfrm>
          <a:off x="0" y="1981080"/>
          <a:ext cx="778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78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42920" y="285840"/>
            <a:ext cx="878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и ресурсы (биологические, интеллектуальные и психологические) т.е. потенциальные и актуальные возможности обучения можно определить словом «Могу», а желание учиться - словом «Хочу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от он секрет хорошей успеваемости: хочу, могу и нравится учи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ы начинаются там, где выпадает какое-либо зве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2928960" y="3576600"/>
            <a:ext cx="2800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285840" y="214200"/>
            <a:ext cx="88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лушайтесь к словам выдающегося человека современности академика Дмитрия Лихачёва, который предлагает своеобразную программу для успешной учё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928880" y="2357280"/>
            <a:ext cx="4929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0" y="0"/>
            <a:ext cx="8929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нужно всегда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е благоприятное время для учения – юность. Именно… в юности ум человека наиболее восприимчив…к изучению языков, к математике, к усвоению просто знаний и развитию эстетическому…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йте не терять время,…не заполняйте …разум мутными потоками глупой и бесцельной “информации”. Берегите себя для учения, для приобретения новых знаний и навыков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о любить учиться и формы отдыха и развлечений выбирать умные, способные также чему-то научить…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робуйте любить все предметы…Если вам что-то не нравится в каком–либо предмете – напрягитесь и постарайтесь найти в нём источник радости – радости приобретения нового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йте стоящие книги, а не просто чтиво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йте историю и литературу...Именно они дают человеку нравственный и эстетический кругозор, делают окружающий мир большим, интересным, излучающим опыт и радость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сь любить учиться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колько полезных советов…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к стать отличником?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начале, запишите все названия предметов.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м, обведите предметы, которые вы не очень-то знаете.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После того, как вы поняли какие же уроки вам нужно учить усерднее, повторите весь прошедший материал. 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не только за этот год.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Каждый раз готовьтесь так, будто вы готовитесь к экзамену по этому материалу, даже если он малюсенький. Готовьтесь так, чтобы вы автоматически отвечали на любой вопрос.</a:t>
            </a:r>
            <a:br>
              <a:rPr sz="11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етоды запоминания</a:t>
            </a:r>
            <a:br>
              <a:rPr sz="4600"/>
            </a:b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Чтобы запомнить , например, дату проведения первой Олимпиады в Москве. Все помнят и знают Олимпийского Мишку. Так вот «нарисуйте» в воображении этого симпатягу с датой «1980 год» на животе. Кстати, автором персонажа является книжный иллюстратор Виктор Чижиков. Так что если вы на плече у Мишки представите птичку и условно назовете ее «чиж», то запомните и автора. «Нарисовали» эту картинку?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214800" y="5072040"/>
            <a:ext cx="2790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428760" y="0"/>
            <a:ext cx="857232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им из продолжительных этапов в жизни человека является учёб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я думаю, что вы согласитесь со мной, что это один из важнейших этап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не знает пословицу «Ученье – свет, а не ученье – тьма»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согласен ли ты с этой пословицей? Придумай свой вариант пословиц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ье -  ___________, а неученье - ________________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2"/>
          <p:cNvSpPr/>
          <p:nvPr/>
        </p:nvSpPr>
        <p:spPr>
          <a:xfrm>
            <a:off x="642960" y="57168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ерь напишите дату на бумаге, тщательно выводя цифры. Посмотрите еще раз на нее внимательно, закройте глаза и отвернитесь. Оживите картинку. Дата должна зрительно «всплыть» сама собой. На первых порах, это придется повторять по нескольку раз. Но потом запоминание пойдет намного быстр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357280" y="4000680"/>
            <a:ext cx="4381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"/>
          <p:cNvSpPr/>
          <p:nvPr/>
        </p:nvSpPr>
        <p:spPr>
          <a:xfrm>
            <a:off x="0" y="42876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одно «Но»: все вышеописанные приемы, больше применимы для визуалов. Т.е. для тех, у кого есть склонность именно к зрительному восприятию информации. Тем, кого зрительная память «подводит», даты лучше говорить вслу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643040" y="3000240"/>
            <a:ext cx="5238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1"/>
          <p:cNvSpPr/>
          <p:nvPr/>
        </p:nvSpPr>
        <p:spPr>
          <a:xfrm>
            <a:off x="285840" y="500040"/>
            <a:ext cx="8643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есть трудности с диктантами, и никак не даются правила по русскому языку, то можно попробовать переписывать какой-либо книжный текст, хотя бы по 1-2 страницы в день. В текст вчитываться и вдумываться не обязательно. Здесь «работа» исключительно механическая. Но после, желательно, чтобы кто-нибудь проверил текст на присутствие/отсутствие ошибок. Единственное, что от тебя потребуется, — это внима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214200" y="214200"/>
            <a:ext cx="85726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цеп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«крючка»: надо связать уже имеющуюся информацию с новой с помощью «крючка» — по смыслу, созвучию, цвету, внешнему ви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ород знаний»: для хранения разнородной информации можно «выстроить» целый город — вспоминая, мы мысленно путешествуем по не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ысловое «дерево»: основная мысль — ствол дерева, а от него отходят основные ветви-идеи (не больше семи), затем идут «веточки», также послушные принципу семер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643400" cy="1143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928800" y="3643200"/>
            <a:ext cx="2143080" cy="1357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3"/>
          <a:stretch/>
        </p:blipFill>
        <p:spPr>
          <a:xfrm>
            <a:off x="3357720" y="2000160"/>
            <a:ext cx="2247840" cy="785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4"/>
          <a:stretch/>
        </p:blipFill>
        <p:spPr>
          <a:xfrm>
            <a:off x="4857840" y="5643720"/>
            <a:ext cx="2176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0" y="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 из самых трудных де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делать сразу двадцать д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что ни ч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ть на вс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й час и врем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безделье, и на тру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веселье пять ми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потеху сладкий ми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олгий час на чтенье книг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сь с удовольствием, отдыхай с пользой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0" y="1656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и успехи в школе во многом зависят от того, умеешь ли ты… учи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овать вершины знаний тоже нужно уметь. Познакомься с некоторыми советами успешной учеб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бе не хочется писать сочинение? Представь, что ты – знаменитый автор, чьи книги сразу расхватываются, как только они попадают на прилавок магазина, и сейчас ты создаешь очередной бестселл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0" y="3571920"/>
            <a:ext cx="9144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что тебе поможет  подготовить задание п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лийскому язы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285840" y="285840"/>
            <a:ext cx="82152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теперь давайте всё-таки ответим на вопрос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ёб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ст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4143240" y="1357200"/>
            <a:ext cx="45007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онституция (Гл. 2 ст. 43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имее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 образ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рантируется общедоступность и бесплатность дошкольного, основного общего и среднего профессионального образования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вправе на конкурсной основе бесплатно получить высшее образовани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ое общее образова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язатель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Родители или лица, их замещающие, обеспечивают получение детьми основного общего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14200" y="714240"/>
            <a:ext cx="8715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ёба – это право и в то же время – обязанность, и  многие в нашем классе понимают, что это необходимость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85840" y="428760"/>
            <a:ext cx="885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стоящее время очень важно получить не просто образование, а хорошее образова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«хорошее образование»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и ближайшие цели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орошо учиться в 6-9 классах.  Хорошо сдать ГИА. Поступить в 10 класс или в колледж на хорошую специа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сдать ЕГЭ и получить хороший аттестат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ние цели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тупить в престижное учебное заведение, получить работу, сделать карьеру и т.д. В наши дни на рынке труда требуются высококвалифицированные специалис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428760" y="35712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что способствует получению хорошего образования в школе?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ые специалисты, хорошее оснащение, старание, прилежание ученика, заинтересованность родителей. Конечно,  хорошая дисциплина на урок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2286000" y="3786120"/>
            <a:ext cx="357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– 45 минут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ень – 6 уроков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неделю - 30 часов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 школьные годы ученик: посещает  12 тысяч уроков,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уется более чем 120 учебниками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ывает более чем 25 тысяч страниц,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шает примерно 25 тысяч школьных звонков…</a:t>
            </a:r>
            <a:br>
              <a:rPr sz="2500"/>
            </a:br>
            <a:br>
              <a:rPr sz="3200"/>
            </a:br>
            <a:br>
              <a:rPr sz="32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857680" y="3857760"/>
            <a:ext cx="3429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8:44:46Z</dcterms:created>
  <dc:creator>Шакиров</dc:creator>
  <dc:description/>
  <dc:language>en-US</dc:language>
  <cp:lastModifiedBy>Admin</cp:lastModifiedBy>
  <dcterms:modified xsi:type="dcterms:W3CDTF">2012-11-27T18:01:47Z</dcterms:modified>
  <cp:revision>49</cp:revision>
  <dc:subject/>
  <dc:title>«Учиться надо ……, чтоб хорошо учиться»</dc:title>
</cp:coreProperties>
</file>