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A58-B76C-47A3-85D0-972A0F9C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B24-96C1-4938-936B-D7CF2281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176-BD83-448D-AEBA-A198882C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8E2-CB67-4270-B689-F152BF40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B74E-6C45-41BB-8316-1375A9E3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5BAB-ED91-4A84-B746-613A7735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D089-2435-4D7A-8E63-F30FDBBE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4611-AE1A-4E13-A882-EDE4A72C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9DDC-3996-4C0B-8BCF-0FA79025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7803-551C-4486-A9AB-096E70A2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F698-5EAD-44F6-80A7-98A824CA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73D-91C7-47E2-8FB4-2F323262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04D0-A215-41C6-9FC1-0242A472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04ED-3381-411A-BD26-65B5D0B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EE47-9141-4FFD-A94C-7DB11F3F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B422-A2CA-4D69-A609-FECA0B5F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9FC6-EA11-4108-A033-C5045098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613-3EEE-478B-9075-83475022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70E-63EA-42EC-A8B3-D5CAC687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17B-FCAA-43F6-BB7E-84F37A10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AD7-2AAF-4D66-8AB9-AC128BCF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36E-7640-4557-B44F-7A0EB4D5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745-C808-49AF-A47F-0672FCE9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938-C880-4EDB-AB48-F4385AF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CD9E-1C6B-4F52-A168-B54BEF12AFE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425E-A045-4948-8696-8C5FD034AF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667640" y="260280"/>
            <a:ext cx="129060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280" y="2789640"/>
            <a:ext cx="871380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сихологическая помощ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 острых стрессовых реакция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Группы пострадавших</a:t>
            </a:r>
            <a:br>
              <a:rPr sz="4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пасатели. Психологи. Медики. Другие специалист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психологической помощ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лактика ПТС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ение профессионального здоровья и профессионального долголе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лактика профвыгор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157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стрые стрессовые реакции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 </a:t>
            </a: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МКБ-10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Острая стрессовая реакция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-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наступает в момент критического инцидента и продолжается не более трех суток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ОСР диагностируется по следующим критериям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переживание тяжелого психического или физического стрес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развитие симптомов непосредственно вслед за этим в течение одного ча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ОСР по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тепени тяжести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подразделяются н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легкую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среднюю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тяжелу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зависимости от двух групп симптомов А и Б.      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9efee"/>
                </a:solidFill>
                <a:latin typeface="Garamond"/>
              </a:rPr>
              <a:t>Диагностика ОСР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Группа 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включает критерии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опасения (беспокойство о будущих неудачах, ощущение волнения, трудности в сосредоточении и др.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моторное напряжение (суетливость, головные боли напряжения, дрожь, невозможность расслабиться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вегетативная гиперактивность (потливость, тахикардия или тахипноэ, эпигастральный дискомфорт, головокружение, сухость во рту и пр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Диагностика ОСР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Группа 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ключает след. симптом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 отход от ожидаемого социального взаимодейств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 сужение вним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 очевидная дезориентиров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 гнев или вербальная агресс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) отчаяние или безнадежность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) неадекватная или бессмысленная гиперактивность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ж) неконтролируемая, крайне тяжелая гру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9efee"/>
                </a:solidFill>
                <a:latin typeface="Garamond"/>
              </a:rPr>
              <a:t>Диагностика ОСР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егкая степень – только симптомы группа 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редняя степень – симптомы гр.А и не менее 2-х симптомов группа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яжелая степень – симптомы группа А и не менее 4-х симптомов группа Б или диссоциативный ступ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9efee"/>
                </a:solidFill>
                <a:latin typeface="Garamond"/>
              </a:rPr>
              <a:t>Диагностика ОСР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и смягчении или устранении стресс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симптомы начинают редуцироваться не ранее, чем через 8 ча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и сохранении стресс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не ранее, чем через 48 ча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172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ереживании кризисной ситуации чаще всего встречаются такие реакции как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ч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роидные реак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грессивное поведе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омоторное возбужд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рвная дрож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па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упо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efee"/>
                </a:solidFill>
                <a:latin typeface="Garamond"/>
                <a:ea typeface="Times New Roman"/>
              </a:rPr>
              <a:t>Острые стрессовые реакци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Ключевые моменты при оказании помощи человеку с ОСР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оставлять человека одного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ать ощущение большей безопас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градить от посторонних зрителей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ать ощущение, что человек не остался один на один со своей бедо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потреблять четкие короткие фразы с утвердительной интонацие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стараться свести реакцию к плач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употреблять частицу «не»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179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efee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b9efee"/>
                </a:solidFill>
                <a:latin typeface="Times New Roman"/>
              </a:rPr>
              <a:t>Плач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28036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ч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является реакцией, которая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вол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 отреагировать негативные эмоции, поэтому реакцию плача можно рассматривать как нормальную и даже желательную реакцию в ситуация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яжелого стресс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этому крайне важно дать реакции плача состоять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 уже плачет или готов разрыдаться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агивают губы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ается ощущение подавленност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тличие от истерики нет возбуждения в поведен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желательно оставлять пострадавшего одного, необходимо позаботиться о том, чтобы рядом с ним кто-то находился, желательно, чтобы это был близкий или знакомый человек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и желательно использовать элементарные приемы телесноориентированной терапии: установите физический контакт с пострадавшим (взять за руку; положить свою руку на плечо или спину; погладьте по голове). Это поможет человеку почувствовать, что кто-то рядом, что он не оди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ение  приемов «активного слушания» помогает присоединиться к человеку на вербальном уровне, что обеспечивает возможность состояться реакции плача, выплеснуть свое гор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орите о своих чувствах и чувствах пострадавшего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адавайте вопросов, не давайте совет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Экстренной психологической помощь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называется система краткосрочных мероприятий, направленная на оказание помощи одному человеку, группе людей или большому числу пострадавших в чрезвычайном событ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цель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которой является регуляция актуального психологического состояния при помощи профессиональных мето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117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efee"/>
                </a:solidFill>
                <a:latin typeface="Times New Roman"/>
              </a:rPr>
              <a:t>Истероидные реакции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838080"/>
            <a:ext cx="8515080" cy="68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знак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яется сознание,  но почти невозможен контак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мерное возбужд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жество движений, театральные поз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ь эмоционально насыщенная, быстра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ки, ры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алите зрителей, создайте спокойную обстанов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это не опасно для Вас, останьтесь с пострадавшим наедине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жиданно совершите действие, которое может остановить истерику (можно дать пощечину, облить водой, с грохотом уронить предмет, резко крикнуть на пострадавшего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ворите с пострадавшим короткими фразами, уверенным тоном («выпей воды», «умойся»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истерики наступает упадок сил. В этом случае уложите пострадавшего сп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прибытия специалиста наблюдайте за его состоя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отакайте желаниям пострадавш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грессивное поведение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ражение, недовольство, гнев (по любому, даже незначительному поводу)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несение окружающим ударов руками или какими-либо предметам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есн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ы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корблен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брань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ечное напряжение, увеличение кровяного давл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дите к минимуму количество окружающих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йте пострадавшему возможность «выпустить пар» (например, выговориться или «избить» подушку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учите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традавшему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у, связанную с высокой физической нагрузко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нстрируйте благожелательность. Старайтесь разрядить обстановку смешными комментариями или действи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я может быть погашена страхом наказания: если нет цели получить выгоду от агрессивного поведения, если наказание строгое и вероятность его осуществления вели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сихомоторное возбуждение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овек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перестает понимать, что происходит вокруг него. Единственное что он может делать - это двигаться. Движения могут быть совсем простые (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я побежал, а когда пришел в себя оказалось, что не знаю где нахожусь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) или достаточно сложные (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я что-то делал, с кем-то разговаривал, куда-то бежал, но ничего не могу вспомнить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Признаки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7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движения резки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7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бесцельные и бессмысленные действия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7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ненормально громкая речь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7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часто отсутствует реакция на  окружающих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таком состоянии человек может причинить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ред себе и другим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Помощь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обходимо поймать  человека с помощью приема «захват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ируйте пострадавшего  от окружающ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делайте массаж позитивных точе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орите спокойным голосом, не спорьте, в разговоре избегайте фраз с частицей «не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сихомоторно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озбуждение может смениться нервной дрожью, плачем, а также агрессивным поведение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efee"/>
                </a:solidFill>
                <a:latin typeface="Times New Roman"/>
              </a:rPr>
              <a:t>Нервная дрож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редством неконтролируемой нервной дрожи тело «сбрасывает» напряжение. Если эту реакцию остановить, то напряжение останется в теле и может стать причиной мышечных болей и других болезне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жь начинается внезапно сразу после инцидента или спустя какое-то время, сильное дрожание всего тела или отдельных его частей (человек не может удержать в руках мелкие предметы, зажечь сигарету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жно усилить дрожь. Для этого возьмите пострадавшего за плечи и сильно резко потрясите в течение 10 – 15 секунд, во время этого разговаривайте с ним, иначе человек может воспринять это как нападени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ерно: обнимать или прижимать пострадавшего к себе, укрывать его, успокаивать, говорить, чтобы он взял себя в ру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па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реодолимая усталость, такая, что любое движение, слово дается с огромным трудом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лно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внодушие и безразличи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какие бы то ни было проявления эмоций отсутствуют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различное отношение к окружающему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ялость, заторможенность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ь медленная, с большими пауза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оворите с пострадавшим. Задайте ему несколько простых вопросов («Как Вас зовут?», «Как ты себя чувствуешь?», «Хочешь есть?»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одите пострадавшего к месту отдыха, помогите удобно устроиться (обязательно снять обувь), возьмите за руку или положите руку ему на лоб. Дайте человеку возможность поспать или просто полежа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нет возможности отдохнуть, то,  разговаривая с пострадавшим, вовлекайте его в любую совместную деятельность (прогуляться, сходить выпить чая или кофе, помочь окружающим, нуждающимся в помощи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упор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овек неподвижен, сидит в одной позе и ни на что не реагирует, как б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цепене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кое снижение или отсутствие произвольных движений и реч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 реакций на внешние раздражители (шум, свет, прикосновение, боль)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застывание" в определенной поз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пенение, состояние полной неподвижност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 напряжение отдельных групп мышц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ограниченные координированные движения глаз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жите пострадавшему пальцы на обеих руках на основании большого пальц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ируйте пострадавшему кончиками большого  и указательного пальцев точки, расположенные на лбу над глазами ровно посредине между линией роста волос и бров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донь свободной руки положите на грудь пострадавшего. Подстройте свое дыхание под ритм его дыха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ворите пострадавшему на ухо тихо, медленно и четко то, что может  вызвать сильные эмоции (лучше негативные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о любыми средствами добиться реакции пострадавшего, вывести его из оцепен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169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рах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76280"/>
            <a:ext cx="849600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яжение мышц  (особенно лицевых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ьное сердцебие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енное поверхностное дыха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ный контроль собственного поведени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ический страх, ужас может побудить к бегству, вызывать оцепенение, агрессивное поведени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 этом человек плохо контролируе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вои действия и не осознает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т вокруг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ните, что страх может быть полезным, когда помогает избегать опасности. Поэтому бороться со страхом нужно тогда, когда он мешает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декватным ситуации действия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ожите руку пострадавшего себе на запястье, чтобы он ощутил Ваш спокойный пульс это сигнал: «Я сейчас рядом, ты не один». Дышите глубоко и ровно. Побуждайте пострадавшего дышать в одном с Вами рит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йте пострадавшему легкий массаж наиболее напряженных мышц те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острадавший говорит, слушайте его, выказывайте заинтересованность, понимание, сочувствие. Используйте отвлекающие занятия, не требующие сложных интеллектуальных действий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работайте 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бразом страха: визуальным и телесны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ожно использовать т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хник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несен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траха вовн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Ошибки при оказании экстренной психологической помощи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450720" indent="-450720" algn="just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одготовка к эвакуации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После землетрясения (обрушения дома) эвакуированных жителей перевезли в лагерь (кто в чем успел выскочить из дома), в спешке забыв о том, что и на улице -5, спасатели не приготовили теплые одеяла и не предупредили людей о том что необходимо взять с собой теплые вещ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 algn="just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Целостная картина происходящего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 Спасатели приехали на водолазные работы по извлечению тела,  родственники ждут на берегу и спрашивают у спасателей, что будет дальше и что от них требуется. Спасатели отмахиваются. Прокуратуры на месте не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 algn="just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«Да чего ты плачешь?»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Спасатель, работавший с мужчиной вывел его на реакцию плача. Он отвел мужчину в сторону, они стояли и курили, к ним подошел другой спасатель и, не выяснив обстоятельств, удивленно спросил у мужчины «Ты чего плачешь?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 algn="just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месте собираться  в круг и обсуждать что – либо на виду у толп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200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Ошибки при оказании экстренной психологической помощи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ть начать разговор с пострадавшими. «Добрый день…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 давать невыполнимых обеща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мнить о национальных особенностях пострадавши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бота с одними и теми же пострадавшими разных спасател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воих не удержать. Соизмерять свои си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205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Ошибки при оказании экстренной психологической помощи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Бурные эмоции свежей смены на глазах у пострадавши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Разговоры по мобильному телефону со своими родственниками, когда вас могут услышать пострадавши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Критика коллег на виду у пострадавши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Проявление бурных эмоций на глазах у пострадавши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210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9efee"/>
                </a:solidFill>
                <a:latin typeface="Garamond"/>
              </a:rPr>
              <a:t>Экстренная психологическая помощь не оказывается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ям с реакциями психиатрического спектр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ред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аллюцин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122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ПАСИБО ЗА СОТРУДНИЧЕСТВО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214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Группа факторов, характеризующая особенности групп пострадавших: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 algn="just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жертвы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т.е. изолированные в очаге ЧС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just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страдавшие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непосредственно физически, материально (разрушен дом), потерявшие своих родных и близких или не имеющие информации об их судьб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just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чевидцы (свидетели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эти люди, остались невредимыми физически, не пострадали их родственники и имущество, тем не менее, получают психологическую травму, т.к. трагедия прошла где-то очень близко к ним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just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аблюдатели (зеваки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вторично пострадавшие, люди, непосредственно не имеющие отношения к ситуации, но узнав о происшествии, прибывшие на место ЧС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just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елезрители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эмоционально вовлеченные в получаемую через СМИ информацию о трагическом событии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just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пециалисты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кстремального профил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127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Группы пострадавших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131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. Жертвы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радавшие, изолированные в очаге Ч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психологической помощ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нформационная поддерж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ая работа с пострадавши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информация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том, что помощь иде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акие меры необходимо предпринимать для сохранения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поддержания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формирование 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изац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сихологических ресурсо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с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ива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ерспективы н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ижайшее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ще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Группы пострадавших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1295280"/>
            <a:ext cx="8280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страдавшие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материально или физически; потерявшие своих родных 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лизки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либ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 имеющие информации об их судьб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психологической помощ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явление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уппы рис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абота с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тры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ффективны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еакц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ям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сети социальной поддержки (телефон горячей линии, социальные и ритуальные службы,  антикризисные центры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работ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обходимо дать возможность отреагировать аффективное состояние (исте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идные реакци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лач, двигательное возбуждение, агрессия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и т.д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зовый момент помощи - поиск психологического ресур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 активно подключать людей к деятельности (оформление документов,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ка к похоронам и т.д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ица с симптомами психиатрических заболеваний направляются в медицинские пункты для оказания им соответствующей психиатрической помощ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137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руппы пострадавших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141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152280" y="1219320"/>
            <a:ext cx="8839440" cy="54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чевидцы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и, проживающие в непосредственной близости от места трагед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психологической помощ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ентация очевидцев на оказание помощи пострадавш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 других груп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риска возникновения массовых негативных ре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работы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   работа с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фективн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еакц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ями, связанными с чрезвычайной ситуацие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п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влечение людей к посильной деятельности с целью снижения уровня  неадекватной поведенческой активност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Группы пострадавших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аблюдатели, зева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психологической помощ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леживание вероятности возникновения массовых негативных реакц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работы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вление инициаторов негативных массовых реакций и удаление их с места массовых скоплений люд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147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Группы пострадавших</a:t>
            </a:r>
            <a:br>
              <a:rPr sz="4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елезрите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психологической помощи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посттравматическим стрессовым расстройств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работы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ри работе с психологической травм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67640" y="189000"/>
            <a:ext cx="1230120" cy="1197000"/>
            <a:chOff x="7667640" y="189000"/>
            <a:chExt cx="1230120" cy="1197000"/>
          </a:xfrm>
        </p:grpSpPr>
        <p:sp>
          <p:nvSpPr>
            <p:cNvPr id="152" name=""/>
            <p:cNvSpPr/>
            <p:nvPr/>
          </p:nvSpPr>
          <p:spPr>
            <a:xfrm>
              <a:off x="7899120" y="511560"/>
              <a:ext cx="739440" cy="5547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7667640" y="18900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20:51:18Z</dcterms:created>
  <dc:creator>Kirill</dc:creator>
  <dc:description/>
  <dc:language>en-US</dc:language>
  <cp:lastModifiedBy>72001</cp:lastModifiedBy>
  <dcterms:modified xsi:type="dcterms:W3CDTF">2007-10-04T21:13:56Z</dcterms:modified>
  <cp:revision>104</cp:revision>
  <dc:subject/>
  <dc:title>Slide 1</dc:title>
</cp:coreProperties>
</file>