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3873-7559-4DA0-BC76-CF58DE44D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1DA7-E2DD-4AC2-97C9-788831929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9B7-1AEC-4605-BCB9-D0E02503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9BC-9EAB-43D3-B5AF-54DF348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957-6121-4280-A02E-16E33A10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02D-31FF-4E11-96CB-4472B92C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49C-2165-4BCC-A7B4-98D2AC94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88FD-3962-4475-84D0-755D8401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644A-6E4D-450B-A899-C819B5D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FE41-8312-4161-AF5B-3169BA0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CC54-A89B-4110-91FB-3BA3D09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685-87CC-4342-B10A-42DD657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8004-D949-4C38-BB58-5078141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30F-0FE3-4402-9F63-E4868F8C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F41B-FB13-4810-8B76-1B4EC4D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A191-F66F-477A-AD51-4CEF837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AD4-F66D-4E66-BAE8-7A7CEDC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F818-467E-453D-8F48-E9283586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0F7F-169A-4EE6-BA90-B1F481C3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A9EB5-7E97-47C4-9C47-610E0633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35EF0-A03C-4682-991A-CB08D3C7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EFA3F-7F98-4E92-A9D9-9C61E59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F1C33-8E78-41FF-91BC-EF7AB41E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F4734-AB14-450D-A34A-6B8FA47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011-CCEC-4848-8C46-BC1D8AD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6F3BF-7EDB-453F-B3CF-FAAA33DD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12D6C-3516-45FE-967A-F4FD731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568EB-F047-4223-A726-A7338F4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CC858-0BAA-4F72-BEF2-5C4CF722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8FC5C-01E2-44C2-B053-32C879F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74EB4-3E16-433E-82D3-1050DAE8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88923-1A94-4AAA-9249-7D38BE03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E94C-BCB6-4377-951E-2CCE6AEA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9E5B2-3FED-4C0D-B621-1A31F160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8976-1785-4B68-84AA-A98C152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062-CC64-4C24-9CF4-48A3B123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F6BE-0EC1-4CC1-B407-6D3EB966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9FB9-B698-498A-85EF-32C73D52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B6E9-4BB1-4F06-90DE-CB4979BD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6D2F-46E7-46BA-BB02-FA70B42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D870-F779-4211-AFF4-CC488E1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B801-0F5E-4585-8653-79E70BE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2B80-562C-4411-AC44-4747D9A5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E796-DC73-4591-A9CB-D00CBEE0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4020-65FA-4137-AF52-5D43A285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7B8-EA75-436A-B5DF-FF5214D5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922-2F1C-44D6-A837-EF8DF79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14B-63CB-4FA2-9247-89F2CEF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B2A-8A42-4A34-B090-0196FA3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9AE-DF29-4982-BC9B-C8A9BA79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561-410C-45EC-8942-DFB9335B7CF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B9F-E676-473F-BFA4-E3F294E3A80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D41-28FA-484D-9E68-19A0AA455F9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6DA-3827-48C5-86AE-A46B69FACFA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расота и правда «легкой» и «серьезной» музыки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Урок музыки в 6 классе 4 четвер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Arial"/>
              </a:rPr>
              <a:t>Посадских М.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Arial"/>
              </a:rPr>
              <a:t>МОУ СОШ № 32 г. Магнитогорс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85840" y="928440"/>
            <a:ext cx="390060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дин из самых лучших, самых  знаменитых вальсов И.Штрауса – вальс из оперетты «Летучая мышь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слушайте вальс. Охарактеризуйте музык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ие чувства передает музык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ерьезная она или легкая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Содержимое 9" descr="Новый рисунок (6).bmp"/>
          <p:cNvPicPr/>
          <p:nvPr/>
        </p:nvPicPr>
        <p:blipFill>
          <a:blip r:embed="rId1"/>
          <a:srcRect l="3422" t="7006" r="2823" b="0"/>
          <a:stretch/>
        </p:blipFill>
        <p:spPr>
          <a:xfrm>
            <a:off x="142920" y="928800"/>
            <a:ext cx="4691160" cy="3093840"/>
          </a:xfrm>
          <a:prstGeom prst="rect">
            <a:avLst/>
          </a:prstGeom>
          <a:ln w="0">
            <a:noFill/>
          </a:ln>
        </p:spPr>
      </p:pic>
      <p:pic>
        <p:nvPicPr>
          <p:cNvPr id="257" name="5 кл_161_23. 01. И.Штраус. Вальс из оп-ты. Летучая мышь. Орк.mp3" descr=""/>
          <p:cNvPicPr/>
          <p:nvPr/>
        </p:nvPicPr>
        <p:blipFill>
          <a:blip r:embed="rId2"/>
          <a:stretch/>
        </p:blipFill>
        <p:spPr>
          <a:xfrm>
            <a:off x="7164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5529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тог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ва особенности вальсовой музык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то из композиторов создал образцы классического «венского вальса»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зать, что музыка, написанная настоящим Мастером, независимо «легкая» она или «серьезная» – краси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.Б. Кабалевский, рассуждая о том, что такое «серьезная» и «легкая» музыка», сравнивал ее с человеческой жизнь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в ней главное – серьезное или легко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52840" y="131868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2920" y="713880"/>
            <a:ext cx="4092840" cy="59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7" descr="вена 17век"/>
          <p:cNvPicPr/>
          <p:nvPr/>
        </p:nvPicPr>
        <p:blipFill>
          <a:blip r:embed="rId1"/>
          <a:srcRect l="1690" t="1576" r="25238" b="1672"/>
          <a:stretch/>
        </p:blipFill>
        <p:spPr>
          <a:xfrm>
            <a:off x="5032440" y="1500120"/>
            <a:ext cx="3565440" cy="4000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вена 17век"/>
          <p:cNvPicPr/>
          <p:nvPr/>
        </p:nvPicPr>
        <p:blipFill>
          <a:blip r:embed="rId2"/>
          <a:srcRect l="1690" t="1576" r="25238" b="1672"/>
          <a:stretch/>
        </p:blipFill>
        <p:spPr>
          <a:xfrm>
            <a:off x="4475160" y="1143000"/>
            <a:ext cx="4475160" cy="502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>
            <a:off x="214200" y="714240"/>
            <a:ext cx="4143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19 веке в Вене, столице Австрии, появилась удивительная семья по фамилии Штраус.  Отец Иоганн Штраус, и его три сына прославились как авторы танцев, главным образом –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альс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амым талантливым из трех братьев оказался старший, названный в честь отца Иоган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н превзошел своего отца, братьев, современников, сочинявших этот модный та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го прозвали –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«королем валь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85840" y="2244600"/>
            <a:ext cx="28584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6120" rIns="96120" tIns="52920" bIns="52920" anchor="ctr">
            <a:normAutofit fontScale="14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900" spc="-1" strike="noStrike">
              <a:solidFill>
                <a:srgbClr val="3f3f3f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572680" y="2244600"/>
            <a:ext cx="42840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6120" rIns="96120" tIns="52920" bIns="52920" anchor="ctr">
            <a:normAutofit fontScale="26000"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900" spc="-1" strike="noStrike">
              <a:solidFill>
                <a:srgbClr val="3f3f3f"/>
              </a:solidFill>
              <a:latin typeface="Georgia"/>
            </a:endParaRPr>
          </a:p>
        </p:txBody>
      </p:sp>
      <p:pic>
        <p:nvPicPr>
          <p:cNvPr id="235" name="Содержимое 4" descr="Новый рисунок (2).bmp"/>
          <p:cNvPicPr/>
          <p:nvPr/>
        </p:nvPicPr>
        <p:blipFill>
          <a:blip r:embed="rId1"/>
          <a:stretch/>
        </p:blipFill>
        <p:spPr>
          <a:xfrm>
            <a:off x="0" y="490680"/>
            <a:ext cx="342900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285840" y="4357800"/>
            <a:ext cx="3214440" cy="3988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оганн Штраус - от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85720" y="642960"/>
            <a:ext cx="54738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Родоначальник известной семьи музыкантов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. Родился в Вене. Систематического музыкального образования не получил, брал уроки игры на скрипке. С 1817 года альтист танцевального оркестра в В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1825 году организовал собственный танцевальный оркестр, с которым в 1833 году совершил первую гастрольную поездку по Австро-Венгрии; в 1837-1838 гастролировал в Париже и Лондоне, где пользовался большим успехом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 1835 года дирижёр придворного бального оркестра в Вене. Штраус был создателем нового типа вальса, так называемого </a:t>
            </a: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венского вальс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получившего, благодаря ритмической гибкости и мелодической выразительности , широкое распространение и большую популярность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музыке вальсов Штрауса заметна связь с австрийским городским фольклором, традициями бытового музыцировани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Штраус - автор свыше 250 произведений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среди которых вальсы, кадрили, галопы, марши, польки, фантазии.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вальс император.wma" descr=""/>
          <p:cNvPicPr/>
          <p:nvPr/>
        </p:nvPicPr>
        <p:blipFill>
          <a:blip r:embed="rId2"/>
          <a:stretch/>
        </p:blipFill>
        <p:spPr>
          <a:xfrm>
            <a:off x="31431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642600"/>
            <a:ext cx="3143160" cy="50004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Иоганн Штраус - сын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501040" y="2500200"/>
            <a:ext cx="262080" cy="4608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lIns="96120" rIns="96120" tIns="-6840" bIns="-684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900" spc="-1" strike="noStrike">
              <a:solidFill>
                <a:srgbClr val="3f3f3f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928600" y="785520"/>
            <a:ext cx="607212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опреки желанию отца, который хотел сделать сына коммерсантом, стал тайно от него обучаться игре на скрипке. Занимался композицией. В 6-летнем возрасте сочинил первый вальс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1844 году, соперничая с отцом, организовал свой концертный ансамбль (состоял из 15 музыкантов-сверстников), преобразованный затем в оркестр, и успешно выступал с ним как скрипач-дирижёр и композитор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сле смерти отца (1849) Штраус объединил оба оркестра под своим управлением и совершил с этим коллективом ряд концертных поездок по Европе (В 1856-1865 гг. и 1869 году посещал Россию, руководил летними концертными сезонами . В 1872 и 1886г. Выступал в Петербурге и Москве) и США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Штраус вошёл в историю музыки как </a:t>
            </a: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мастер танцевальной музыки и оперетты. В творчестве Штрауса венский вальс достиг вершины своего развития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м написано около 500 вальсов и 16 оперет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Georgia"/>
              </a:rPr>
              <a:t>Важнейшая заслуга Штрауса состояла в возведении жанров так называемой лёгкой музыки на высокий художественный уровень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временники называли вальсы Штрауса «патриотическими песнями без слов»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Содержимое 10" descr="Новый рисунок (4).bmp"/>
          <p:cNvPicPr/>
          <p:nvPr/>
        </p:nvPicPr>
        <p:blipFill>
          <a:blip r:embed="rId1"/>
          <a:stretch/>
        </p:blipFill>
        <p:spPr>
          <a:xfrm>
            <a:off x="0" y="1357200"/>
            <a:ext cx="3006720" cy="3143520"/>
          </a:xfrm>
          <a:prstGeom prst="rect">
            <a:avLst/>
          </a:prstGeom>
          <a:ln w="0">
            <a:noFill/>
          </a:ln>
        </p:spPr>
      </p:pic>
      <p:pic>
        <p:nvPicPr>
          <p:cNvPr id="244" name="041_Штраус - Вальс ''Сказки венского леса''.mp3" descr=""/>
          <p:cNvPicPr/>
          <p:nvPr/>
        </p:nvPicPr>
        <p:blipFill>
          <a:blip r:embed="rId2"/>
          <a:stretch/>
        </p:blipFill>
        <p:spPr>
          <a:xfrm>
            <a:off x="684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6373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560" y="571320"/>
            <a:ext cx="5715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узыкальный словар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142920" y="1428840"/>
            <a:ext cx="52149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альс (от немецкого walzen – раскатывать) – один из популярнейших бальных танцев XIX-XX вв. Вальс возник на основе народных танцев Австрии, Чехии, Германи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реди бальных танцев вальс выделяется лирической настроенностью и романтическим полетом чувства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рупнейшие композиторы создавали вальсы в виде самостоятельных пьес (Вебер, Шуберт, Штраус-сын, Шопен, Шуман, Брамс, Равель, Глинка, Чайковский, Глазунов, Прокофьев) или отдельных номеров опер («Фауст» Гуно, «Евгений Онегин» Чайковского) и балетов («Лебединое озеро», «Спящая красавица», «Щелкунчик» Чайковского, «Золушка» Прокофьева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Содержимое 9" descr="Новый рисунок (6).bmp"/>
          <p:cNvPicPr/>
          <p:nvPr/>
        </p:nvPicPr>
        <p:blipFill>
          <a:blip r:embed="rId1"/>
          <a:srcRect l="3422" t="7006" r="2823" b="0"/>
          <a:stretch/>
        </p:blipFill>
        <p:spPr>
          <a:xfrm>
            <a:off x="5000760" y="1643040"/>
            <a:ext cx="400680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узыкальный словар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642680"/>
            <a:ext cx="44956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перетта (музыкальная комедия) – музыкально-сценическое произведение комедийного жанра с вокально-танцевальными сценами в сопровождении оркестра и разговорными эпизодам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Как самостоятельный жанр оперетта возникла во Франции в середине XIX века и носила сатирический характер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В венских опереттах сильнее выражено лирическое начало, мелодика близка народной австрийской и венгерской музыке (И. Штраус-сын, Ф. Легар, И. Кальман)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Содержимое 4" descr="Новый рисунок (5).bmp"/>
          <p:cNvPicPr/>
          <p:nvPr/>
        </p:nvPicPr>
        <p:blipFill>
          <a:blip r:embed="rId1"/>
          <a:srcRect l="1762" t="2046" r="0" b="0"/>
          <a:stretch/>
        </p:blipFill>
        <p:spPr>
          <a:xfrm>
            <a:off x="4405320" y="1571760"/>
            <a:ext cx="465768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Оперетта «Летучая мышь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4" descr="Новый рисунок (7).bmp"/>
          <p:cNvPicPr/>
          <p:nvPr/>
        </p:nvPicPr>
        <p:blipFill>
          <a:blip r:embed="rId1"/>
          <a:srcRect l="1876" t="407" r="2739" b="0"/>
          <a:stretch/>
        </p:blipFill>
        <p:spPr>
          <a:xfrm>
            <a:off x="142920" y="1285920"/>
            <a:ext cx="3271680" cy="5000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3499920" y="1214280"/>
            <a:ext cx="518652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мьера состоялась в Вене в 1874 году. Оперетта имела большой успех и за последующие 10 лет была поставлена в 170 театрах Европы. Это произведение дало начало традиции «новых венских» оперетт, основой которых стал вальс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южет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тудент Альфред влюблен в хозяйку дома Розалинду и одолевает её несмелыми серенадами. Супруг Розалинды Айзенштайн, который должен сесть в тюрьму, собирается с друзьями на бал. Альфред, узнав, что супруг отбыл на бал, становится смелее и предстаёт пред Розалиндой. Неожиданно появляется начальник тюрьмы и, приняв Альфреда за Айзенштайна, арестовывает его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ал у князя Орловского. Розалинда сама является на бал, и не узнанная Айзенштайном, принимающим её за другую, влюбляет его в себя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сле бала в тюрьму приходят начальник и добровольно сдавшийся Айзенштайн, позже к ним присоединяются Розалинда и Адель. Происходит ряд комических сценок узнавания. Розалинда возвращает мужу часы, подаренные им ей на балу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b4</cp:lastModifiedBy>
  <dcterms:modified xsi:type="dcterms:W3CDTF">2012-10-17T06:31:09Z</dcterms:modified>
  <cp:revision>16</cp:revision>
  <dc:subject/>
  <dc:title>Красота и правда «легкой» и «серьезной» музыки.</dc:title>
</cp:coreProperties>
</file>