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6F29-F5FB-48B7-9AAB-43A3481E4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43CA-371F-4016-8B72-D4A10A62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1AF1-F55A-42CE-BC43-BFD5104D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420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6628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6212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420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6628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4BFA-E892-4A33-8600-E7BBEAA4F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974B-39C0-4597-A9A0-A58074DA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249F-4643-4A01-BA93-D5BE9999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5766-F19A-4E7E-85E2-A01272EE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3EB3-4B99-48C9-973E-E3ACD1F2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171F-55FE-4968-AC68-A5A0CE50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769608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5DFE-6EA4-4A27-8C0B-2CB76E14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6638-F786-472B-8FE7-57338B09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B593-1C8B-40F8-B3C6-99F2553F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4FA9-5D93-423F-95A6-39659454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5E43-6657-4D49-BA46-B466AAA1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2528-406F-4A9E-8BE6-1CE1BE98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F0F1-6181-4B99-A744-351EB767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6420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6628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76212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6420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6628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619C-2128-48CA-B6C2-452F2047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1BE6-C16F-4134-A2F9-23D88865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C67D-5AAC-4B06-A266-90C750D8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A15B-1804-440D-8DD3-2FFC47DE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769608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02A6-C215-4587-9561-3F9ED556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25A0-B90D-48F4-94E4-2F3E19F3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5C53-E1B4-4F4D-9BD4-2105FF71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3E95-BA9C-4295-A3EB-FEB6B581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AD68-9C09-4729-AC09-C22E65296F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4A3C-9A39-4B83-A23A-E96EDC34196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Csenmir68@mail.ru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3672000" cy="54338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708000" y="1700280"/>
            <a:ext cx="4535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Я привык писать одно дельное, высказывать откровенно, и притом в коротких слова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икита Бичур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1371600"/>
            <a:ext cx="769752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0000"/>
                </a:solidFill>
                <a:latin typeface="Arial Cyr Chuv"/>
              </a:rPr>
              <a:t>Тавтапу=</a:t>
            </a:r>
            <a:br>
              <a:rPr sz="4800"/>
            </a:br>
            <a:r>
              <a:rPr b="0" lang="ru-RU" sz="4800" spc="-1" strike="noStrike">
                <a:solidFill>
                  <a:srgbClr val="420000"/>
                </a:solidFill>
                <a:latin typeface="Arial Cyr Chuv"/>
              </a:rPr>
              <a:t>Ман патне =ак адреспа =ыру =ырёр </a:t>
            </a:r>
            <a:r>
              <a:rPr b="0" lang="en-US" sz="4800" spc="-1" strike="noStrike">
                <a:solidFill>
                  <a:srgbClr val="420000"/>
                </a:solidFill>
                <a:latin typeface="Arial"/>
              </a:rPr>
              <a:t>: </a:t>
            </a:r>
            <a:r>
              <a:rPr b="0" lang="en-US" sz="48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Csenmir68@mail.ru</a:t>
            </a:r>
            <a:r>
              <a:rPr b="0" lang="en-US" sz="4800" spc="-1" strike="noStrike">
                <a:solidFill>
                  <a:srgbClr val="42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700280"/>
            <a:ext cx="74865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0000"/>
                </a:solidFill>
                <a:latin typeface="Arial Cyr Chuv"/>
              </a:rPr>
              <a:t>Тема урока</a:t>
            </a:r>
            <a:r>
              <a:rPr b="0" lang="ru-RU" sz="4800" spc="-1" strike="noStrike">
                <a:solidFill>
                  <a:srgbClr val="420000"/>
                </a:solidFill>
                <a:latin typeface="Arial"/>
              </a:rPr>
              <a:t>:</a:t>
            </a:r>
            <a:r>
              <a:rPr b="0" lang="ru-RU" sz="4800" spc="-1" strike="noStrike">
                <a:solidFill>
                  <a:srgbClr val="420000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ru-RU" sz="6000" spc="-1" strike="noStrike">
                <a:solidFill>
                  <a:srgbClr val="420000"/>
                </a:solidFill>
                <a:latin typeface="Arial Cyr Chuv"/>
              </a:rPr>
              <a:t>Хы= сёмахсем</a:t>
            </a:r>
            <a:endParaRPr b="0" lang="en-US" sz="6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 Chuv"/>
              </a:rPr>
              <a:t>Урок т.ллев.сем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 Chuv"/>
              </a:rPr>
              <a:t>Хы= сёмахсене астуса юлас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 Chuv"/>
              </a:rPr>
              <a:t>Пуплевре усё курма в.ренес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-360" y="1700280"/>
            <a:ext cx="7993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Сасё пач. шёнкёра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Ёш саламлё йыхёрав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Шёнкёр-шёнкёр!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Классенче шёпланч. шав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Манё=ми =ак ирхи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Пит. ырё</a:t>
            </a:r>
            <a:r>
              <a:rPr b="0" lang="en-US" sz="3200" spc="-1" strike="noStrike">
                <a:solidFill>
                  <a:srgbClr val="000000"/>
                </a:solidFill>
                <a:latin typeface="Arial Cyr Chuv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кашнине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В.ренмешк.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Ларнё парта ??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Arial Cyr Chuv"/>
              </a:rPr>
              <a:t>       – </a:t>
            </a:r>
            <a:r>
              <a:rPr b="0" lang="ru-RU" sz="4000" spc="-1" strike="noStrike">
                <a:solidFill>
                  <a:srgbClr val="420000"/>
                </a:solidFill>
                <a:latin typeface="Arial Cyr Chuv"/>
              </a:rPr>
              <a:t>хы=</a:t>
            </a:r>
            <a:r>
              <a:rPr b="0" lang="ru-RU" sz="3600" spc="-1" strike="noStrike">
                <a:solidFill>
                  <a:srgbClr val="420000"/>
                </a:solidFill>
                <a:latin typeface="Arial Cyr Chuv"/>
              </a:rPr>
              <a:t> </a:t>
            </a:r>
            <a:r>
              <a:rPr b="0" lang="ru-RU" sz="4000" spc="-1" strike="noStrike">
                <a:solidFill>
                  <a:srgbClr val="420000"/>
                </a:solidFill>
                <a:latin typeface="Arial Cyr Chuv"/>
              </a:rPr>
              <a:t>сёмахсемпе</a:t>
            </a:r>
            <a:r>
              <a:rPr b="0" lang="ru-RU" sz="3600" spc="-1" strike="noStrike">
                <a:solidFill>
                  <a:srgbClr val="420000"/>
                </a:solidFill>
                <a:latin typeface="Arial Cyr Chuv"/>
              </a:rPr>
              <a:t> паллашёр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8988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4" marL="1975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=ине</a:t>
            </a: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5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=инче</a:t>
            </a: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5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=инчен</a:t>
            </a: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5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5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патне</a:t>
            </a: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5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пат.нч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пат.нчен</a:t>
            </a:r>
            <a:r>
              <a:rPr b="0" lang="ru-RU" sz="1000" spc="-1" strike="noStrike">
                <a:solidFill>
                  <a:srgbClr val="000000"/>
                </a:solidFill>
                <a:latin typeface="Arial Cyr Chuv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 Cyr Chuv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8000" y="1828800"/>
            <a:ext cx="2879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Cyr Chuv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айн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ай.нч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ай.нче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хушшин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хушшинч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хушшинче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719280" cy="314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211640" y="1773360"/>
            <a:ext cx="647640" cy="468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476360" y="2276640"/>
            <a:ext cx="576360" cy="539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547640" y="2852640"/>
            <a:ext cx="648000" cy="565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4211640" y="2276640"/>
            <a:ext cx="576360" cy="496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4284720" y="27813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1187280" y="3789360"/>
            <a:ext cx="865440" cy="493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1187280" y="4221000"/>
            <a:ext cx="798840" cy="563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9"/>
          <a:stretch/>
        </p:blipFill>
        <p:spPr>
          <a:xfrm>
            <a:off x="1258920" y="4724280"/>
            <a:ext cx="860400" cy="533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0"/>
          <a:stretch/>
        </p:blipFill>
        <p:spPr>
          <a:xfrm>
            <a:off x="4140360" y="4437000"/>
            <a:ext cx="863280" cy="389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1"/>
          <a:stretch/>
        </p:blipFill>
        <p:spPr>
          <a:xfrm>
            <a:off x="4140360" y="4797360"/>
            <a:ext cx="950760" cy="513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2"/>
          <a:stretch/>
        </p:blipFill>
        <p:spPr>
          <a:xfrm>
            <a:off x="4067280" y="3933720"/>
            <a:ext cx="1008000" cy="511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3"/>
          <a:stretch/>
        </p:blipFill>
        <p:spPr>
          <a:xfrm>
            <a:off x="468360" y="765000"/>
            <a:ext cx="9637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30088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420000"/>
                </a:solidFill>
                <a:latin typeface="Times New Roman"/>
              </a:rPr>
              <a:t> 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420000"/>
                </a:solidFill>
                <a:latin typeface="Times New Roman"/>
              </a:rPr>
              <a:t>    </a:t>
            </a:r>
            <a:r>
              <a:rPr b="0" lang="ru-RU" sz="6000" spc="-1" strike="noStrike">
                <a:solidFill>
                  <a:srgbClr val="420000"/>
                </a:solidFill>
                <a:latin typeface="Times New Roman"/>
              </a:rPr>
              <a:t>- 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хы</a:t>
            </a:r>
            <a:r>
              <a:rPr b="0" lang="ru-RU" sz="4000" spc="-1" strike="noStrike">
                <a:solidFill>
                  <a:srgbClr val="420000"/>
                </a:solidFill>
                <a:latin typeface="Arial Cyr Chuv"/>
              </a:rPr>
              <a:t>= сёмахсемпе предложени тёвёр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68360" y="2349360"/>
          <a:ext cx="8280000" cy="3670200"/>
        </p:xfrm>
        <a:graphic>
          <a:graphicData uri="http://schemas.openxmlformats.org/drawingml/2006/table">
            <a:tbl>
              <a:tblPr/>
              <a:tblGrid>
                <a:gridCol w="725040"/>
                <a:gridCol w="1666800"/>
                <a:gridCol w="1742400"/>
                <a:gridCol w="1958760"/>
                <a:gridCol w="218700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Cyr Chuv"/>
                        </a:rPr>
                        <a:t>=и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Cyr Chuv"/>
                        </a:rPr>
                        <a:t>ай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Cyr Chuv"/>
                        </a:rPr>
                        <a:t>пат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Cyr Chuv"/>
                        </a:rPr>
                        <a:t>хушши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Cyr Chuv"/>
                        </a:rPr>
                        <a:t>=инч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Cyr Chuv"/>
                        </a:rPr>
                        <a:t>ай.нч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Cyr Chuv"/>
                        </a:rPr>
                        <a:t>пат.нч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Cyr Chuv"/>
                        </a:rPr>
                        <a:t>хушшинч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Cyr Chuv"/>
                        </a:rPr>
                        <a:t>=инч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Cyr Chuv"/>
                        </a:rPr>
                        <a:t>ай.нч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Cyr Chuv"/>
                        </a:rPr>
                        <a:t>пат.нч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Cyr Chuv"/>
                        </a:rPr>
                        <a:t>хушшинч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100800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Arial Cyr Chuv"/>
              </a:rPr>
              <a:t>  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    – </a:t>
            </a:r>
            <a:r>
              <a:rPr b="0" lang="ru-RU" sz="4400" spc="-1" strike="noStrike">
                <a:solidFill>
                  <a:srgbClr val="420000"/>
                </a:solidFill>
                <a:latin typeface="Arial Cyr Chuv"/>
              </a:rPr>
              <a:t>\керч.кпе .=л.р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8663" t="0" r="0" b="0"/>
          <a:stretch/>
        </p:blipFill>
        <p:spPr>
          <a:xfrm>
            <a:off x="457200" y="2465280"/>
            <a:ext cx="4043520" cy="3032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rcRect l="0" t="0" r="5965" b="0"/>
          <a:stretch/>
        </p:blipFill>
        <p:spPr>
          <a:xfrm>
            <a:off x="5283360" y="1828800"/>
            <a:ext cx="2766960" cy="2075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283360" y="4056120"/>
            <a:ext cx="2766960" cy="2074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250920" y="836640"/>
            <a:ext cx="180000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 –</a:t>
            </a:r>
            <a:r>
              <a:rPr b="0" lang="ru-RU" sz="4400" spc="-1" strike="noStrike">
                <a:solidFill>
                  <a:srgbClr val="420000"/>
                </a:solidFill>
                <a:latin typeface="Arial Cyr Chuv"/>
              </a:rPr>
              <a:t>схемёпа .=л.р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796000" y="1989000"/>
            <a:ext cx="1468440" cy="954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332000" y="2349360"/>
            <a:ext cx="1008000" cy="944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187280" y="3789360"/>
            <a:ext cx="1584360" cy="905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258920" y="5013360"/>
            <a:ext cx="1512720" cy="938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5724360" y="3573360"/>
            <a:ext cx="1727280" cy="7779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5651640" y="5013360"/>
            <a:ext cx="1671480" cy="901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3059280" y="3357720"/>
            <a:ext cx="2089080" cy="1058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684360" y="838080"/>
            <a:ext cx="86328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Arial Cyr Chuv"/>
              </a:rPr>
              <a:t>       </a:t>
            </a:r>
            <a:r>
              <a:rPr b="0" lang="ru-RU" sz="4400" spc="-1" strike="noStrike">
                <a:solidFill>
                  <a:srgbClr val="420000"/>
                </a:solidFill>
                <a:latin typeface="Arial Cyr Chuv"/>
              </a:rPr>
              <a:t>_ =ыру .=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34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Ачасем парта 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к.рсе ларнё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Ачасем парта 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лара==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Ачасем парта 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туха==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хушшинч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хушшинче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хушшине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8360" y="773280"/>
            <a:ext cx="863640" cy="812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492360" y="3716280"/>
            <a:ext cx="324036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96296E-006 C 0.01389 0.00648 0.02899 0.00672 0.04323 0.01111 C 0.075 0.01042 0.1066 0.01042 0.13837 0.00903 C 0.14479 0.0088 0.15799 -0.00185 0.16493 -0.0044 C 0.17153 -0.00671 0.17865 -0.00671 0.1849 -0.01111 C 0.19931 -0.02106 0.21302 -0.03217 0.22656 -0.04444 C 0.23212 -0.04953 0.23872 -0.04953 0.24323 -0.05764 C 0.24878 -0.06782 0.25503 -0.07777 0.26163 -0.08657 C 0.26476 -0.09884 0.27049 -0.10602 0.27656 -0.11551 C 0.28333 -0.12569 0.27708 -0.11921 0.28333 -0.13333 C 0.28802 -0.14398 0.29497 -0.1537 0.3 -0.16435 C 0.30451 -0.17384 0.30955 -0.1831 0.31337 -0.19328 C 0.31701 -0.20277 0.31719 -0.21134 0.3217 -0.2199 C 0.32344 -0.23287 0.32778 -0.24676 0.33333 -0.25764 C 0.33733 -0.28055 0.34514 -0.30254 0.35156 -0.3243 C 0.35625 -0.34004 0.35851 -0.35694 0.36163 -0.37338 C 0.36302 -0.38889 0.35799 -0.4162 0.375 -0.41782 C 0.38108 -0.41852 0.38715 -0.41782 0.39323 -0.41782 E">
                                      <p:cBhvr>
                                        <p:cTn id="168" dur="2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45 -0.00926 C 0.11389 -0.01134 0.08472 -0.00463 0.11892 -0.01643 C 0.12639 -0.02384 0.13437 -0.03495 0.1434 -0.04074 C 0.14843 -0.05115 0.15486 -0.06064 0.16093 -0.07037 C 0.16215 -0.07268 0.16475 -0.07361 0.16614 -0.07569 C 0.17777 -0.09189 0.16302 -0.07569 0.17309 -0.08611 C 0.17552 -0.09259 0.17621 -0.09814 0.1802 -0.1037 C 0.18125 -0.10717 0.18264 -0.11064 0.18368 -0.11412 C 0.18437 -0.11597 0.18732 -0.1162 0.18906 -0.11759 C 0.19392 -0.12152 0.1967 -0.1243 0.20295 -0.12615 C 0.225 -0.12407 0.23385 -0.12314 0.25191 -0.11921 C 0.26389 -0.11157 0.27552 -0.1125 0.28889 -0.10717 C 0.29982 -0.10277 0.29444 -0.10439 0.30451 -0.10185 C 0.31458 -0.09537 0.31145 -0.09143 0.30989 -0.07916 C 0.27691 -0.08102 0.24097 -0.07176 0.21163 -0.08611 C 0.20468 -0.08958 0.20329 -0.09444 0.196 -0.09652 C 0.19166 -0.10324 0.18576 -0.10671 0.1802 -0.1125 C 0.17673 -0.12245 0.17187 -0.14166 0.18906 -0.14213 C 0.26996 -0.14375 0.3118 -0.14375 0.38003 -0.14375 E">
                                      <p:cBhvr>
                                        <p:cTn id="172" dur="2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26 -0.00069 0.00487 -0.00023 0.0066 -0.00208 C 0.00799 -0.00347 0.00764 -0.00671 0.00834 -0.00879 C 0.01042 -0.01527 0.01198 -0.01875 0.01494 -0.0243 C 0.01875 -0.03171 0.02431 -0.03796 0.02657 -0.04652 C 0.02917 -0.05671 0.03369 -0.06666 0.03837 -0.07546 C 0.03889 -0.07986 0.03837 -0.08495 0.03994 -0.08888 C 0.04792 -0.11041 0.07622 -0.1287 0.09323 -0.13333 C 0.12292 -0.15926 0.21216 -0.14861 0.21667 -0.14884 C 0.225 -0.15023 0.23351 -0.15046 0.24167 -0.15324 C 0.24428 -0.15416 0.24584 -0.1581 0.24827 -0.15995 C 0.2533 -0.16365 0.25973 -0.16319 0.26494 -0.16666 C 0.2724 -0.17152 0.27657 -0.17916 0.2849 -0.18217 C 0.28889 -0.18703 0.29271 -0.18842 0.29671 -0.19328 C 0.32223 -0.18472 0.32049 -0.18634 0.3566 -0.18426 C 0.35712 -0.17916 0.35573 -0.17268 0.35834 -0.16875 C 0.3606 -0.16551 0.36494 -0.16689 0.36823 -0.16666 C 0.37327 -0.1662 0.3783 -0.16666 0.38334 -0.16666 E">
                                      <p:cBhvr>
                                        <p:cTn id="176" dur="2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- </a:t>
            </a:r>
            <a:r>
              <a:rPr b="0" lang="en-US" sz="4400" spc="-1" strike="noStrike">
                <a:solidFill>
                  <a:srgbClr val="420000"/>
                </a:solidFill>
                <a:latin typeface="Arial Cyr Chuv"/>
              </a:rPr>
              <a:t>сёвё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0755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Сасё пач. шёнкёра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Ёш саламлё йыхёрав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Шёнкёр-шёнкёр!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Классенче шёпланч. шав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Манё=ми =ак ирхи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Пит. ырё</a:t>
            </a:r>
            <a:r>
              <a:rPr b="0" lang="en-US" sz="2800" spc="-1" strike="noStrike">
                <a:solidFill>
                  <a:srgbClr val="000000"/>
                </a:solidFill>
                <a:latin typeface="Arial Cyr Chuv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кашнине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В.ренмешк.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Ларнё парта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8360" y="700200"/>
            <a:ext cx="934920" cy="903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627280" y="5229360"/>
            <a:ext cx="249552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05:40:45Z</dcterms:created>
  <dc:creator>школа</dc:creator>
  <dc:description/>
  <dc:language>en-US</dc:language>
  <cp:lastModifiedBy>школа</cp:lastModifiedBy>
  <dcterms:modified xsi:type="dcterms:W3CDTF">2007-12-07T11:09:40Z</dcterms:modified>
  <cp:revision>10</cp:revision>
  <dc:subject/>
  <dc:title>Слайд 1</dc:title>
</cp:coreProperties>
</file>