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538C-E71F-4426-9434-49F943D9F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2D37-AD36-426F-9D49-679791A979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53B8-BA73-4CF8-A752-61119191D0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A6D9-5AE1-48F8-BAAD-067AB42B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687-B4F8-4E50-8FA5-2E92F691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21C-F29E-4523-84F3-870AF0DB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01F-5C08-4709-823B-041A6ED4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06E-65D0-45E9-96A3-8D4BFB26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884-89C6-453E-947A-38C41E48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4B3-9945-422D-AEB9-B02A5C2F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156-DF44-48C5-B94D-8D3A656B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ABD-E991-4FA8-9E18-79DBCA5E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D58-5038-4315-9611-F51C2B1D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EA3-16B8-490B-8E5E-52AB6F88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6C0-3BE6-4D3E-B2A7-A2DAB159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7B4F-E009-47D0-AAF8-0467B2BC0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У ДОД «Центр технического творчеств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ехово-Зуевского муниципального райо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11280" y="5805360"/>
            <a:ext cx="79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Ликино-Дулев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201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642200" y="3573360"/>
            <a:ext cx="38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дагог Лев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талья Станисла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971640" y="1628640"/>
            <a:ext cx="7416720" cy="14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ление окружности 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7 равных частей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7"/>
          <p:cNvSpPr txBox="1"/>
          <p:nvPr/>
        </p:nvSpPr>
        <p:spPr>
          <a:xfrm>
            <a:off x="971640" y="1628640"/>
            <a:ext cx="7416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 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.</a:t>
            </a:r>
            <a:endParaRPr b="0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2879640" cy="26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5651640" y="716040"/>
            <a:ext cx="2808000" cy="2784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3564000" y="34290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0" y="150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36440" y="25581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136440" y="3956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ирами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0" y="3860640"/>
            <a:ext cx="2892600" cy="201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 rot="2836800">
            <a:off x="467280" y="1627560"/>
            <a:ext cx="2376360" cy="208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3348000" y="3357720"/>
            <a:ext cx="2448000" cy="210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4"/>
          <a:stretch/>
        </p:blipFill>
        <p:spPr>
          <a:xfrm>
            <a:off x="3059280" y="549360"/>
            <a:ext cx="2592360" cy="2485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5"/>
          <a:stretch/>
        </p:blipFill>
        <p:spPr>
          <a:xfrm>
            <a:off x="5830920" y="692280"/>
            <a:ext cx="3313080" cy="3095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460040" y="976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1800" y="2283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460040" y="2691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4460040" y="35863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ертки пирам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"/>
          <p:cNvPicPr/>
          <p:nvPr/>
        </p:nvPicPr>
        <p:blipFill>
          <a:blip r:embed="rId6"/>
          <a:stretch/>
        </p:blipFill>
        <p:spPr>
          <a:xfrm>
            <a:off x="5867280" y="3916440"/>
            <a:ext cx="2952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3" descr=""/>
          <p:cNvPicPr/>
          <p:nvPr/>
        </p:nvPicPr>
        <p:blipFill>
          <a:blip r:embed="rId1"/>
          <a:stretch/>
        </p:blipFill>
        <p:spPr>
          <a:xfrm>
            <a:off x="3780000" y="3429000"/>
            <a:ext cx="1108080" cy="2492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"/>
          <p:cNvPicPr/>
          <p:nvPr/>
        </p:nvPicPr>
        <p:blipFill>
          <a:blip r:embed="rId2"/>
          <a:stretch/>
        </p:blipFill>
        <p:spPr>
          <a:xfrm>
            <a:off x="6516720" y="1052640"/>
            <a:ext cx="1936800" cy="215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"/>
          <p:cNvPicPr/>
          <p:nvPr/>
        </p:nvPicPr>
        <p:blipFill>
          <a:blip r:embed="rId3"/>
          <a:stretch/>
        </p:blipFill>
        <p:spPr>
          <a:xfrm>
            <a:off x="755640" y="1268280"/>
            <a:ext cx="2152800" cy="2000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9"/>
          <p:cNvSpPr/>
          <p:nvPr/>
        </p:nvSpPr>
        <p:spPr>
          <a:xfrm>
            <a:off x="714240" y="10000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"/>
          <p:cNvSpPr/>
          <p:nvPr/>
        </p:nvSpPr>
        <p:spPr>
          <a:xfrm>
            <a:off x="3059280" y="8366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6286680" y="10000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3"/>
          <p:cNvSpPr/>
          <p:nvPr/>
        </p:nvSpPr>
        <p:spPr>
          <a:xfrm>
            <a:off x="755640" y="3716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4"/>
          <p:cNvSpPr/>
          <p:nvPr/>
        </p:nvSpPr>
        <p:spPr>
          <a:xfrm>
            <a:off x="3643200" y="38577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5"/>
          <p:cNvSpPr/>
          <p:nvPr/>
        </p:nvSpPr>
        <p:spPr>
          <a:xfrm>
            <a:off x="6084720" y="37893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28"/>
          <p:cNvSpPr/>
          <p:nvPr/>
        </p:nvSpPr>
        <p:spPr>
          <a:xfrm>
            <a:off x="1042920" y="981000"/>
            <a:ext cx="1571760" cy="210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9" descr=""/>
          <p:cNvPicPr/>
          <p:nvPr/>
        </p:nvPicPr>
        <p:blipFill>
          <a:blip r:embed="rId4"/>
          <a:stretch/>
        </p:blipFill>
        <p:spPr>
          <a:xfrm>
            <a:off x="3419640" y="1197000"/>
            <a:ext cx="1809720" cy="20192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правильные развертки пирам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25"/>
          <p:cNvSpPr/>
          <p:nvPr/>
        </p:nvSpPr>
        <p:spPr>
          <a:xfrm>
            <a:off x="6877080" y="1197000"/>
            <a:ext cx="1571760" cy="210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26"/>
          <p:cNvSpPr/>
          <p:nvPr/>
        </p:nvSpPr>
        <p:spPr>
          <a:xfrm>
            <a:off x="3635280" y="3789360"/>
            <a:ext cx="1571760" cy="210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1" descr=""/>
          <p:cNvPicPr/>
          <p:nvPr/>
        </p:nvPicPr>
        <p:blipFill>
          <a:blip r:embed="rId5"/>
          <a:stretch/>
        </p:blipFill>
        <p:spPr>
          <a:xfrm>
            <a:off x="539640" y="4005360"/>
            <a:ext cx="2232000" cy="232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"/>
          <p:cNvPicPr/>
          <p:nvPr/>
        </p:nvPicPr>
        <p:blipFill>
          <a:blip r:embed="rId6"/>
          <a:stretch/>
        </p:blipFill>
        <p:spPr>
          <a:xfrm>
            <a:off x="6372360" y="3716280"/>
            <a:ext cx="1747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5"/>
          <p:cNvSpPr/>
          <p:nvPr/>
        </p:nvSpPr>
        <p:spPr>
          <a:xfrm>
            <a:off x="2484360" y="1916280"/>
            <a:ext cx="3816360" cy="38163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2484360" y="3789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4427640" y="1916280"/>
            <a:ext cx="0" cy="38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995640" y="32130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13"/>
          <p:cNvSpPr/>
          <p:nvPr/>
        </p:nvSpPr>
        <p:spPr>
          <a:xfrm rot="10452600">
            <a:off x="4426920" y="2133720"/>
            <a:ext cx="1871640" cy="352872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3528720"/>
              <a:gd name="textAreaBottom" fmla="*/ 3529080 h 3528720"/>
            </a:gdLst>
            <a:ahLst/>
            <a:rect l="textAreaLeft" t="textAreaTop" r="textAreaRight" b="textAreaBottom"/>
            <a:pathLst>
              <a:path fill="none" w="21600" h="4313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900"/>
                  <a:pt x="12889" y="42291"/>
                  <a:pt x="1620" y="43139"/>
                </a:cubicBezTo>
              </a:path>
              <a:path stroke="0" w="21600" h="4313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900"/>
                  <a:pt x="12889" y="42291"/>
                  <a:pt x="1620" y="43139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5003640" y="256536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5508720" y="2276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5292720" y="155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5148360" y="5589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0"/>
          <p:cNvSpPr/>
          <p:nvPr/>
        </p:nvSpPr>
        <p:spPr>
          <a:xfrm>
            <a:off x="5435640" y="2205000"/>
            <a:ext cx="142920" cy="142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"/>
          <p:cNvSpPr/>
          <p:nvPr/>
        </p:nvSpPr>
        <p:spPr>
          <a:xfrm>
            <a:off x="5435640" y="5300640"/>
            <a:ext cx="142920" cy="142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508720" y="2349360"/>
            <a:ext cx="0" cy="144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4859280" y="3500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4"/>
          <p:cNvSpPr/>
          <p:nvPr/>
        </p:nvSpPr>
        <p:spPr>
          <a:xfrm>
            <a:off x="5435640" y="371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5"/>
          <p:cNvSpPr/>
          <p:nvPr/>
        </p:nvSpPr>
        <p:spPr>
          <a:xfrm>
            <a:off x="5435640" y="22050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6"/>
          <p:cNvSpPr/>
          <p:nvPr/>
        </p:nvSpPr>
        <p:spPr>
          <a:xfrm>
            <a:off x="6227640" y="371628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7"/>
          <p:cNvSpPr/>
          <p:nvPr/>
        </p:nvSpPr>
        <p:spPr>
          <a:xfrm flipH="1" flipV="1">
            <a:off x="4716000" y="2852640"/>
            <a:ext cx="1584360" cy="9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8"/>
          <p:cNvSpPr/>
          <p:nvPr/>
        </p:nvSpPr>
        <p:spPr>
          <a:xfrm flipH="1" flipV="1">
            <a:off x="2771640" y="2852640"/>
            <a:ext cx="1656000" cy="9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3276720" y="2492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6516720" y="3573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6"/>
          <p:cNvSpPr/>
          <p:nvPr/>
        </p:nvSpPr>
        <p:spPr>
          <a:xfrm>
            <a:off x="4356000" y="37162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ение окружности на 7 равных ча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95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950"/>
                            </p:stCondLst>
                            <p:childTnLst>
                              <p:par>
                                <p:cTn id="1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9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90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9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9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9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900"/>
                            </p:stCondLst>
                            <p:childTnLst>
                              <p:par>
                                <p:cTn id="2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39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49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400"/>
                            </p:stCondLst>
                            <p:childTnLst>
                              <p:par>
                                <p:cTn id="2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Oval 3"/>
          <p:cNvSpPr/>
          <p:nvPr/>
        </p:nvSpPr>
        <p:spPr>
          <a:xfrm>
            <a:off x="2484360" y="1916280"/>
            <a:ext cx="3816360" cy="38163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2484360" y="3789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4427640" y="1916280"/>
            <a:ext cx="0" cy="38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21"/>
          <p:cNvSpPr/>
          <p:nvPr/>
        </p:nvSpPr>
        <p:spPr>
          <a:xfrm flipH="1">
            <a:off x="5580000" y="2349360"/>
            <a:ext cx="216000" cy="144720"/>
          </a:xfrm>
          <a:custGeom>
            <a:avLst/>
            <a:gdLst>
              <a:gd name="textAreaLeft" fmla="*/ 360 w 216000"/>
              <a:gd name="textAreaRight" fmla="*/ 216720 w 21600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22"/>
          <p:cNvSpPr/>
          <p:nvPr/>
        </p:nvSpPr>
        <p:spPr>
          <a:xfrm flipH="1">
            <a:off x="3924360" y="1844640"/>
            <a:ext cx="216000" cy="355680"/>
          </a:xfrm>
          <a:custGeom>
            <a:avLst/>
            <a:gdLst>
              <a:gd name="textAreaLeft" fmla="*/ 360 w 216000"/>
              <a:gd name="textAreaRight" fmla="*/ 216720 w 21600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fill="none" w="21600" h="21229">
                <a:moveTo>
                  <a:pt x="3986" y="0"/>
                </a:moveTo>
                <a:cubicBezTo>
                  <a:pt x="14200" y="1918"/>
                  <a:pt x="21600" y="10837"/>
                  <a:pt x="21600" y="21229"/>
                </a:cubicBezTo>
              </a:path>
              <a:path stroke="0" w="21600" h="21229">
                <a:moveTo>
                  <a:pt x="3986" y="0"/>
                </a:moveTo>
                <a:cubicBezTo>
                  <a:pt x="14200" y="1918"/>
                  <a:pt x="21600" y="10837"/>
                  <a:pt x="21600" y="21229"/>
                </a:cubicBezTo>
                <a:lnTo>
                  <a:pt x="0" y="2122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rc 23"/>
          <p:cNvSpPr/>
          <p:nvPr/>
        </p:nvSpPr>
        <p:spPr>
          <a:xfrm flipH="1" rot="16180800">
            <a:off x="2488320" y="2703600"/>
            <a:ext cx="422280" cy="288720"/>
          </a:xfrm>
          <a:custGeom>
            <a:avLst/>
            <a:gdLst>
              <a:gd name="textAreaLeft" fmla="*/ -360 w 422280"/>
              <a:gd name="textAreaRight" fmla="*/ 422280 w 422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32764" h="21600">
                <a:moveTo>
                  <a:pt x="-1" y="3108"/>
                </a:moveTo>
                <a:cubicBezTo>
                  <a:pt x="3368" y="1074"/>
                  <a:pt x="7228" y="-1"/>
                  <a:pt x="11164" y="0"/>
                </a:cubicBezTo>
                <a:cubicBezTo>
                  <a:pt x="23093" y="0"/>
                  <a:pt x="32764" y="9670"/>
                  <a:pt x="32764" y="21600"/>
                </a:cubicBezTo>
              </a:path>
              <a:path stroke="0" w="32764" h="21600">
                <a:moveTo>
                  <a:pt x="-1" y="3108"/>
                </a:moveTo>
                <a:cubicBezTo>
                  <a:pt x="3368" y="1074"/>
                  <a:pt x="7228" y="-1"/>
                  <a:pt x="11164" y="0"/>
                </a:cubicBezTo>
                <a:cubicBezTo>
                  <a:pt x="23093" y="0"/>
                  <a:pt x="32764" y="9670"/>
                  <a:pt x="32764" y="21600"/>
                </a:cubicBezTo>
                <a:lnTo>
                  <a:pt x="1116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25"/>
          <p:cNvSpPr/>
          <p:nvPr/>
        </p:nvSpPr>
        <p:spPr>
          <a:xfrm flipH="1" rot="15263400">
            <a:off x="2468880" y="4306320"/>
            <a:ext cx="317160" cy="289440"/>
          </a:xfrm>
          <a:custGeom>
            <a:avLst/>
            <a:gdLst>
              <a:gd name="textAreaLeft" fmla="*/ -360 w 317160"/>
              <a:gd name="textAreaRight" fmla="*/ 317160 w 317160"/>
              <a:gd name="textAreaTop" fmla="*/ 0 h 289440"/>
              <a:gd name="textAreaBottom" fmla="*/ 289800 h 289440"/>
            </a:gdLst>
            <a:ahLst/>
            <a:rect l="textAreaLeft" t="textAreaTop" r="textAreaRight" b="textAreaBottom"/>
            <a:pathLst>
              <a:path fill="none" w="24589" h="21600">
                <a:moveTo>
                  <a:pt x="-1" y="207"/>
                </a:moveTo>
                <a:cubicBezTo>
                  <a:pt x="990" y="69"/>
                  <a:pt x="1989" y="-1"/>
                  <a:pt x="2989" y="0"/>
                </a:cubicBezTo>
                <a:cubicBezTo>
                  <a:pt x="14918" y="0"/>
                  <a:pt x="24589" y="9670"/>
                  <a:pt x="24589" y="21600"/>
                </a:cubicBezTo>
              </a:path>
              <a:path stroke="0" w="24589" h="21600">
                <a:moveTo>
                  <a:pt x="-1" y="207"/>
                </a:moveTo>
                <a:cubicBezTo>
                  <a:pt x="990" y="69"/>
                  <a:pt x="1989" y="-1"/>
                  <a:pt x="2989" y="0"/>
                </a:cubicBezTo>
                <a:cubicBezTo>
                  <a:pt x="14918" y="0"/>
                  <a:pt x="24589" y="9670"/>
                  <a:pt x="24589" y="21600"/>
                </a:cubicBezTo>
                <a:lnTo>
                  <a:pt x="2989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26"/>
          <p:cNvSpPr/>
          <p:nvPr/>
        </p:nvSpPr>
        <p:spPr>
          <a:xfrm flipH="1" rot="9996600">
            <a:off x="3634920" y="5444280"/>
            <a:ext cx="317520" cy="289080"/>
          </a:xfrm>
          <a:custGeom>
            <a:avLst/>
            <a:gdLst>
              <a:gd name="textAreaLeft" fmla="*/ 360 w 317520"/>
              <a:gd name="textAreaRight" fmla="*/ 318240 w 3175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fill="none" w="24589" h="21600">
                <a:moveTo>
                  <a:pt x="-1" y="207"/>
                </a:moveTo>
                <a:cubicBezTo>
                  <a:pt x="990" y="69"/>
                  <a:pt x="1989" y="-1"/>
                  <a:pt x="2989" y="0"/>
                </a:cubicBezTo>
                <a:cubicBezTo>
                  <a:pt x="14918" y="0"/>
                  <a:pt x="24589" y="9670"/>
                  <a:pt x="24589" y="21600"/>
                </a:cubicBezTo>
              </a:path>
              <a:path stroke="0" w="24589" h="21600">
                <a:moveTo>
                  <a:pt x="-1" y="207"/>
                </a:moveTo>
                <a:cubicBezTo>
                  <a:pt x="990" y="69"/>
                  <a:pt x="1989" y="-1"/>
                  <a:pt x="2989" y="0"/>
                </a:cubicBezTo>
                <a:cubicBezTo>
                  <a:pt x="14918" y="0"/>
                  <a:pt x="24589" y="9670"/>
                  <a:pt x="24589" y="21600"/>
                </a:cubicBezTo>
                <a:lnTo>
                  <a:pt x="2989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28"/>
          <p:cNvSpPr/>
          <p:nvPr/>
        </p:nvSpPr>
        <p:spPr>
          <a:xfrm flipH="1" rot="2160600">
            <a:off x="5218920" y="5157360"/>
            <a:ext cx="507960" cy="298800"/>
          </a:xfrm>
          <a:custGeom>
            <a:avLst/>
            <a:gdLst>
              <a:gd name="textAreaLeft" fmla="*/ -360 w 507960"/>
              <a:gd name="textAreaRight" fmla="*/ 507960 w 507960"/>
              <a:gd name="textAreaTop" fmla="*/ 0 h 298800"/>
              <a:gd name="textAreaBottom" fmla="*/ 299160 h 298800"/>
            </a:gdLst>
            <a:ahLst/>
            <a:rect l="textAreaLeft" t="textAreaTop" r="textAreaRight" b="textAreaBottom"/>
            <a:pathLst>
              <a:path fill="none" w="39404" h="21600">
                <a:moveTo>
                  <a:pt x="-1" y="13770"/>
                </a:moveTo>
                <a:cubicBezTo>
                  <a:pt x="3228" y="5468"/>
                  <a:pt x="11222" y="-1"/>
                  <a:pt x="20131" y="0"/>
                </a:cubicBezTo>
                <a:cubicBezTo>
                  <a:pt x="28274" y="0"/>
                  <a:pt x="35726" y="4580"/>
                  <a:pt x="39403" y="11847"/>
                </a:cubicBezTo>
              </a:path>
              <a:path stroke="0" w="39404" h="21600">
                <a:moveTo>
                  <a:pt x="-1" y="13770"/>
                </a:moveTo>
                <a:cubicBezTo>
                  <a:pt x="3228" y="5468"/>
                  <a:pt x="11222" y="-1"/>
                  <a:pt x="20131" y="0"/>
                </a:cubicBezTo>
                <a:cubicBezTo>
                  <a:pt x="28274" y="0"/>
                  <a:pt x="35726" y="4580"/>
                  <a:pt x="39403" y="11847"/>
                </a:cubicBezTo>
                <a:lnTo>
                  <a:pt x="2013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9"/>
          <p:cNvSpPr/>
          <p:nvPr/>
        </p:nvSpPr>
        <p:spPr>
          <a:xfrm>
            <a:off x="6227640" y="371628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6516720" y="3284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1"/>
          <p:cNvSpPr/>
          <p:nvPr/>
        </p:nvSpPr>
        <p:spPr>
          <a:xfrm>
            <a:off x="5651640" y="2349360"/>
            <a:ext cx="14256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5796000" y="1989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3"/>
          <p:cNvSpPr/>
          <p:nvPr/>
        </p:nvSpPr>
        <p:spPr>
          <a:xfrm>
            <a:off x="2556000" y="292428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4"/>
          <p:cNvSpPr/>
          <p:nvPr/>
        </p:nvSpPr>
        <p:spPr>
          <a:xfrm>
            <a:off x="2556000" y="443700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5"/>
          <p:cNvSpPr/>
          <p:nvPr/>
        </p:nvSpPr>
        <p:spPr>
          <a:xfrm>
            <a:off x="3780000" y="5589720"/>
            <a:ext cx="14256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6"/>
          <p:cNvSpPr/>
          <p:nvPr/>
        </p:nvSpPr>
        <p:spPr>
          <a:xfrm>
            <a:off x="5580000" y="522936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7"/>
          <p:cNvSpPr/>
          <p:nvPr/>
        </p:nvSpPr>
        <p:spPr>
          <a:xfrm>
            <a:off x="3924360" y="1916280"/>
            <a:ext cx="142920" cy="142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rc 13"/>
          <p:cNvSpPr/>
          <p:nvPr/>
        </p:nvSpPr>
        <p:spPr>
          <a:xfrm rot="10452600">
            <a:off x="4426920" y="2133720"/>
            <a:ext cx="1871640" cy="352872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3528720"/>
              <a:gd name="textAreaBottom" fmla="*/ 3529080 h 3528720"/>
            </a:gdLst>
            <a:ahLst/>
            <a:rect l="textAreaLeft" t="textAreaTop" r="textAreaRight" b="textAreaBottom"/>
            <a:pathLst>
              <a:path fill="none" w="21600" h="4313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900"/>
                  <a:pt x="12889" y="42291"/>
                  <a:pt x="1620" y="43139"/>
                </a:cubicBezTo>
              </a:path>
              <a:path stroke="0" w="21600" h="4313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900"/>
                  <a:pt x="12889" y="42291"/>
                  <a:pt x="1620" y="43139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5508720" y="2276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>
            <a:off x="5508720" y="2349360"/>
            <a:ext cx="0" cy="144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5"/>
          <p:cNvSpPr/>
          <p:nvPr/>
        </p:nvSpPr>
        <p:spPr>
          <a:xfrm>
            <a:off x="5435640" y="22050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4"/>
          <p:cNvSpPr/>
          <p:nvPr/>
        </p:nvSpPr>
        <p:spPr>
          <a:xfrm>
            <a:off x="5435640" y="371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6"/>
          <p:cNvSpPr/>
          <p:nvPr/>
        </p:nvSpPr>
        <p:spPr>
          <a:xfrm>
            <a:off x="4356000" y="37162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995640" y="32130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3635280" y="148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2124000" y="2492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1835280" y="43657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2"/>
          <p:cNvSpPr/>
          <p:nvPr/>
        </p:nvSpPr>
        <p:spPr>
          <a:xfrm>
            <a:off x="3059280" y="5805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5796000" y="5084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ение окружности на 7 равных ча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 flipH="1">
            <a:off x="4500360" y="3789360"/>
            <a:ext cx="1873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3995640" y="1989000"/>
            <a:ext cx="432000" cy="18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>
            <a:off x="2700360" y="2997360"/>
            <a:ext cx="1655640" cy="792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V="1">
            <a:off x="2700360" y="3789360"/>
            <a:ext cx="1727280" cy="719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2"/>
          <p:cNvSpPr/>
          <p:nvPr/>
        </p:nvSpPr>
        <p:spPr>
          <a:xfrm flipV="1">
            <a:off x="3851280" y="3789360"/>
            <a:ext cx="576360" cy="1944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 flipV="1">
            <a:off x="4427640" y="3789360"/>
            <a:ext cx="1224000" cy="14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 flipH="1">
            <a:off x="4427640" y="2421000"/>
            <a:ext cx="1296720" cy="1368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95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95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950"/>
                            </p:stCondLst>
                            <p:childTnLst>
                              <p:par>
                                <p:cTn id="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950"/>
                            </p:stCondLst>
                            <p:childTnLst>
                              <p:par>
                                <p:cTn id="3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95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995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45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245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450"/>
                            </p:stCondLst>
                            <p:childTnLst>
                              <p:par>
                                <p:cTn id="3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445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450"/>
                            </p:stCondLst>
                            <p:childTnLst>
                              <p:par>
                                <p:cTn id="3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645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745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845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9450"/>
                            </p:stCondLst>
                            <p:childTnLst>
                              <p:par>
                                <p:cTn id="4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45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1450"/>
                            </p:stCondLst>
                            <p:childTnLst>
                              <p:par>
                                <p:cTn id="4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245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3450"/>
                            </p:stCondLst>
                            <p:childTnLst>
                              <p:par>
                                <p:cTn id="4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3450"/>
                            </p:stCondLst>
                            <p:childTnLst>
                              <p:par>
                                <p:cTn id="4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4450"/>
                            </p:stCondLst>
                            <p:childTnLst>
                              <p:par>
                                <p:cTn id="4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450"/>
                            </p:stCondLst>
                            <p:childTnLst>
                              <p:par>
                                <p:cTn id="4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6450"/>
                            </p:stCondLst>
                            <p:childTnLst>
                              <p:par>
                                <p:cTn id="4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7450"/>
                            </p:stCondLst>
                            <p:childTnLst>
                              <p:par>
                                <p:cTn id="4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8450"/>
                            </p:stCondLst>
                            <p:childTnLst>
                              <p:par>
                                <p:cTn id="4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9450"/>
                            </p:stCondLst>
                            <p:childTnLst>
                              <p:par>
                                <p:cTn id="48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Практическая рабо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4859280" y="1268280"/>
            <a:ext cx="392904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Новогодня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грушка -  подвеска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«Зайч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IMG_7205"/>
          <p:cNvPicPr/>
          <p:nvPr/>
        </p:nvPicPr>
        <p:blipFill>
          <a:blip r:embed="rId1"/>
          <a:stretch/>
        </p:blipFill>
        <p:spPr>
          <a:xfrm>
            <a:off x="468360" y="1052640"/>
            <a:ext cx="4174920" cy="556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val 3"/>
          <p:cNvSpPr/>
          <p:nvPr/>
        </p:nvSpPr>
        <p:spPr>
          <a:xfrm>
            <a:off x="2556000" y="1989000"/>
            <a:ext cx="3816360" cy="38163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2556000" y="38624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4498920" y="1989000"/>
            <a:ext cx="0" cy="381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rc 21"/>
          <p:cNvSpPr/>
          <p:nvPr/>
        </p:nvSpPr>
        <p:spPr>
          <a:xfrm flipH="1">
            <a:off x="5650920" y="2422440"/>
            <a:ext cx="215640" cy="144720"/>
          </a:xfrm>
          <a:custGeom>
            <a:avLst/>
            <a:gdLst>
              <a:gd name="textAreaLeft" fmla="*/ -360 w 215640"/>
              <a:gd name="textAreaRight" fmla="*/ 215640 w 2156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rc 22"/>
          <p:cNvSpPr/>
          <p:nvPr/>
        </p:nvSpPr>
        <p:spPr>
          <a:xfrm flipH="1">
            <a:off x="3995640" y="1917720"/>
            <a:ext cx="216000" cy="355680"/>
          </a:xfrm>
          <a:custGeom>
            <a:avLst/>
            <a:gdLst>
              <a:gd name="textAreaLeft" fmla="*/ 360 w 216000"/>
              <a:gd name="textAreaRight" fmla="*/ 216720 w 21600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fill="none" w="21600" h="21229">
                <a:moveTo>
                  <a:pt x="3986" y="0"/>
                </a:moveTo>
                <a:cubicBezTo>
                  <a:pt x="14200" y="1918"/>
                  <a:pt x="21600" y="10837"/>
                  <a:pt x="21600" y="21229"/>
                </a:cubicBezTo>
              </a:path>
              <a:path stroke="0" w="21600" h="21229">
                <a:moveTo>
                  <a:pt x="3986" y="0"/>
                </a:moveTo>
                <a:cubicBezTo>
                  <a:pt x="14200" y="1918"/>
                  <a:pt x="21600" y="10837"/>
                  <a:pt x="21600" y="21229"/>
                </a:cubicBezTo>
                <a:lnTo>
                  <a:pt x="0" y="2122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rc 23"/>
          <p:cNvSpPr/>
          <p:nvPr/>
        </p:nvSpPr>
        <p:spPr>
          <a:xfrm flipH="1" rot="16180800">
            <a:off x="2559960" y="2775960"/>
            <a:ext cx="422280" cy="289080"/>
          </a:xfrm>
          <a:custGeom>
            <a:avLst/>
            <a:gdLst>
              <a:gd name="textAreaLeft" fmla="*/ -360 w 422280"/>
              <a:gd name="textAreaRight" fmla="*/ 422280 w 4222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fill="none" w="32764" h="21600">
                <a:moveTo>
                  <a:pt x="-1" y="3108"/>
                </a:moveTo>
                <a:cubicBezTo>
                  <a:pt x="3368" y="1074"/>
                  <a:pt x="7228" y="-1"/>
                  <a:pt x="11164" y="0"/>
                </a:cubicBezTo>
                <a:cubicBezTo>
                  <a:pt x="23093" y="0"/>
                  <a:pt x="32764" y="9670"/>
                  <a:pt x="32764" y="21600"/>
                </a:cubicBezTo>
              </a:path>
              <a:path stroke="0" w="32764" h="21600">
                <a:moveTo>
                  <a:pt x="-1" y="3108"/>
                </a:moveTo>
                <a:cubicBezTo>
                  <a:pt x="3368" y="1074"/>
                  <a:pt x="7228" y="-1"/>
                  <a:pt x="11164" y="0"/>
                </a:cubicBezTo>
                <a:cubicBezTo>
                  <a:pt x="23093" y="0"/>
                  <a:pt x="32764" y="9670"/>
                  <a:pt x="32764" y="21600"/>
                </a:cubicBezTo>
                <a:lnTo>
                  <a:pt x="1116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25"/>
          <p:cNvSpPr/>
          <p:nvPr/>
        </p:nvSpPr>
        <p:spPr>
          <a:xfrm flipH="1" rot="15263400">
            <a:off x="2540880" y="4379760"/>
            <a:ext cx="317160" cy="288720"/>
          </a:xfrm>
          <a:custGeom>
            <a:avLst/>
            <a:gdLst>
              <a:gd name="textAreaLeft" fmla="*/ -360 w 317160"/>
              <a:gd name="textAreaRight" fmla="*/ 317160 w 3171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4589" h="21600">
                <a:moveTo>
                  <a:pt x="-1" y="207"/>
                </a:moveTo>
                <a:cubicBezTo>
                  <a:pt x="990" y="69"/>
                  <a:pt x="1989" y="-1"/>
                  <a:pt x="2989" y="0"/>
                </a:cubicBezTo>
                <a:cubicBezTo>
                  <a:pt x="14918" y="0"/>
                  <a:pt x="24589" y="9670"/>
                  <a:pt x="24589" y="21600"/>
                </a:cubicBezTo>
              </a:path>
              <a:path stroke="0" w="24589" h="21600">
                <a:moveTo>
                  <a:pt x="-1" y="207"/>
                </a:moveTo>
                <a:cubicBezTo>
                  <a:pt x="990" y="69"/>
                  <a:pt x="1989" y="-1"/>
                  <a:pt x="2989" y="0"/>
                </a:cubicBezTo>
                <a:cubicBezTo>
                  <a:pt x="14918" y="0"/>
                  <a:pt x="24589" y="9670"/>
                  <a:pt x="24589" y="21600"/>
                </a:cubicBezTo>
                <a:lnTo>
                  <a:pt x="2989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26"/>
          <p:cNvSpPr/>
          <p:nvPr/>
        </p:nvSpPr>
        <p:spPr>
          <a:xfrm flipH="1" rot="9996600">
            <a:off x="3706560" y="5517360"/>
            <a:ext cx="317520" cy="289080"/>
          </a:xfrm>
          <a:custGeom>
            <a:avLst/>
            <a:gdLst>
              <a:gd name="textAreaLeft" fmla="*/ 360 w 317520"/>
              <a:gd name="textAreaRight" fmla="*/ 318240 w 3175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fill="none" w="24589" h="21600">
                <a:moveTo>
                  <a:pt x="-1" y="207"/>
                </a:moveTo>
                <a:cubicBezTo>
                  <a:pt x="990" y="69"/>
                  <a:pt x="1989" y="-1"/>
                  <a:pt x="2989" y="0"/>
                </a:cubicBezTo>
                <a:cubicBezTo>
                  <a:pt x="14918" y="0"/>
                  <a:pt x="24589" y="9670"/>
                  <a:pt x="24589" y="21600"/>
                </a:cubicBezTo>
              </a:path>
              <a:path stroke="0" w="24589" h="21600">
                <a:moveTo>
                  <a:pt x="-1" y="207"/>
                </a:moveTo>
                <a:cubicBezTo>
                  <a:pt x="990" y="69"/>
                  <a:pt x="1989" y="-1"/>
                  <a:pt x="2989" y="0"/>
                </a:cubicBezTo>
                <a:cubicBezTo>
                  <a:pt x="14918" y="0"/>
                  <a:pt x="24589" y="9670"/>
                  <a:pt x="24589" y="21600"/>
                </a:cubicBezTo>
                <a:lnTo>
                  <a:pt x="2989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28"/>
          <p:cNvSpPr/>
          <p:nvPr/>
        </p:nvSpPr>
        <p:spPr>
          <a:xfrm flipH="1" rot="2160600">
            <a:off x="5290560" y="5230440"/>
            <a:ext cx="507960" cy="298800"/>
          </a:xfrm>
          <a:custGeom>
            <a:avLst/>
            <a:gdLst>
              <a:gd name="textAreaLeft" fmla="*/ -360 w 507960"/>
              <a:gd name="textAreaRight" fmla="*/ 507960 w 507960"/>
              <a:gd name="textAreaTop" fmla="*/ 0 h 298800"/>
              <a:gd name="textAreaBottom" fmla="*/ 299160 h 298800"/>
            </a:gdLst>
            <a:ahLst/>
            <a:rect l="textAreaLeft" t="textAreaTop" r="textAreaRight" b="textAreaBottom"/>
            <a:pathLst>
              <a:path fill="none" w="39404" h="21600">
                <a:moveTo>
                  <a:pt x="-1" y="13770"/>
                </a:moveTo>
                <a:cubicBezTo>
                  <a:pt x="3228" y="5468"/>
                  <a:pt x="11222" y="-1"/>
                  <a:pt x="20131" y="0"/>
                </a:cubicBezTo>
                <a:cubicBezTo>
                  <a:pt x="28274" y="0"/>
                  <a:pt x="35726" y="4580"/>
                  <a:pt x="39403" y="11847"/>
                </a:cubicBezTo>
              </a:path>
              <a:path stroke="0" w="39404" h="21600">
                <a:moveTo>
                  <a:pt x="-1" y="13770"/>
                </a:moveTo>
                <a:cubicBezTo>
                  <a:pt x="3228" y="5468"/>
                  <a:pt x="11222" y="-1"/>
                  <a:pt x="20131" y="0"/>
                </a:cubicBezTo>
                <a:cubicBezTo>
                  <a:pt x="28274" y="0"/>
                  <a:pt x="35726" y="4580"/>
                  <a:pt x="39403" y="11847"/>
                </a:cubicBezTo>
                <a:lnTo>
                  <a:pt x="2013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6299280" y="378936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6588000" y="3357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1"/>
          <p:cNvSpPr/>
          <p:nvPr/>
        </p:nvSpPr>
        <p:spPr>
          <a:xfrm>
            <a:off x="5722920" y="242244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5867280" y="20620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3"/>
          <p:cNvSpPr/>
          <p:nvPr/>
        </p:nvSpPr>
        <p:spPr>
          <a:xfrm>
            <a:off x="2627280" y="2997360"/>
            <a:ext cx="142920" cy="142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4"/>
          <p:cNvSpPr/>
          <p:nvPr/>
        </p:nvSpPr>
        <p:spPr>
          <a:xfrm>
            <a:off x="2627280" y="451008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5"/>
          <p:cNvSpPr/>
          <p:nvPr/>
        </p:nvSpPr>
        <p:spPr>
          <a:xfrm>
            <a:off x="3851280" y="566244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36"/>
          <p:cNvSpPr/>
          <p:nvPr/>
        </p:nvSpPr>
        <p:spPr>
          <a:xfrm>
            <a:off x="5651640" y="5302080"/>
            <a:ext cx="14256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37"/>
          <p:cNvSpPr/>
          <p:nvPr/>
        </p:nvSpPr>
        <p:spPr>
          <a:xfrm>
            <a:off x="3995640" y="198900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rc 13"/>
          <p:cNvSpPr/>
          <p:nvPr/>
        </p:nvSpPr>
        <p:spPr>
          <a:xfrm rot="10452600">
            <a:off x="4498200" y="2206800"/>
            <a:ext cx="1871640" cy="352872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3528720"/>
              <a:gd name="textAreaBottom" fmla="*/ 3529080 h 3528720"/>
            </a:gdLst>
            <a:ahLst/>
            <a:rect l="textAreaLeft" t="textAreaTop" r="textAreaRight" b="textAreaBottom"/>
            <a:pathLst>
              <a:path fill="none" w="21600" h="4313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900"/>
                  <a:pt x="12889" y="42291"/>
                  <a:pt x="1620" y="43139"/>
                </a:cubicBezTo>
              </a:path>
              <a:path stroke="0" w="21600" h="4313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900"/>
                  <a:pt x="12889" y="42291"/>
                  <a:pt x="1620" y="43139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5580000" y="234936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>
            <a:off x="5580000" y="2422440"/>
            <a:ext cx="0" cy="144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5"/>
          <p:cNvSpPr/>
          <p:nvPr/>
        </p:nvSpPr>
        <p:spPr>
          <a:xfrm>
            <a:off x="5506920" y="22780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4"/>
          <p:cNvSpPr/>
          <p:nvPr/>
        </p:nvSpPr>
        <p:spPr>
          <a:xfrm>
            <a:off x="5506920" y="3789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4427640" y="378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4067280" y="328608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2"/>
          <p:cNvSpPr/>
          <p:nvPr/>
        </p:nvSpPr>
        <p:spPr>
          <a:xfrm>
            <a:off x="3706920" y="1557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2"/>
          <p:cNvSpPr/>
          <p:nvPr/>
        </p:nvSpPr>
        <p:spPr>
          <a:xfrm>
            <a:off x="2195640" y="2565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1906560" y="4438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2"/>
          <p:cNvSpPr/>
          <p:nvPr/>
        </p:nvSpPr>
        <p:spPr>
          <a:xfrm>
            <a:off x="3130560" y="58784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2"/>
          <p:cNvSpPr/>
          <p:nvPr/>
        </p:nvSpPr>
        <p:spPr>
          <a:xfrm>
            <a:off x="5867280" y="5157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 flipH="1">
            <a:off x="4571640" y="3862440"/>
            <a:ext cx="1873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"/>
          <p:cNvSpPr/>
          <p:nvPr/>
        </p:nvSpPr>
        <p:spPr>
          <a:xfrm>
            <a:off x="4067280" y="2062080"/>
            <a:ext cx="431640" cy="18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771640" y="3070080"/>
            <a:ext cx="1656000" cy="792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"/>
          <p:cNvSpPr/>
          <p:nvPr/>
        </p:nvSpPr>
        <p:spPr>
          <a:xfrm flipV="1">
            <a:off x="2771640" y="3862080"/>
            <a:ext cx="1727280" cy="7189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922560" y="3862440"/>
            <a:ext cx="576360" cy="1944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2"/>
          <p:cNvSpPr/>
          <p:nvPr/>
        </p:nvSpPr>
        <p:spPr>
          <a:xfrm flipH="1" flipV="1">
            <a:off x="4498920" y="3862440"/>
            <a:ext cx="1225440" cy="1511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 flipH="1">
            <a:off x="4498560" y="2494080"/>
            <a:ext cx="1297080" cy="1368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2"/>
          <p:cNvSpPr/>
          <p:nvPr/>
        </p:nvSpPr>
        <p:spPr>
          <a:xfrm flipH="1" flipV="1">
            <a:off x="5795640" y="2494080"/>
            <a:ext cx="576360" cy="1295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 flipH="1" flipV="1">
            <a:off x="4067280" y="2061720"/>
            <a:ext cx="1728720" cy="4302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2698560" y="2060640"/>
            <a:ext cx="1368360" cy="1009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2"/>
          <p:cNvSpPr/>
          <p:nvPr/>
        </p:nvSpPr>
        <p:spPr>
          <a:xfrm flipH="1">
            <a:off x="2698920" y="3068640"/>
            <a:ext cx="1440" cy="1512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2"/>
          <p:cNvSpPr/>
          <p:nvPr/>
        </p:nvSpPr>
        <p:spPr>
          <a:xfrm flipH="1" flipV="1">
            <a:off x="2698560" y="4581360"/>
            <a:ext cx="1223640" cy="1152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 flipH="1">
            <a:off x="3922200" y="5373720"/>
            <a:ext cx="1800360" cy="36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2"/>
          <p:cNvSpPr/>
          <p:nvPr/>
        </p:nvSpPr>
        <p:spPr>
          <a:xfrm flipH="1" flipV="1">
            <a:off x="2122200" y="2781360"/>
            <a:ext cx="5040360" cy="230328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ение окружности на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14600" y="45079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е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950"/>
                            </p:stCondLst>
                            <p:childTnLst>
                              <p:par>
                                <p:cTn id="5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95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950"/>
                            </p:stCondLst>
                            <p:childTnLst>
                              <p:par>
                                <p:cTn id="5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95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795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9950"/>
                            </p:stCondLst>
                            <p:childTnLst>
                              <p:par>
                                <p:cTn id="5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450"/>
                            </p:stCondLst>
                            <p:childTnLst>
                              <p:par>
                                <p:cTn id="5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245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3450"/>
                            </p:stCondLst>
                            <p:childTnLst>
                              <p:par>
                                <p:cTn id="5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4450"/>
                            </p:stCondLst>
                            <p:childTnLst>
                              <p:par>
                                <p:cTn id="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450"/>
                            </p:stCondLst>
                            <p:childTnLst>
                              <p:par>
                                <p:cTn id="5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645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7450"/>
                            </p:stCondLst>
                            <p:childTnLst>
                              <p:par>
                                <p:cTn id="6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845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9450"/>
                            </p:stCondLst>
                            <p:childTnLst>
                              <p:par>
                                <p:cTn id="6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450"/>
                            </p:stCondLst>
                            <p:childTnLst>
                              <p:par>
                                <p:cTn id="6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1450"/>
                            </p:stCondLst>
                            <p:childTnLst>
                              <p:par>
                                <p:cTn id="6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245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3450"/>
                            </p:stCondLst>
                            <p:childTnLst>
                              <p:par>
                                <p:cTn id="6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3450"/>
                            </p:stCondLst>
                            <p:childTnLst>
                              <p:par>
                                <p:cTn id="6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4450"/>
                            </p:stCondLst>
                            <p:childTnLst>
                              <p:par>
                                <p:cTn id="67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5450"/>
                            </p:stCondLst>
                            <p:childTnLst>
                              <p:par>
                                <p:cTn id="67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6450"/>
                            </p:stCondLst>
                            <p:childTnLst>
                              <p:par>
                                <p:cTn id="6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7450"/>
                            </p:stCondLst>
                            <p:childTnLst>
                              <p:par>
                                <p:cTn id="69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8450"/>
                            </p:stCondLst>
                            <p:childTnLst>
                              <p:par>
                                <p:cTn id="7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9450"/>
                            </p:stCondLst>
                            <p:childTnLst>
                              <p:par>
                                <p:cTn id="7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0450"/>
                            </p:stCondLst>
                            <p:childTnLst>
                              <p:par>
                                <p:cTn id="7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31450"/>
                            </p:stCondLst>
                            <p:childTnLst>
                              <p:par>
                                <p:cTn id="72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2450"/>
                            </p:stCondLst>
                            <p:childTnLst>
                              <p:par>
                                <p:cTn id="7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3450"/>
                            </p:stCondLst>
                            <p:childTnLst>
                              <p:par>
                                <p:cTn id="7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4450"/>
                            </p:stCondLst>
                            <p:childTnLst>
                              <p:par>
                                <p:cTn id="7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5450"/>
                            </p:stCondLst>
                            <p:childTnLst>
                              <p:par>
                                <p:cTn id="7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36450"/>
                            </p:stCondLst>
                            <p:childTnLst>
                              <p:par>
                                <p:cTn id="7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IMG_6802"/>
          <p:cNvPicPr/>
          <p:nvPr/>
        </p:nvPicPr>
        <p:blipFill>
          <a:blip r:embed="rId1"/>
          <a:stretch/>
        </p:blipFill>
        <p:spPr>
          <a:xfrm>
            <a:off x="468360" y="333360"/>
            <a:ext cx="4514760" cy="6021360"/>
          </a:xfrm>
          <a:prstGeom prst="rect">
            <a:avLst/>
          </a:prstGeom>
          <a:ln w="0">
            <a:noFill/>
          </a:ln>
        </p:spPr>
      </p:pic>
      <p:sp>
        <p:nvSpPr>
          <p:cNvPr id="197" name="Заголовок 1"/>
          <p:cNvSpPr/>
          <p:nvPr/>
        </p:nvSpPr>
        <p:spPr>
          <a:xfrm>
            <a:off x="5148360" y="404640"/>
            <a:ext cx="3495600" cy="280836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Новогодняя игрушка -  подвеска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3333cc"/>
                </a:solidFill>
                <a:latin typeface="Arial"/>
              </a:rPr>
              <a:t>«Сосуль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2:43:46Z</dcterms:created>
  <dc:creator>Лидия</dc:creator>
  <dc:description/>
  <dc:language>en-US</dc:language>
  <cp:lastModifiedBy>Admin</cp:lastModifiedBy>
  <dcterms:modified xsi:type="dcterms:W3CDTF">2011-01-09T22:34:20Z</dcterms:modified>
  <cp:revision>341</cp:revision>
  <dc:subject/>
  <dc:title>Чертежные треугольники</dc:title>
</cp:coreProperties>
</file>