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17.png" ContentType="image/png"/>
  <Override PartName="/ppt/media/image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01E-F826-4F1C-AF22-372FE286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7CF-EBD2-464D-B52A-D370348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D12-0031-4CCF-811C-1F6152C7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DBD-F251-4D62-A01D-1FE190F1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3DE2-8201-4C1A-BAF9-270A4872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AB09-18C4-41FA-8CFD-AD904A63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7EFF-81F9-4A91-A025-BBCDF042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14AC-AEDB-48B7-A1A9-9105B9B3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DCF8-75F9-4943-B6F1-FC490A98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DF6-0629-4234-9728-81D43E48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3D48-7374-40C7-A46A-FE0FBEFD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D4E-2C8B-469F-B9EC-0487884A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1304-9336-46FD-9B2A-84ED947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E4FC-E241-4CA3-B7B0-C11419BD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B672-1361-4997-A19C-1EE8600E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F859-507D-4D34-B68C-C134E13A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C73-8009-4ABC-B8B2-77F62171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F89-36C7-4048-B9A0-04CF2779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76D-CB97-45FD-BE4D-F78DD208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D5E-22CE-4D70-BACB-F532308A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6DC-D89A-4C2B-B8EC-D0B6E395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AEA-ACDD-4CDE-8BC3-50A2840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AF1-B5A2-405C-805E-6F7DFE8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496-2710-4C50-A494-C5DB6D1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8DE-422D-4E94-A1B0-CBCF9B2A6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161F-1E14-4EA3-BA06-D82C9A7F93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647640" y="30492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неурочной деятельности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БЩЕИНТЕЛЛЕКТУАЛЬНОМУ и исследовательскому  НАПРАВ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Экологическая академ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905120" y="4267080"/>
            <a:ext cx="44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овалова Тамар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Школы № 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йбышев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431640" y="1531440"/>
            <a:ext cx="835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последовательно раскрывает не только научную и практическую значимость изучаемых объектов, но и их эстетическую ценность для человека 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е место занимают задания на развитие информационной грамотности, которые предполагают работу детей со справочниками, энциклопедиями, словарями. Выполняя их, ученики учатся находить нужную информацию и обмениваться 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1219320"/>
          <a:ext cx="8280360" cy="4978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5490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ланируемые 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944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Обучающийся будет зна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что такое экология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простейшую классификацию экологических связе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ставителей редких организмов и их особен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звания некоторых охраняемых природных территорий страны, региона, мир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итателей почв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то такое сеть питания и экологическая пирамид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звания охраняемых растений и животных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яд мер по охране растительного и животного ми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1219320" y="0"/>
            <a:ext cx="7600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учающийся будет 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оятельно выбирать тему и объект исследования; правильно определять круг вопросов и проблем при выполнении исследовательской работы; выделять главное и второстепенное в собранном материале; выделять из текста основные понятия и давать им определения; классифицировать предметы, процессы, явления и события; выявлять и обозначать замеченные парадоксы; ранжировать выдвигаемые идеи; предлагать примеры, сравнения и сопоставления относительно определенной темы; делать выводы и умозаключения; указывать пути дальнейшего изучения объекта; презентовать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йся сможет решать следующие жизненно-практические 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оятельно добывать, обрабатывать, хранить и использовать информацию по волнующей пробл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овывать право на свободны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68360" y="-10080"/>
            <a:ext cx="8207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жида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едметные результаты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нтерес к познанию мира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требность к осуществлению экологически сообразных поступ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ознание места и роли человека в биосф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обладание мотивации гармоничного взаимодействия с природой с точки зрения экологической допуст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ичностные результа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ятие обучающимися правил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витие морально-этического со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лучение обучающимся опыта переживания и позитивного отношения к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ностям общества, ценностного отношения к социальной реальности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91960" y="1383480"/>
            <a:ext cx="882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тапредметн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владение начальными формами исследователь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ыт ролевого взаимодействия и реализации гражданской, патриотической пози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ыт социальной и межкультурной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коммуникатив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106200" y="1159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 результаты реализации программы и критерии их оц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8520" y="1039680"/>
          <a:ext cx="8381880" cy="5275440"/>
        </p:xfrm>
        <a:graphic>
          <a:graphicData uri="http://schemas.openxmlformats.org/drawingml/2006/table">
            <a:tbl>
              <a:tblPr/>
              <a:tblGrid>
                <a:gridCol w="3632040"/>
                <a:gridCol w="4749840"/>
              </a:tblGrid>
              <a:tr h="28116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жны научи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формированн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42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учающиеся должны научи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идеть проблем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авить вопрос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вигать гипотез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вать определение понятия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ифицирова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люда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одить эксперимен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лать умозаключения и вывод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уктурировать материа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товить тексты собственных доклад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■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яснять, доказывать и защищать свои иде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ходе решения системы проектных задач у младших школьников могут быть сформированы следующие способ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флексировать (видеть проблему; анализировать сделанное – почему получилось, почему не получилось, видеть трудности, ошибк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еполагать (ставить и удерживать цел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ланировать (составлять план своей деятельнос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делировать (представлять способ действия в виде модели-схемы, выделяя все существенное и главное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являть инициативу при поиске способа (способов) решения задач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упать в коммуникацию (взаимодействовать при решении задачи, отстаивать свою позицию, принимать или аргументировано отклонять точки зрения других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результаты («выходы») проектной деятельности младших школь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1197000"/>
          <a:ext cx="8402760" cy="4906800"/>
        </p:xfrm>
        <a:graphic>
          <a:graphicData uri="http://schemas.openxmlformats.org/drawingml/2006/table">
            <a:tbl>
              <a:tblPr/>
              <a:tblGrid>
                <a:gridCol w="2082960"/>
                <a:gridCol w="2106720"/>
                <a:gridCol w="2106360"/>
                <a:gridCol w="2106720"/>
              </a:tblGrid>
              <a:tr h="770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б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ижка-раскладуш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ю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770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аж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ая подбор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бар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ые пособ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пар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ия иллюстра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нгаз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е пособ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к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енир-поде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альб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очник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ценарий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cee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515880"/>
            <a:ext cx="83059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ы контроля и диагн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едение итогов по результатам освоения материала данной программы может происходить в виде защиты исследовательских работ и проектов. В процессе просмотра работ происходит обсуждение оригинальности замысла и его воплощение ав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50920" y="308880"/>
            <a:ext cx="88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рактические работы и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«Наблюдение за сезонными изменениями в природе». Экскурсия в Ботанический сад, Краеведческий музей, зоопа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работы «Ведение дневника наблюдений» за явлениями природы, «Операция кормушка», совместно с родителями «Экологический патруль». Конкурсы рисунков, поделок из природного материала. Составление книги о лекарственных растениях наш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игры, викторины, конкурс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7320"/>
            <a:ext cx="9144000" cy="69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ое и материально-техническое сопровождение программ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венков, А.И.  Маленький исследователь. Как научить младшего школьника приобретать знания (Текст)/ А.И. Савенко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Ярославль:  Академия развития: Академия Холдинг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тникова, Н.А. 100 загадок от А до Я для детей 5-8 лет (Текст)/ Н.А. Сотников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 Айрис-пресс,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 В.А. Алексеев 300 вопросов и ответов по экологии. Ярославль 1998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Азбука туриста-эколога: методические рекомендации для руководителей кружков. Москва 199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Краеведение: внеклассная работа по истории, географии, биологии и экологии. Составители Ю.В. Козлова. В.В. Ярошенко Москва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Л.С. Литвинова, О.Е. Жиренко Нравственно-экологическое воспитание школьников. Москва 200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Юдин, Г.Н. Заниматика (Текст)/ Г.Н. Юдин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Росмэн, 199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ьшая энциклопедия Кирилла и Мефодия 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 (Текст).-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? Кто такой?: энциклопедия. Т.2, 3 (Текст)/ редкол.: С.П. Алексеев (и др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.: Педагогика-Пресс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ирование в начальной школе: от замысла к реализации: программа, занятия, проекты/ авт.-сост. М.Ю. Шатилова и др.- Волгоград: Учитель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ассная д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. Про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озиционный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дио  и  видео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85800" y="-275040"/>
            <a:ext cx="831708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огическая академия» разработана как дополнение к курсу « Окружающий мир» в начальной школе.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граммы заключается в формировании представления об экологии у младших школьников не только в биологическом, но и в широком социальном смысле, а также воспитании бережного отношения к приро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13" descr="DSC00681.JPG"/>
          <p:cNvPicPr/>
          <p:nvPr/>
        </p:nvPicPr>
        <p:blipFill>
          <a:blip r:embed="rId1"/>
          <a:stretch/>
        </p:blipFill>
        <p:spPr>
          <a:xfrm>
            <a:off x="5964120" y="169920"/>
            <a:ext cx="3081600" cy="34164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8" descr="DSC00668.JPG"/>
          <p:cNvPicPr/>
          <p:nvPr/>
        </p:nvPicPr>
        <p:blipFill>
          <a:blip r:embed="rId2"/>
          <a:stretch/>
        </p:blipFill>
        <p:spPr>
          <a:xfrm>
            <a:off x="41400" y="152280"/>
            <a:ext cx="4144680" cy="3389400"/>
          </a:xfrm>
          <a:prstGeom prst="rect">
            <a:avLst/>
          </a:prstGeom>
          <a:ln w="0">
            <a:noFill/>
          </a:ln>
        </p:spPr>
      </p:pic>
      <p:pic>
        <p:nvPicPr>
          <p:cNvPr id="126" name="Содержимое 3" descr="Изображение 378.jpg"/>
          <p:cNvPicPr/>
          <p:nvPr/>
        </p:nvPicPr>
        <p:blipFill>
          <a:blip r:embed="rId3"/>
          <a:stretch/>
        </p:blipFill>
        <p:spPr>
          <a:xfrm>
            <a:off x="4910040" y="3675240"/>
            <a:ext cx="4129200" cy="309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Documents and Settings\Томара\Рабочий стол\Изображение 139.jpg"/>
          <p:cNvPicPr/>
          <p:nvPr/>
        </p:nvPicPr>
        <p:blipFill>
          <a:blip r:embed="rId4"/>
          <a:stretch/>
        </p:blipFill>
        <p:spPr>
          <a:xfrm>
            <a:off x="22320" y="3740040"/>
            <a:ext cx="3668760" cy="274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C:\Users\Admin\Desktop\Изображение 084.jpg"/>
          <p:cNvPicPr/>
          <p:nvPr/>
        </p:nvPicPr>
        <p:blipFill>
          <a:blip r:embed="rId5"/>
          <a:stretch/>
        </p:blipFill>
        <p:spPr>
          <a:xfrm>
            <a:off x="2055960" y="3549600"/>
            <a:ext cx="4260600" cy="3195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C:\Users\Admin\Desktop\Изображение 098.jpg"/>
          <p:cNvPicPr/>
          <p:nvPr/>
        </p:nvPicPr>
        <p:blipFill>
          <a:blip r:embed="rId6"/>
          <a:stretch/>
        </p:blipFill>
        <p:spPr>
          <a:xfrm>
            <a:off x="2209680" y="169920"/>
            <a:ext cx="47642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1871640"/>
            <a:ext cx="79372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295280" y="228600"/>
            <a:ext cx="756144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Экологическая академия» – опирается на идеи  образовательной программы  «Планета Знаний», методику и программу исследовательского обучения младших школьников автора А.И.Савенк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грамма разработана в соответствии с основными приоритетами школы и ориентирована на решение практических задач исследовательского обучения в начальной шк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38240" y="598320"/>
            <a:ext cx="896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    средством освоения действительности. Основной целью является установление истины, развитие умения работать с информацией, формирование исследовательского стиля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это актуально для учащихся начальной школы, поскольку именно на этом этапе учебная деятельность является ведущей и определяет развитие главных познавательных особенностей развивающейся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этой деятельности является формирование познавательных мотивов, исследовательских умений, субъективно новых для учащихся знаний и способов деятельно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539640" y="13716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ается в том, что учащиеся   получают возможность  посмотреть на различные проблемы с позиции ученых, ощутить весь спектр требований к науч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вается на интересе, потребностях учащихся и их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501480" y="38098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для младших школьников условия, способствующие  развитию их исследовательских умений, путем формирования основ экологической грамо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905120" y="187200"/>
            <a:ext cx="723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ть основополагающие экологические понятия, соответствующие возрастным возможностям младших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спечить широкой и разнообразной практической деятельностью по изучению и охране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умение самостоятельно работать с различными источниками информации и использов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404640" y="389880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ние программы реализуется через создание на занятиях проблемных ситуаций, ситуации оценки и прогнозирования последствий поведения человека, ситуации свободного выбора поступка по отношению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ая направленность курса осуществляется через исследовательские задания, игровые задания, практикумы и опыт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250920" y="382680"/>
            <a:ext cx="85690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реализации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сть, доступность, добровольность, субъектность, деятельностный и личностный подходы, преемственность, результативность, партнерство, творчество и усп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50920" y="28288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раст детей, участвующих в реализации данной обще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детей 6-11 лет, посещающих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реализации программ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урса рассчитана на 4 год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час в неделю). 1 год обучения – 32ча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од обучения – 34 ча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д обучения – 34 ча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од обучения – 34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95280" y="914400"/>
            <a:ext cx="856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и режим заняти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проводятся во внеучебное время 1 раз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и методы проведения занятий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, игра, практическая работа, эксперимент, наблюдение, экспресс-исследование, коллективные и индивидуальные исследования, самостоятельная работа, защита исследовательских работ, мини-конференция, консуль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обеспе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интернет технолог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индивидуаль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контро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, защита исследовательских работ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, выставка, презентация, мини-конференция, научно-исследовательская конфе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250920" y="260280"/>
            <a:ext cx="8713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роки реализации образовательной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 года, которые делятся на 4 периода. При этом продолж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ов является ориентировочной – она определяется не временем, а  результатами, о которых можно судить по качеству выполненных про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2360" y="1600200"/>
          <a:ext cx="8712360" cy="5145120"/>
        </p:xfrm>
        <a:graphic>
          <a:graphicData uri="http://schemas.openxmlformats.org/drawingml/2006/table">
            <a:tbl>
              <a:tblPr/>
              <a:tblGrid>
                <a:gridCol w="2178000"/>
                <a:gridCol w="2178000"/>
                <a:gridCol w="2178360"/>
                <a:gridCol w="2178000"/>
              </a:tblGrid>
              <a:tr h="863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14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ой дом за окном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Я и моё окружение (1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игиена моего дома. (10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ода – источник жизни (11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лнце и свет в нашей жиз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дух и здоровье (2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й край (5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Весенние работы (5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сть  Самарской области(18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асекомые нашей области (8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ыбы, обитающие в Самарской области (8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ы (15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й мир. Звери, обитающие на территории нашей области(19 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amara</cp:lastModifiedBy>
  <dcterms:modified xsi:type="dcterms:W3CDTF">2011-08-22T16:47:42Z</dcterms:modified>
  <cp:revision>21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