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png" ContentType="image/png"/>
  <Override PartName="/ppt/media/image6.gif" ContentType="image/gif"/>
  <Override PartName="/ppt/media/image17.png" ContentType="image/png"/>
  <Override PartName="/ppt/media/image8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A7B-8EF7-472C-88B4-3CE7AB8A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BB5B-8FE4-4896-B990-772A38F6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7FAB-050F-4B60-903C-7FBC1AA0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594-C19C-4B97-951A-9C74D4EF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5F29-71D8-4CED-9A61-CA10B0B8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B718-3934-4775-9A6A-4A9B057A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05D1-D0D8-4847-B2B1-969B190C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7A35-68FD-4EFB-B994-BF157CB2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029D-F76A-4FB0-9D89-72DC3D4B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45F0-7B69-47A4-8F8D-3FC34619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F769-F749-4315-8B07-B64C1983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3892-47D2-44BC-9704-5DC5B1A9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4BAA-CE6F-4059-AF4C-77C71C82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3840-A56B-41AF-98F6-0F6E57ED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F120-7A30-4705-8749-41737450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24C3-64A9-47D0-9D7A-8C56EEAA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6D04-DC86-479A-BADC-56389194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2DBD-5535-4CA2-8BCC-425FAA28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FCB-5530-4E7D-92C0-DF313F56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FDE0-B0F7-4FE3-B604-628B7F56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12D9-C43D-4C25-ABB8-D570A5F9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A8CA-312F-49A4-A3FA-91B7E4CA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FC93-B108-48E4-9728-7696A65E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0DB7-2A38-4315-BEE5-F33C4BBA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8C26-EC7E-4AFB-9BF9-1BF860A71E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5A09-2B32-4C9D-A959-A79EB3A167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647640" y="304920"/>
            <a:ext cx="8229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внеурочной деятельности в начальной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БЩЕИНТЕЛЛЕКТУАЛЬНОМУ и исследовательскому  НАПРАВЛЕН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Экологическая академ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1905120" y="4267080"/>
            <a:ext cx="441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овалова Тамар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Школы № 7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йбышев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о. Са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431640" y="1531440"/>
            <a:ext cx="835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последовательно раскрывает не только научную и практическую значимость изучаемых объектов, но и их эстетическую ценность для человека и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е место занимают задания на развитие информационной грамотности, которые предполагают работу детей со справочниками, энциклопедиями, словарями. Выполняя их, ученики учатся находить нужную информацию и обмениваться е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457200" y="1219320"/>
          <a:ext cx="8280360" cy="497844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54900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Планируемые результ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944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Обучающийся будет знать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что такое экология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простейшую классификацию экологических связе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едставителей редких организмов и их особенност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звания некоторых охраняемых природных территорий страны, региона, мира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итателей почв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что такое сеть питания и экологическая пирамида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звания охраняемых растений и животных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яд мер по охране растительного и животного мир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"/>
          <p:cNvSpPr/>
          <p:nvPr/>
        </p:nvSpPr>
        <p:spPr>
          <a:xfrm>
            <a:off x="1219320" y="0"/>
            <a:ext cx="7600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бучающийся будет уме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стоятельно выбирать тему и объект исследования; правильно определять круг вопросов и проблем при выполнении исследовательской работы; выделять главное и второстепенное в собранном материале; выделять из текста основные понятия и давать им определения; классифицировать предметы, процессы, явления и события; выявлять и обозначать замеченные парадоксы; ранжировать выдвигаемые идеи; предлагать примеры, сравнения и сопоставления относительно определенной темы; делать выводы и умозаключения; указывать пути дальнейшего изучения объекта; презентовать свою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ющийся сможет решать следующие жизненно-практические задач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стоятельно добывать, обрабатывать, хранить и использовать информацию по волнующей пробл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ализовывать право на свободный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468360" y="-10080"/>
            <a:ext cx="8207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жидаемые результ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едметные результаты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интерес к познанию мира прир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требность к осуществлению экологически сообразных поступ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сознание места и роли человека в биосфе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обладание мотивации гармоничного взаимодействия с природой с точки зрения экологической допуст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Личностные результа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нятие обучающимися правил здорового образа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азвитие морально-этического соз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лучение обучающимся опыта переживания и позитивного отношения к базо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нностям общества, ценностного отношения к социальной реальности в це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291960" y="1383480"/>
            <a:ext cx="882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етапредметные результ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владение начальными формами исследовательск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пыт ролевого взаимодействия и реализации гражданской, патриотической пози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пыт социальной и межкультурной коммуник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формирование коммуникатив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3"/>
          <p:cNvSpPr/>
          <p:nvPr/>
        </p:nvSpPr>
        <p:spPr>
          <a:xfrm>
            <a:off x="106200" y="11592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мые результаты реализации программы и критерии их оц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8520" y="1039680"/>
          <a:ext cx="8381880" cy="5275440"/>
        </p:xfrm>
        <a:graphic>
          <a:graphicData uri="http://schemas.openxmlformats.org/drawingml/2006/table">
            <a:tbl>
              <a:tblPr/>
              <a:tblGrid>
                <a:gridCol w="3632040"/>
                <a:gridCol w="4749840"/>
              </a:tblGrid>
              <a:tr h="28116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жны научить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формированные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9428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учающиеся должны научить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■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идеть проблем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■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авить вопрос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■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ыдвигать гипотез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■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вать определение понятиям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■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ассифицировать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■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людать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■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водить эксперимент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■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елать умозаключения и вывод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■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руктурировать материа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■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отовить тексты собственных докладов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■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ъяснять, доказывать и защищать свои иде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 ходе решения системы проектных задач у младших школьников могут быть сформированы следующие способ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флексировать (видеть проблему; анализировать сделанное – почему получилось, почему не получилось, видеть трудности, ошибки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Целеполагать (ставить и удерживать цели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ланировать (составлять план своей деятельности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оделировать (представлять способ действия в виде модели-схемы, выделяя все существенное и главное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являть инициативу при поиске способа (способов) решения задач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тупать в коммуникацию (взаимодействовать при решении задачи, отстаивать свою позицию, принимать или аргументировано отклонять точки зрения других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4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е результаты («выходы») проектной деятельности младших школьни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80880" y="1197000"/>
          <a:ext cx="8402760" cy="4906800"/>
        </p:xfrm>
        <a:graphic>
          <a:graphicData uri="http://schemas.openxmlformats.org/drawingml/2006/table">
            <a:tbl>
              <a:tblPr/>
              <a:tblGrid>
                <a:gridCol w="2082960"/>
                <a:gridCol w="2106720"/>
                <a:gridCol w="2106360"/>
                <a:gridCol w="2106720"/>
              </a:tblGrid>
              <a:tr h="770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б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ижка-раскладуш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тю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770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з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лаж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льная подбор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бар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ле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лядные пособ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спар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ия иллюстрац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нгаз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ое пособ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к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з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венир-подел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альбо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авочник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ценарий празд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кур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515880"/>
            <a:ext cx="830592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ды контроля и диагнос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ведение итогов по результатам освоения материала данной программы может происходить в виде защиты исследовательских работ и проектов. В процессе просмотра работ происходит обсуждение оригинальности замысла и его воплощение авт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250920" y="308880"/>
            <a:ext cx="8893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Практические работы и экскур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я «Наблюдение за сезонными изменениями в природе». Экскурсия в Ботанический сад, Краеведческий музей, зоопар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е работы «Ведение дневника наблюдений» за явлениями природы, «Операция кормушка», совместно с родителями «Экологический патруль». Конкурсы рисунков, поделок из природного материала. Составление книги о лекарственных растениях нашего кр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игры, викторины, конкурс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67320"/>
            <a:ext cx="9144000" cy="69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ческое и материально-техническое сопровождение программ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венков, А.И.  Маленький исследователь. Как научить младшего школьника приобретать знания (Текст)/ А.И. Савенков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Ярославль:  Академия развития: Академия Холдинг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тникова, Н.А. 100 загадок от А до Я для детей 5-8 лет (Текст)/ Н.А. Сотников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М.:  Айрис-пресс,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. В.А. Алексеев 300 вопросов и ответов по экологии. Ярославль 1998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Азбука туриста-эколога: методические рекомендации для руководителей кружков. Москва 1991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3. Краеведение: внеклассная работа по истории, географии, биологии и экологии. Составители Ю.В. Козлова. В.В. Ярошенко Москва 200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4. Л.С. Литвинова, О.Е. Жиренко Нравственно-экологическое воспитание школьников. Москва 200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Юдин, Г.Н. Заниматика (Текст)/ Г.Н. Юдин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М.: Росмэн, 199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льшая энциклопедия Кирилла и Мефодия 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DV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) (Текст).-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такое? Кто такой?: энциклопедия. Т.2, 3 (Текст)/ редкол.: С.П. Алексеев (и др.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М.: Педагогика-Пресс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ирование в начальной школе: от замысла к реализации: программа, занятия, проекты/ авт.-сост. М.Ю. Шатилова и др.- Волгоград: Учитель,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лассная до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пьютер. Проек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спозиционный эк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удио  и  видео материа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685800" y="-275040"/>
            <a:ext cx="8317080" cy="69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кологическая академия» разработана как дополнение к курсу « Окружающий мир» в начальной школе.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граммы заключается в формировании представления об экологии у младших школьников не только в биологическом, но и в широком социальном смысле, а также воспитании бережного отношения к природ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Содержимое 13" descr="DSC00681.JPG"/>
          <p:cNvPicPr/>
          <p:nvPr/>
        </p:nvPicPr>
        <p:blipFill>
          <a:blip r:embed="rId1"/>
          <a:stretch/>
        </p:blipFill>
        <p:spPr>
          <a:xfrm>
            <a:off x="5964120" y="169920"/>
            <a:ext cx="3081600" cy="341640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8" descr="DSC00668.JPG"/>
          <p:cNvPicPr/>
          <p:nvPr/>
        </p:nvPicPr>
        <p:blipFill>
          <a:blip r:embed="rId2"/>
          <a:stretch/>
        </p:blipFill>
        <p:spPr>
          <a:xfrm>
            <a:off x="41400" y="152280"/>
            <a:ext cx="4144680" cy="3389400"/>
          </a:xfrm>
          <a:prstGeom prst="rect">
            <a:avLst/>
          </a:prstGeom>
          <a:ln w="0">
            <a:noFill/>
          </a:ln>
        </p:spPr>
      </p:pic>
      <p:pic>
        <p:nvPicPr>
          <p:cNvPr id="126" name="Содержимое 3" descr="Изображение 378.jpg"/>
          <p:cNvPicPr/>
          <p:nvPr/>
        </p:nvPicPr>
        <p:blipFill>
          <a:blip r:embed="rId3"/>
          <a:stretch/>
        </p:blipFill>
        <p:spPr>
          <a:xfrm>
            <a:off x="4910040" y="3675240"/>
            <a:ext cx="4129200" cy="3097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C:\Documents and Settings\Томара\Рабочий стол\Изображение 139.jpg"/>
          <p:cNvPicPr/>
          <p:nvPr/>
        </p:nvPicPr>
        <p:blipFill>
          <a:blip r:embed="rId4"/>
          <a:stretch/>
        </p:blipFill>
        <p:spPr>
          <a:xfrm>
            <a:off x="22320" y="3740040"/>
            <a:ext cx="3668760" cy="2749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" descr="C:\Users\Admin\Desktop\Изображение 084.jpg"/>
          <p:cNvPicPr/>
          <p:nvPr/>
        </p:nvPicPr>
        <p:blipFill>
          <a:blip r:embed="rId5"/>
          <a:stretch/>
        </p:blipFill>
        <p:spPr>
          <a:xfrm>
            <a:off x="2055960" y="3549600"/>
            <a:ext cx="4260600" cy="3195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" descr="C:\Users\Admin\Desktop\Изображение 098.jpg"/>
          <p:cNvPicPr/>
          <p:nvPr/>
        </p:nvPicPr>
        <p:blipFill>
          <a:blip r:embed="rId6"/>
          <a:stretch/>
        </p:blipFill>
        <p:spPr>
          <a:xfrm>
            <a:off x="2209680" y="169920"/>
            <a:ext cx="4764240" cy="3573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Прямоугольник 3" descr=""/>
          <p:cNvPicPr/>
          <p:nvPr/>
        </p:nvPicPr>
        <p:blipFill>
          <a:blip r:embed="rId1"/>
          <a:stretch/>
        </p:blipFill>
        <p:spPr>
          <a:xfrm>
            <a:off x="530280" y="1871640"/>
            <a:ext cx="79372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1295280" y="228600"/>
            <a:ext cx="7561440" cy="64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«Экологическая академия» – опирается на идеи  образовательной программы  «Планета Знаний», методику и программу исследовательского обучения младших школьников автора А.И.Савенк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программа разработана в соответствии с основными приоритетами школы и ориентирована на решение практических задач исследовательского обучения в начальной шко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138240" y="598320"/>
            <a:ext cx="8964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дея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    средством освоения действительности. Основной целью является установление истины, развитие умения работать с информацией, формирование исследовательского стиля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 это актуально для учащихся начальной школы, поскольку именно на этом этапе учебная деятельность является ведущей и определяет развитие главных познавательных особенностей развивающейся л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ом этой деятельности является формирование познавательных мотивов, исследовательских умений, субъективно новых для учащихся знаний и способов деятельност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3"/>
          <p:cNvSpPr/>
          <p:nvPr/>
        </p:nvSpPr>
        <p:spPr>
          <a:xfrm>
            <a:off x="539640" y="137160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ь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лючается в том, что учащиеся   получают возможность  посмотреть на различные проблемы с позиции ученых, ощутить весь спектр требований к науч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вается на интересе, потребностях учащихся и их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501480" y="3809880"/>
            <a:ext cx="82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програм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для младших школьников условия, способствующие  развитию их исследовательских умений, путем формирования основ экологической грамо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1905120" y="187200"/>
            <a:ext cx="7238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ормировать основополагающие экологические понятия, соответствующие возрастным возможностям младших школь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еспечить широкой и разнообразной практической деятельностью по изучению и охране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вать умение самостоятельно работать с различными источниками информации и использовать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"/>
          <p:cNvSpPr/>
          <p:nvPr/>
        </p:nvSpPr>
        <p:spPr>
          <a:xfrm>
            <a:off x="404640" y="3898800"/>
            <a:ext cx="8305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держание программы реализуется через создание на занятиях проблемных ситуаций, ситуации оценки и прогнозирования последствий поведения человека, ситуации свободного выбора поступка по отношению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ктическая направленность курса осуществляется через исследовательские задания, игровые задания, практикумы и опытническую раб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3"/>
          <p:cNvSpPr/>
          <p:nvPr/>
        </p:nvSpPr>
        <p:spPr>
          <a:xfrm>
            <a:off x="250920" y="382680"/>
            <a:ext cx="856908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реализации программы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сть, доступность, добровольность, субъектность, деятельностный и личностный подходы, преемственность, результативность, партнерство, творчество и успе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50920" y="282888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зраст детей, участвующих в реализации данной общеобразовательной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азначена для детей 6-11 лет, посещающих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оки реализации программы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курса рассчитана на 4 года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 час в неделю). 1 год обучения – 32час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од обучения – 34 час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од обучения – 34 час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год обучения – 34 ч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3"/>
          <p:cNvSpPr/>
          <p:nvPr/>
        </p:nvSpPr>
        <p:spPr>
          <a:xfrm>
            <a:off x="395280" y="914400"/>
            <a:ext cx="856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ы и режим занятий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проводятся во внеучебное время 1 раз в нед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ы и методы проведения занятий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, игра, практическая работа, эксперимент, наблюдение, экспресс-исследование, коллективные и индивидуальные исследования, самостоятельная работа, защита исследовательских работ, мини-конференция, консульт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ед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е обеспеч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редством интернет технолог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редством индивидуального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оды контрол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я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, защита исследовательских работ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е, выставка, презентация, мини-конференция, научно-исследовательская конфе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3"/>
          <p:cNvSpPr/>
          <p:nvPr/>
        </p:nvSpPr>
        <p:spPr>
          <a:xfrm>
            <a:off x="250920" y="260280"/>
            <a:ext cx="87138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роки реализации образовательной програм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 года, которые делятся на 4 периода. При этом продолж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иодов является ориентировочной – она определяется не временем, а  результатами, о которых можно судить по качеству выполненных про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2360" y="1600200"/>
          <a:ext cx="8712360" cy="5145120"/>
        </p:xfrm>
        <a:graphic>
          <a:graphicData uri="http://schemas.openxmlformats.org/drawingml/2006/table">
            <a:tbl>
              <a:tblPr/>
              <a:tblGrid>
                <a:gridCol w="2178000"/>
                <a:gridCol w="2178000"/>
                <a:gridCol w="2178360"/>
                <a:gridCol w="2178000"/>
              </a:tblGrid>
              <a:tr h="863640"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8148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Мой дом за окном (10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Я и моё окружение (12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Гигиена моего дома. (10 ч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ода – источник жизни (11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олнце и свет в нашей жизн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ч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оздух и здоровье (2 ч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Мой край (5 ч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Весенние работы (5 ч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ительность  Самарской области(18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Насекомые нашей области (8ч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Рыбы, обитающие в Самарской области (8ч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ицы (15 ч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тный мир. Звери, обитающие на территории нашей области(19 ч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Tamara</cp:lastModifiedBy>
  <dcterms:modified xsi:type="dcterms:W3CDTF">2011-08-22T16:47:42Z</dcterms:modified>
  <cp:revision>21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