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54A9-A05D-4614-99E7-BE000845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94B3-7DF2-4680-8981-92505B6B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9A35-DE7D-42A9-83B0-80B616041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C953-C30C-4BBC-B519-558E4CE65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B171-058E-4455-9FE8-93F439180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7854-C7C7-4D2E-9495-A5965343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B303-4074-49B5-8F35-DEC55912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3A2E-C088-4642-B959-033BB974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5C22-A6ED-4DD3-B6B3-3FCC8836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A07A-138B-42C8-BE62-A17F697C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5ADF-A1DA-450B-A48F-B0E67F42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D5A6-F6A8-4A5F-85D8-711D7768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C1AB-A437-465E-84E8-697C1ED6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9948-312F-43AC-A650-C799A06C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5B69-1103-4EF2-89CB-EA7FCB73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87A1-FE9B-47B2-8440-48AE5DFD8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423A-D069-4CDA-B1BC-10185942F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D5D4-50A0-4157-92AB-1A99C4DC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9E94-FD65-470D-938F-709B0560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BBD1-0C48-44C0-888B-3F3A619D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C778-5E4F-4BB5-A602-4063752E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6974-7CD0-43DE-B020-2BCBECE9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9A45-F6C5-48A8-8D38-9A720C81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3587-7473-466E-988D-0C60D98D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AE8A-E5EB-4551-BC65-F86753C49502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093C-D5A0-44EF-8A30-A43583C3781E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8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8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122400" y="1365120"/>
            <a:ext cx="921672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терфейс программ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овичкам, как правило, бывает сложно  сразу разобраться  с параметрами размеров и разрешения изображения. Чтобы не путаться выражайте размеры изображения в миллиметрах, а значения разрешения задавайте равным 300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3"/>
          <a:stretch/>
        </p:blipFill>
        <p:spPr>
          <a:xfrm>
            <a:off x="1042920" y="1628640"/>
            <a:ext cx="7416720" cy="51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3"/>
          <a:stretch/>
        </p:blipFill>
        <p:spPr>
          <a:xfrm>
            <a:off x="539640" y="1628640"/>
            <a:ext cx="590400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3"/>
          <a:stretch/>
        </p:blipFill>
        <p:spPr>
          <a:xfrm>
            <a:off x="1332000" y="1413000"/>
            <a:ext cx="619272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8569080" cy="5529240"/>
          </a:xfrm>
          <a:prstGeom prst="rect">
            <a:avLst/>
          </a:prstGeom>
          <a:ln w="0">
            <a:noFill/>
          </a:ln>
        </p:spPr>
      </p:pic>
      <p:cxnSp>
        <p:nvCxnSpPr>
          <p:cNvPr id="87" name="Прямая со стрелкой 4"/>
          <p:cNvCxnSpPr/>
          <p:nvPr/>
        </p:nvCxnSpPr>
        <p:spPr>
          <a:xfrm>
            <a:off x="2124000" y="1557000"/>
            <a:ext cx="504000" cy="57708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sp>
        <p:nvSpPr>
          <p:cNvPr id="88" name="TextBox 5"/>
          <p:cNvSpPr/>
          <p:nvPr/>
        </p:nvSpPr>
        <p:spPr>
          <a:xfrm>
            <a:off x="2790720" y="2133720"/>
            <a:ext cx="207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падающее меню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3073680" y="32130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бочая область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cxnSp>
        <p:nvCxnSpPr>
          <p:cNvPr id="90" name="Прямая со стрелкой 8"/>
          <p:cNvCxnSpPr/>
          <p:nvPr/>
        </p:nvCxnSpPr>
        <p:spPr>
          <a:xfrm>
            <a:off x="1403280" y="2997360"/>
            <a:ext cx="1224720" cy="158472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sp>
        <p:nvSpPr>
          <p:cNvPr id="91" name="TextBox 9"/>
          <p:cNvSpPr/>
          <p:nvPr/>
        </p:nvSpPr>
        <p:spPr>
          <a:xfrm>
            <a:off x="2511720" y="4581360"/>
            <a:ext cx="23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анель инструментов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cxnSp>
        <p:nvCxnSpPr>
          <p:cNvPr id="92" name="Прямая со стрелкой 11"/>
          <p:cNvCxnSpPr/>
          <p:nvPr/>
        </p:nvCxnSpPr>
        <p:spPr>
          <a:xfrm flipH="1">
            <a:off x="6442920" y="2781000"/>
            <a:ext cx="1369080" cy="158508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sp>
        <p:nvSpPr>
          <p:cNvPr id="93" name="TextBox 12"/>
          <p:cNvSpPr/>
          <p:nvPr/>
        </p:nvSpPr>
        <p:spPr>
          <a:xfrm>
            <a:off x="5098680" y="440388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алоговые панели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81360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панели инструментов выбран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струмент КИСТЬ 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дставлены его настрой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6804000" y="1052640"/>
            <a:ext cx="208908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кно диалоговых панелей распола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ается в правой части интерфей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граммы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7164360" y="260280"/>
            <a:ext cx="1647720" cy="61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763640" y="404640"/>
            <a:ext cx="4753080" cy="55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610920" y="1700280"/>
            <a:ext cx="35290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ункт СОЗДАТЬ выпадающего меню Фай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5580000" y="1268280"/>
            <a:ext cx="2733840" cy="4067280"/>
          </a:xfrm>
          <a:prstGeom prst="rect">
            <a:avLst/>
          </a:prstGeom>
          <a:ln w="0">
            <a:noFill/>
          </a:ln>
        </p:spPr>
      </p:pic>
      <p:cxnSp>
        <p:nvCxnSpPr>
          <p:cNvPr id="111" name="Прямая со стрелкой 3"/>
          <p:cNvCxnSpPr/>
          <p:nvPr/>
        </p:nvCxnSpPr>
        <p:spPr>
          <a:xfrm flipV="1">
            <a:off x="3276360" y="2060280"/>
            <a:ext cx="2664360" cy="792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35200" y="3860280"/>
            <a:ext cx="656424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кно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оздать новое изображени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1611360" y="115920"/>
            <a:ext cx="4995720" cy="3602160"/>
          </a:xfrm>
          <a:prstGeom prst="rect">
            <a:avLst/>
          </a:prstGeom>
          <a:ln w="0">
            <a:noFill/>
          </a:ln>
        </p:spPr>
      </p:pic>
      <p:cxnSp>
        <p:nvCxnSpPr>
          <p:cNvPr id="115" name="Прямая со стрелкой 4"/>
          <p:cNvCxnSpPr/>
          <p:nvPr/>
        </p:nvCxnSpPr>
        <p:spPr>
          <a:xfrm flipH="1">
            <a:off x="971280" y="2349000"/>
            <a:ext cx="1729440" cy="35964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sp>
        <p:nvSpPr>
          <p:cNvPr id="116" name="TextBox 5"/>
          <p:cNvSpPr/>
          <p:nvPr/>
        </p:nvSpPr>
        <p:spPr>
          <a:xfrm>
            <a:off x="321120" y="27082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Портрет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cxnSp>
        <p:nvCxnSpPr>
          <p:cNvPr id="117" name="Прямая со стрелкой 7"/>
          <p:cNvCxnSpPr/>
          <p:nvPr/>
        </p:nvCxnSpPr>
        <p:spPr>
          <a:xfrm>
            <a:off x="3203280" y="2276280"/>
            <a:ext cx="4321800" cy="4323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sp>
        <p:nvSpPr>
          <p:cNvPr id="118" name="TextBox 8"/>
          <p:cNvSpPr/>
          <p:nvPr/>
        </p:nvSpPr>
        <p:spPr>
          <a:xfrm>
            <a:off x="7515720" y="270828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Альбом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15:44:55Z</dcterms:created>
  <dc:creator>Надежда Евгеньевна</dc:creator>
  <dc:description/>
  <dc:language>en-US</dc:language>
  <cp:lastModifiedBy>USER</cp:lastModifiedBy>
  <dcterms:modified xsi:type="dcterms:W3CDTF">2012-11-27T06:59:54Z</dcterms:modified>
  <cp:revision>7</cp:revision>
  <dc:subject/>
  <dc:title>Графический редактор GIMP</dc:title>
</cp:coreProperties>
</file>