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5.gif" ContentType="image/gif"/>
  <Override PartName="/ppt/media/image18.jpeg" ContentType="image/jpeg"/>
  <Override PartName="/ppt/media/image1.png" ContentType="image/png"/>
  <Override PartName="/ppt/media/image24.png" ContentType="image/png"/>
  <Override PartName="/ppt/media/image14.gif" ContentType="image/gif"/>
  <Override PartName="/ppt/media/image17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8729-A709-45CF-812C-C33EFFDBE9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4F61-DF2F-4AC8-B041-E3397E612C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67D8-87FD-4BCD-803A-BB7333D49C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6E52-742C-467A-A959-5DDF348D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4F47-2FDD-45DE-8815-8EDA7F90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8B78-D86D-4407-A39F-D5D93601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D85C-600A-4B16-B541-F88A1B65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CCD8-EBC6-4B12-B8F2-D6AB9EF3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AEE3-6EE2-48EB-8023-A09BD1F7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93F0-475E-4546-BA15-75D9CB55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B40F-09C0-41DA-BD75-EB40AC6D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C2FA-52BA-4172-A206-10FCF48D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7F0E-0C90-4238-8E7A-B511FEC0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FAAF-BB67-4E0D-99C8-F029F024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6D68-3B8D-4AC6-8FC7-0F3C5241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DB0A-3125-4B4A-A1DD-A87A8A25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79B0-2532-4C9F-8B0E-BF8E329D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D3C7-90BE-46D1-BFFF-271E5A29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E7C5-5F16-4577-89C0-6A9C1F6A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D6EC-20D3-4491-B90B-CD07D790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BE491-5F44-4988-BA91-E16A83A5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672C3-9C63-4120-9141-2FD5E402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73AC8-98DA-4450-A789-2FD53EA1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CE246-498B-4FD9-A6F0-84BB4A13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71CEF-8444-4C94-80F2-249D88A3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28BF-5585-4AEF-ADDE-9E21125B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40C09-A425-487B-A533-63C49143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D52E5-A2EB-469D-B184-3478EEA3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2F8E5-9C4B-4567-8A2F-B31BCD2D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CC50E-C46F-4853-8E2D-6174FD48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6B138-7366-4938-A988-3FDC33B9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DFD52-817E-45EF-93EC-ED7F8BFB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60AB6-5676-4416-928E-DB32982D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8AFF9-0B0C-41B7-B19C-454C82F5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5BD12-F3AD-40AC-8CDD-D8586A39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CB06A-00AF-4683-B5BD-EC063E64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17BF-5E53-4B8C-AC73-D583C83A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5B73C-65E7-477D-BC9F-85152994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22255-198C-4B53-A4CE-6D10D768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0301C-498B-4A57-B1C9-1A2B433A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32324-7709-45AE-9D48-29E0D6BD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121CB-DE2E-4992-8FA6-1120EF3E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8824D-45AC-43E4-B2D8-24FE217A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CF3D3-F028-47EF-9D70-DF42C9BC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23405-B0B5-4BA0-8F42-38574921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E5934-38BB-4C8E-A832-8A251E78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03487-FFE6-4DE9-97B6-32046F31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55E-6BA3-4B17-AEE2-07DC18BF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EF3AA-942A-46C0-A006-D9043EF7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B0143-4AA3-413A-8141-49305B81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64618-9EAA-4801-9DF6-005C6362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77600-7657-4E14-82FB-40E516B0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BF979-4105-41A7-A54F-413844A5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60969-DA4A-4234-A8BB-92F79556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B9F74-8FFB-4EFE-A176-DA3BC1FC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9A823-16EF-497C-A6E4-A4E9E07A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AD49B-0B64-42F8-AE51-DDD8E8BE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6B158-BD96-4C21-9519-5A260274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3C3E-DD60-47EA-B191-3A060554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72F30-C58A-4CC6-8406-C28C3F3B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BC213-9B71-4126-8BCD-F434EC6B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F5695-D486-449F-A1B7-0251450E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31F2E-6D75-4DCA-9608-DFB9E662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B3A3E-0989-4AD8-AA66-DDB862BD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4D33A-D766-4A06-BBE2-1FDF6855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4A8DA-FFE0-4BB1-8737-0AE9CD43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347A0-4AE8-4908-956D-FDA221AE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A52F4-FF65-4AE7-B0A7-EC4FDE54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CBACB-8CCF-42D6-9B0F-9A310E9E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76B0-2902-4C16-80A9-F8DD4AAB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B418A-9FFF-4E0D-AADC-C9F826D5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D47F9-EFDB-442B-B279-DEC2926F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53E19-A56F-4756-8030-ABD1D1CE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450A2-3886-45E1-97C7-3AFA30BE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6362E-FA0E-48D5-BD70-3B5969AC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5515A-375F-4F6E-BC24-F6BA95A7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2C573-F090-4F4F-BAA5-8AF711CA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0EBC0-1253-45BC-8CAC-684600BA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43A07-779C-4F81-A122-05D99B30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19520-5851-4702-83F6-8F0B427B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6C25-5DD7-4782-A4E9-3EB79E89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1A3C3-BF51-4332-967F-BBE2CF02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E65E8-1781-49EB-A3E4-02464083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00945-1C7F-4360-AEE9-E348ECD2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3BBFB-FE25-4041-9B9E-DDCE84D9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57089-059B-461D-8ECD-D22F7895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DF300-EA74-456A-9B19-2872EA31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7E22E-183F-4DB5-891A-68091726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293F6-9B10-4DBF-BF7D-D52849A8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1690A-A3FF-4912-97B9-202DCB27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7DCB2-08AB-4749-9B52-E4751154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A65-C09E-4469-8ABC-194EAB3F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7FEB6-BBBE-424F-AB71-95CBE3DD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3212E-2DC3-4A53-974D-4DAB4CC5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05A87-53AC-4F3F-B680-D1440FCB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40FB5-0D83-4475-AB9A-5AAC5E9D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90589-AF6E-41EE-A64A-B0886FF2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E1AB3-472C-4240-9A53-B34B8B90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6467E-86A5-462C-BDAA-B7ACCD29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D9AB-F5A2-4DC9-9F99-871187D7BA9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8F60-05B9-454B-99E6-F4C573E1182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48BC-8111-4789-A03E-2453DC36F97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C4F3-120D-400D-813A-9094855E971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1516-AF6C-453D-9325-5D91B0A757D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6AC8-0DEA-458E-B63C-BABB2CAC815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813D-BC7A-4128-A872-4511DE8BC9D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03E0-038A-4B3E-B683-AEF7718446D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28592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5766"/>
                </a:solidFill>
                <a:latin typeface="Lucida Sans Unicode"/>
                <a:ea typeface="BatangChe"/>
              </a:rPr>
              <a:t>ИМЯ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5766"/>
                </a:solidFill>
                <a:latin typeface="Lucida Sans Unicode"/>
                <a:ea typeface="BatangChe"/>
              </a:rPr>
              <a:t>ПРИЛАГАТЕЛЬНОЕ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62329"/>
                </a:solidFill>
                <a:latin typeface="Lucida Sans Unicode"/>
                <a:ea typeface="BatangChe"/>
              </a:rPr>
              <a:t>СОСТАВИЛА:УЧИТЕЛЬ НАЧАЛЬНЫХ КЛАССОВ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62329"/>
                </a:solidFill>
                <a:latin typeface="Lucida Sans Unicode"/>
                <a:ea typeface="BatangChe"/>
              </a:rPr>
              <a:t>Еремина Ольга Ивановна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5"/>
          <p:cNvSpPr/>
          <p:nvPr/>
        </p:nvSpPr>
        <p:spPr>
          <a:xfrm>
            <a:off x="1256400" y="338040"/>
            <a:ext cx="523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Lucida Sans Unicode"/>
              </a:rPr>
              <a:t>    </a:t>
            </a:r>
            <a:r>
              <a:rPr b="1" lang="ru-RU" sz="6000" spc="-1" strike="noStrike">
                <a:solidFill>
                  <a:srgbClr val="990000"/>
                </a:solidFill>
                <a:latin typeface="Lucida Sans Unicode"/>
              </a:rPr>
              <a:t>Проблема: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468360" y="1700280"/>
            <a:ext cx="810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8000"/>
                </a:solidFill>
                <a:latin typeface="Lucida Sans Unicode"/>
              </a:rPr>
              <a:t>Какую роль играют в речи имена прилагательные?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1" name="Picture 7" descr="мальчик"/>
          <p:cNvPicPr/>
          <p:nvPr/>
        </p:nvPicPr>
        <p:blipFill>
          <a:blip r:embed="rId1"/>
          <a:stretch/>
        </p:blipFill>
        <p:spPr>
          <a:xfrm>
            <a:off x="7164360" y="3933720"/>
            <a:ext cx="13334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5"/>
          <p:cNvSpPr/>
          <p:nvPr/>
        </p:nvSpPr>
        <p:spPr>
          <a:xfrm>
            <a:off x="395280" y="260280"/>
            <a:ext cx="374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Lucida Sans Unicode"/>
              </a:rPr>
              <a:t>Наступила весна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Lucida Sans Unicode"/>
              </a:rPr>
              <a:t>Тает снег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Lucida Sans Unicode"/>
              </a:rPr>
              <a:t>Журчат ручьи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Lucida Sans Unicode"/>
              </a:rPr>
              <a:t>Светит солнце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Lucida Sans Unicode"/>
              </a:rPr>
              <a:t>Летят птицы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3003480" y="3346560"/>
            <a:ext cx="531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2124000" y="3089160"/>
            <a:ext cx="64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Lucida Sans Unicode"/>
              </a:rPr>
              <a:t>Наступила ранняя весна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Lucida Sans Unicode"/>
              </a:rPr>
              <a:t>Тает последний снег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Lucida Sans Unicode"/>
              </a:rPr>
              <a:t>Журчат говорливые ручьи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Lucida Sans Unicode"/>
              </a:rPr>
              <a:t>Светит ласковое солнце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Lucida Sans Unicode"/>
              </a:rPr>
              <a:t>Летят голосистые птицы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Line 8"/>
          <p:cNvSpPr/>
          <p:nvPr/>
        </p:nvSpPr>
        <p:spPr>
          <a:xfrm>
            <a:off x="4643280" y="3645000"/>
            <a:ext cx="1440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Line 9"/>
          <p:cNvSpPr/>
          <p:nvPr/>
        </p:nvSpPr>
        <p:spPr>
          <a:xfrm>
            <a:off x="3419640" y="4221000"/>
            <a:ext cx="2232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Line 10"/>
          <p:cNvSpPr/>
          <p:nvPr/>
        </p:nvSpPr>
        <p:spPr>
          <a:xfrm>
            <a:off x="3924360" y="4797360"/>
            <a:ext cx="24494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Line 11"/>
          <p:cNvSpPr/>
          <p:nvPr/>
        </p:nvSpPr>
        <p:spPr>
          <a:xfrm>
            <a:off x="3851280" y="5300640"/>
            <a:ext cx="1871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Line 12"/>
          <p:cNvSpPr/>
          <p:nvPr/>
        </p:nvSpPr>
        <p:spPr>
          <a:xfrm>
            <a:off x="3564000" y="5950080"/>
            <a:ext cx="23763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Picture 17" descr="дети"/>
          <p:cNvPicPr/>
          <p:nvPr/>
        </p:nvPicPr>
        <p:blipFill>
          <a:blip r:embed="rId1"/>
          <a:srcRect l="0" t="0" r="2931" b="0"/>
          <a:stretch/>
        </p:blipFill>
        <p:spPr>
          <a:xfrm>
            <a:off x="5651640" y="692280"/>
            <a:ext cx="237636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2" descr=""/>
          <p:cNvPicPr/>
          <p:nvPr/>
        </p:nvPicPr>
        <p:blipFill>
          <a:blip r:embed="rId1"/>
          <a:stretch/>
        </p:blipFill>
        <p:spPr>
          <a:xfrm>
            <a:off x="225360" y="420840"/>
            <a:ext cx="8467920" cy="1083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C:\Users\1\Desktop\проект урока\картинки\солнышко.gif"/>
          <p:cNvPicPr/>
          <p:nvPr/>
        </p:nvPicPr>
        <p:blipFill>
          <a:blip r:embed="rId2"/>
          <a:stretch/>
        </p:blipFill>
        <p:spPr>
          <a:xfrm>
            <a:off x="428760" y="2500200"/>
            <a:ext cx="3286080" cy="3506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C:\Users\1\Desktop\птичка.jpg"/>
          <p:cNvPicPr/>
          <p:nvPr/>
        </p:nvPicPr>
        <p:blipFill>
          <a:blip r:embed="rId3"/>
          <a:srcRect l="0" t="0" r="14286" b="0"/>
          <a:stretch/>
        </p:blipFill>
        <p:spPr>
          <a:xfrm>
            <a:off x="3357720" y="1143000"/>
            <a:ext cx="2571480" cy="27860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C:\Users\1\Desktop\дожд..jpg"/>
          <p:cNvPicPr/>
          <p:nvPr/>
        </p:nvPicPr>
        <p:blipFill>
          <a:blip r:embed="rId4"/>
          <a:stretch/>
        </p:blipFill>
        <p:spPr>
          <a:xfrm>
            <a:off x="6143760" y="3286080"/>
            <a:ext cx="3000240" cy="2571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C:\Users\1\Desktop\руки.jpg"/>
          <p:cNvPicPr/>
          <p:nvPr/>
        </p:nvPicPr>
        <p:blipFill>
          <a:blip r:embed="rId5"/>
          <a:stretch/>
        </p:blipFill>
        <p:spPr>
          <a:xfrm>
            <a:off x="3857760" y="4714920"/>
            <a:ext cx="1785960" cy="1714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C:\Users\1\Desktop\проект урока\картинки\весна.gif"/>
          <p:cNvPicPr/>
          <p:nvPr/>
        </p:nvPicPr>
        <p:blipFill>
          <a:blip r:embed="rId2"/>
          <a:stretch/>
        </p:blipFill>
        <p:spPr>
          <a:xfrm>
            <a:off x="2874960" y="148104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65"/>
          <p:cNvGrpSpPr/>
          <p:nvPr/>
        </p:nvGrpSpPr>
        <p:grpSpPr>
          <a:xfrm>
            <a:off x="6291720" y="1371600"/>
            <a:ext cx="1055880" cy="856800"/>
            <a:chOff x="6291720" y="1371600"/>
            <a:chExt cx="1055880" cy="856800"/>
          </a:xfrm>
        </p:grpSpPr>
        <p:sp>
          <p:nvSpPr>
            <p:cNvPr id="387" name="Oval 66"/>
            <p:cNvSpPr/>
            <p:nvPr/>
          </p:nvSpPr>
          <p:spPr>
            <a:xfrm>
              <a:off x="6434640" y="1371600"/>
              <a:ext cx="781560" cy="72216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88" name="Rectangle 67"/>
            <p:cNvSpPr/>
            <p:nvPr/>
          </p:nvSpPr>
          <p:spPr>
            <a:xfrm rot="493200">
              <a:off x="6324120" y="1635120"/>
              <a:ext cx="990720" cy="52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389" name="Group 62"/>
          <p:cNvGrpSpPr/>
          <p:nvPr/>
        </p:nvGrpSpPr>
        <p:grpSpPr>
          <a:xfrm>
            <a:off x="3242880" y="1143000"/>
            <a:ext cx="1514880" cy="965160"/>
            <a:chOff x="3242880" y="1143000"/>
            <a:chExt cx="1514880" cy="965160"/>
          </a:xfrm>
        </p:grpSpPr>
        <p:sp>
          <p:nvSpPr>
            <p:cNvPr id="390" name="Oval 63"/>
            <p:cNvSpPr/>
            <p:nvPr/>
          </p:nvSpPr>
          <p:spPr>
            <a:xfrm>
              <a:off x="3427560" y="1143000"/>
              <a:ext cx="1141560" cy="79200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1" name="Rectangle 64"/>
            <p:cNvSpPr/>
            <p:nvPr/>
          </p:nvSpPr>
          <p:spPr>
            <a:xfrm rot="493200">
              <a:off x="3276360" y="1431720"/>
              <a:ext cx="1447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392" name="Group 21"/>
          <p:cNvGrpSpPr/>
          <p:nvPr/>
        </p:nvGrpSpPr>
        <p:grpSpPr>
          <a:xfrm>
            <a:off x="949320" y="4624560"/>
            <a:ext cx="1099800" cy="1040400"/>
            <a:chOff x="949320" y="4624560"/>
            <a:chExt cx="1099800" cy="1040400"/>
          </a:xfrm>
        </p:grpSpPr>
        <p:sp>
          <p:nvSpPr>
            <p:cNvPr id="393" name="Oval 22"/>
            <p:cNvSpPr/>
            <p:nvPr/>
          </p:nvSpPr>
          <p:spPr>
            <a:xfrm rot="1872000">
              <a:off x="1066320" y="4859280"/>
              <a:ext cx="745560" cy="65988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4" name="Rectangle 23"/>
            <p:cNvSpPr/>
            <p:nvPr/>
          </p:nvSpPr>
          <p:spPr>
            <a:xfrm rot="1471800">
              <a:off x="1066680" y="4800240"/>
              <a:ext cx="93816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395" name="Group 61"/>
          <p:cNvGrpSpPr/>
          <p:nvPr/>
        </p:nvGrpSpPr>
        <p:grpSpPr>
          <a:xfrm>
            <a:off x="5452200" y="3505320"/>
            <a:ext cx="1436760" cy="959760"/>
            <a:chOff x="5452200" y="3505320"/>
            <a:chExt cx="1436760" cy="959760"/>
          </a:xfrm>
        </p:grpSpPr>
        <p:sp>
          <p:nvSpPr>
            <p:cNvPr id="396" name="Oval 19"/>
            <p:cNvSpPr/>
            <p:nvPr/>
          </p:nvSpPr>
          <p:spPr>
            <a:xfrm>
              <a:off x="5638680" y="3505320"/>
              <a:ext cx="107964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7" name="Rectangle 20"/>
            <p:cNvSpPr/>
            <p:nvPr/>
          </p:nvSpPr>
          <p:spPr>
            <a:xfrm rot="493200">
              <a:off x="5486400" y="3794040"/>
              <a:ext cx="1368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398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04" name="Group 9"/>
          <p:cNvGrpSpPr/>
          <p:nvPr/>
        </p:nvGrpSpPr>
        <p:grpSpPr>
          <a:xfrm>
            <a:off x="3200040" y="914400"/>
            <a:ext cx="502920" cy="358560"/>
            <a:chOff x="3200040" y="914400"/>
            <a:chExt cx="502920" cy="358560"/>
          </a:xfrm>
        </p:grpSpPr>
        <p:sp>
          <p:nvSpPr>
            <p:cNvPr id="405" name="Line 10"/>
            <p:cNvSpPr/>
            <p:nvPr/>
          </p:nvSpPr>
          <p:spPr>
            <a:xfrm>
              <a:off x="3200400" y="914400"/>
              <a:ext cx="500400" cy="35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06" name="Line 11"/>
            <p:cNvSpPr/>
            <p:nvPr/>
          </p:nvSpPr>
          <p:spPr>
            <a:xfrm flipH="1">
              <a:off x="3200040" y="914400"/>
              <a:ext cx="50292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07" name="Line 13"/>
          <p:cNvSpPr/>
          <p:nvPr/>
        </p:nvSpPr>
        <p:spPr>
          <a:xfrm flipH="1">
            <a:off x="1763640" y="1143000"/>
            <a:ext cx="1665360" cy="4230720"/>
          </a:xfrm>
          <a:prstGeom prst="line">
            <a:avLst/>
          </a:prstGeom>
          <a:ln w="111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AutoShape 12"/>
          <p:cNvSpPr/>
          <p:nvPr/>
        </p:nvSpPr>
        <p:spPr>
          <a:xfrm>
            <a:off x="3352680" y="990720"/>
            <a:ext cx="216000" cy="215640"/>
          </a:xfrm>
          <a:prstGeom prst="flowChartConnector">
            <a:avLst/>
          </a:prstGeom>
          <a:solidFill>
            <a:srgbClr val="4646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Line 17"/>
          <p:cNvSpPr/>
          <p:nvPr/>
        </p:nvSpPr>
        <p:spPr>
          <a:xfrm flipV="1">
            <a:off x="1066680" y="1295280"/>
            <a:ext cx="2444760" cy="373392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Line 24"/>
          <p:cNvSpPr/>
          <p:nvPr/>
        </p:nvSpPr>
        <p:spPr>
          <a:xfrm flipH="1">
            <a:off x="4038480" y="1447920"/>
            <a:ext cx="533520" cy="1373040"/>
          </a:xfrm>
          <a:prstGeom prst="line">
            <a:avLst/>
          </a:prstGeom>
          <a:ln w="104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1" name="Group 30"/>
          <p:cNvGrpSpPr/>
          <p:nvPr/>
        </p:nvGrpSpPr>
        <p:grpSpPr>
          <a:xfrm>
            <a:off x="2243880" y="4518000"/>
            <a:ext cx="1251360" cy="1141920"/>
            <a:chOff x="2243880" y="4518000"/>
            <a:chExt cx="1251360" cy="1141920"/>
          </a:xfrm>
        </p:grpSpPr>
        <p:sp>
          <p:nvSpPr>
            <p:cNvPr id="412" name="Oval 31"/>
            <p:cNvSpPr/>
            <p:nvPr/>
          </p:nvSpPr>
          <p:spPr>
            <a:xfrm rot="1872000">
              <a:off x="2361960" y="4786920"/>
              <a:ext cx="866520" cy="699120"/>
            </a:xfrm>
            <a:prstGeom prst="ellipse">
              <a:avLst/>
            </a:prstGeom>
            <a:noFill/>
            <a:ln w="127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13" name="Rectangle 32"/>
            <p:cNvSpPr/>
            <p:nvPr/>
          </p:nvSpPr>
          <p:spPr>
            <a:xfrm rot="1471800">
              <a:off x="2362320" y="4724280"/>
              <a:ext cx="1090440" cy="4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14" name="Line 25"/>
          <p:cNvSpPr/>
          <p:nvPr/>
        </p:nvSpPr>
        <p:spPr>
          <a:xfrm flipH="1">
            <a:off x="3200400" y="3276720"/>
            <a:ext cx="838080" cy="2057400"/>
          </a:xfrm>
          <a:prstGeom prst="line">
            <a:avLst/>
          </a:prstGeom>
          <a:ln w="104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Line 33"/>
          <p:cNvSpPr/>
          <p:nvPr/>
        </p:nvSpPr>
        <p:spPr>
          <a:xfrm flipH="1">
            <a:off x="3428640" y="2819520"/>
            <a:ext cx="609480" cy="152280"/>
          </a:xfrm>
          <a:prstGeom prst="line">
            <a:avLst/>
          </a:prstGeom>
          <a:ln w="111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Line 34"/>
          <p:cNvSpPr/>
          <p:nvPr/>
        </p:nvSpPr>
        <p:spPr>
          <a:xfrm flipH="1" flipV="1">
            <a:off x="3428640" y="2971440"/>
            <a:ext cx="609480" cy="304920"/>
          </a:xfrm>
          <a:prstGeom prst="line">
            <a:avLst/>
          </a:prstGeom>
          <a:ln w="111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Line 42"/>
          <p:cNvSpPr/>
          <p:nvPr/>
        </p:nvSpPr>
        <p:spPr>
          <a:xfrm flipH="1">
            <a:off x="4648320" y="2438280"/>
            <a:ext cx="2209680" cy="19814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Line 53"/>
          <p:cNvSpPr/>
          <p:nvPr/>
        </p:nvSpPr>
        <p:spPr>
          <a:xfrm flipV="1">
            <a:off x="6858000" y="1600200"/>
            <a:ext cx="355680" cy="838080"/>
          </a:xfrm>
          <a:prstGeom prst="line">
            <a:avLst/>
          </a:prstGeom>
          <a:ln w="127080">
            <a:solidFill>
              <a:srgbClr val="44b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9" name="Group 50"/>
          <p:cNvGrpSpPr/>
          <p:nvPr/>
        </p:nvGrpSpPr>
        <p:grpSpPr>
          <a:xfrm>
            <a:off x="7009920" y="1447920"/>
            <a:ext cx="502920" cy="360000"/>
            <a:chOff x="7009920" y="1447920"/>
            <a:chExt cx="502920" cy="360000"/>
          </a:xfrm>
        </p:grpSpPr>
        <p:sp>
          <p:nvSpPr>
            <p:cNvPr id="420" name="Line 51"/>
            <p:cNvSpPr/>
            <p:nvPr/>
          </p:nvSpPr>
          <p:spPr>
            <a:xfrm>
              <a:off x="7010280" y="14479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1" name="Line 52"/>
            <p:cNvSpPr/>
            <p:nvPr/>
          </p:nvSpPr>
          <p:spPr>
            <a:xfrm flipH="1">
              <a:off x="7009920" y="14479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422" name="Group 47"/>
          <p:cNvGrpSpPr/>
          <p:nvPr/>
        </p:nvGrpSpPr>
        <p:grpSpPr>
          <a:xfrm>
            <a:off x="6629040" y="2286000"/>
            <a:ext cx="502920" cy="360000"/>
            <a:chOff x="6629040" y="2286000"/>
            <a:chExt cx="502920" cy="360000"/>
          </a:xfrm>
        </p:grpSpPr>
        <p:sp>
          <p:nvSpPr>
            <p:cNvPr id="423" name="Line 48"/>
            <p:cNvSpPr/>
            <p:nvPr/>
          </p:nvSpPr>
          <p:spPr>
            <a:xfrm>
              <a:off x="6629400" y="22860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4" name="Line 49"/>
            <p:cNvSpPr/>
            <p:nvPr/>
          </p:nvSpPr>
          <p:spPr>
            <a:xfrm flipH="1">
              <a:off x="6629040" y="22860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425" name="Group 54"/>
          <p:cNvGrpSpPr/>
          <p:nvPr/>
        </p:nvGrpSpPr>
        <p:grpSpPr>
          <a:xfrm>
            <a:off x="3809520" y="2590920"/>
            <a:ext cx="502920" cy="360000"/>
            <a:chOff x="3809520" y="2590920"/>
            <a:chExt cx="502920" cy="360000"/>
          </a:xfrm>
        </p:grpSpPr>
        <p:sp>
          <p:nvSpPr>
            <p:cNvPr id="426" name="Line 55"/>
            <p:cNvSpPr/>
            <p:nvPr/>
          </p:nvSpPr>
          <p:spPr>
            <a:xfrm>
              <a:off x="3809880" y="25909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7" name="Line 56"/>
            <p:cNvSpPr/>
            <p:nvPr/>
          </p:nvSpPr>
          <p:spPr>
            <a:xfrm flipH="1">
              <a:off x="3809520" y="25909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428" name="Group 57"/>
          <p:cNvGrpSpPr/>
          <p:nvPr/>
        </p:nvGrpSpPr>
        <p:grpSpPr>
          <a:xfrm>
            <a:off x="4925520" y="4540680"/>
            <a:ext cx="1502280" cy="1084680"/>
            <a:chOff x="4925520" y="4540680"/>
            <a:chExt cx="1502280" cy="1084680"/>
          </a:xfrm>
        </p:grpSpPr>
        <p:sp>
          <p:nvSpPr>
            <p:cNvPr id="429" name="Oval 58"/>
            <p:cNvSpPr/>
            <p:nvPr/>
          </p:nvSpPr>
          <p:spPr>
            <a:xfrm rot="925200">
              <a:off x="5019840" y="4743360"/>
              <a:ext cx="1150200" cy="742320"/>
            </a:xfrm>
            <a:prstGeom prst="ellipse">
              <a:avLst/>
            </a:prstGeom>
            <a:noFill/>
            <a:ln w="127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0" name="Rectangle 59"/>
            <p:cNvSpPr/>
            <p:nvPr/>
          </p:nvSpPr>
          <p:spPr>
            <a:xfrm rot="525600">
              <a:off x="4952520" y="4647960"/>
              <a:ext cx="14479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31" name="Line 29"/>
          <p:cNvSpPr/>
          <p:nvPr/>
        </p:nvSpPr>
        <p:spPr>
          <a:xfrm flipH="1">
            <a:off x="5029200" y="1523880"/>
            <a:ext cx="1447920" cy="3581640"/>
          </a:xfrm>
          <a:prstGeom prst="line">
            <a:avLst/>
          </a:prstGeom>
          <a:ln w="11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Line 60"/>
          <p:cNvSpPr/>
          <p:nvPr/>
        </p:nvSpPr>
        <p:spPr>
          <a:xfrm flipV="1">
            <a:off x="6172200" y="3809880"/>
            <a:ext cx="533520" cy="1447920"/>
          </a:xfrm>
          <a:prstGeom prst="line">
            <a:avLst/>
          </a:prstGeom>
          <a:ln w="127080">
            <a:solidFill>
              <a:srgbClr val="44b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Line 68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Line 69"/>
          <p:cNvSpPr/>
          <p:nvPr/>
        </p:nvSpPr>
        <p:spPr>
          <a:xfrm>
            <a:off x="2514600" y="19810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Picture 70" descr="1-324"/>
          <p:cNvPicPr/>
          <p:nvPr/>
        </p:nvPicPr>
        <p:blipFill>
          <a:blip r:embed="rId1"/>
          <a:stretch/>
        </p:blipFill>
        <p:spPr>
          <a:xfrm>
            <a:off x="3352680" y="53352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437" name="AutoShape 71"/>
          <p:cNvSpPr/>
          <p:nvPr/>
        </p:nvSpPr>
        <p:spPr>
          <a:xfrm>
            <a:off x="4495680" y="4343400"/>
            <a:ext cx="216000" cy="216000"/>
          </a:xfrm>
          <a:prstGeom prst="flowChartConnector">
            <a:avLst/>
          </a:prstGeom>
          <a:solidFill>
            <a:srgbClr val="4646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Picture 82" descr="D:\Буквы\img012.jpg"/>
          <p:cNvPicPr/>
          <p:nvPr/>
        </p:nvPicPr>
        <p:blipFill>
          <a:blip r:embed="rId2"/>
          <a:srcRect l="15216" t="0" r="8697" b="0"/>
          <a:stretch/>
        </p:blipFill>
        <p:spPr>
          <a:xfrm>
            <a:off x="0" y="304920"/>
            <a:ext cx="198108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Lucida Sans Unicode"/>
              </a:rPr>
              <a:t>Пробивался сквозь снежок, росток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4679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C:\Users\1\Desktop\проект урока\картинки\плдснежник.jpg"/>
          <p:cNvPicPr/>
          <p:nvPr/>
        </p:nvPicPr>
        <p:blipFill>
          <a:blip r:embed="rId1"/>
          <a:stretch/>
        </p:blipFill>
        <p:spPr>
          <a:xfrm>
            <a:off x="2000160" y="1143000"/>
            <a:ext cx="5357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1649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C:\Users\1\Desktop\ла.jpg"/>
          <p:cNvPicPr/>
          <p:nvPr/>
        </p:nvPicPr>
        <p:blipFill>
          <a:blip r:embed="rId2"/>
          <a:stretch/>
        </p:blipFill>
        <p:spPr>
          <a:xfrm>
            <a:off x="5072040" y="1571760"/>
            <a:ext cx="3500640" cy="3571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C:\Users\1\Desktop\солн.jpg"/>
          <p:cNvPicPr/>
          <p:nvPr/>
        </p:nvPicPr>
        <p:blipFill>
          <a:blip r:embed="rId3"/>
          <a:srcRect l="15398" t="0" r="6417" b="44444"/>
          <a:stretch/>
        </p:blipFill>
        <p:spPr>
          <a:xfrm>
            <a:off x="285840" y="1500120"/>
            <a:ext cx="37861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Содержимое 1" descr=""/>
          <p:cNvPicPr/>
          <p:nvPr/>
        </p:nvPicPr>
        <p:blipFill>
          <a:blip r:embed="rId1"/>
          <a:stretch/>
        </p:blipFill>
        <p:spPr>
          <a:xfrm>
            <a:off x="450720" y="1633680"/>
            <a:ext cx="8242560" cy="4376520"/>
          </a:xfrm>
          <a:prstGeom prst="rect">
            <a:avLst/>
          </a:prstGeom>
          <a:ln w="0">
            <a:noFill/>
          </a:ln>
        </p:spPr>
      </p:pic>
      <p:pic>
        <p:nvPicPr>
          <p:cNvPr id="446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Lucida Sans Unicode"/>
              </a:rPr>
              <a:t>Слова, отвечающие на вопросы  «какой?», «какая?», «какое?», «какие?» и обозначающие признак предмета, называются именами прилагательными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2:00:06Z</dcterms:created>
  <dc:creator>1</dc:creator>
  <dc:description/>
  <dc:language>en-US</dc:language>
  <cp:lastModifiedBy>1</cp:lastModifiedBy>
  <dcterms:modified xsi:type="dcterms:W3CDTF">2012-04-16T13:00:38Z</dcterms:modified>
  <cp:revision>7</cp:revision>
  <dc:subject/>
  <dc:title>МУНИЦИПАЛЬНОЕ ОБЩЕОБРАЗОВАТЕЛЬНОЕ УЧРЕЖДЕНИЕ ОСНОВНАЯ ОБЩЕОБРАЗОВАТЕЛЬНАЯ ШКОЛА   С. КИВАТЬ Кузоватовский район Ульяновская область</dc:title>
</cp:coreProperties>
</file>