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5.gif" ContentType="image/gif"/>
  <Override PartName="/ppt/media/image18.jpeg" ContentType="image/jpeg"/>
  <Override PartName="/ppt/media/image1.png" ContentType="image/png"/>
  <Override PartName="/ppt/media/image24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369-27D1-4598-A5DB-02F84D61B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574A-C338-4050-88B1-4F939C194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48D5-9EBE-4511-9749-2E361F1A0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2C6-AB19-4C55-957F-540870E7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0FA-4CC5-46E5-B771-28DBB20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32B-C052-4648-95D9-8755098C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565-127D-4905-B2FD-2692D2D4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FAA3-D3E6-4AF0-A419-4234D0DA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63F2-B8C2-44F3-8839-E6B6AD2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F7E0-1763-47D5-9570-6A81F43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94B8-F23C-4258-B06F-DDD99FA5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0843-34B3-41E7-8723-38B3E62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CD45-0F05-43BD-9F8D-0ADFB6E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41A1-3561-4EBC-8142-D59C744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89B-230F-49A7-B06A-B752259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24EF-883C-446C-A15C-C26D60B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E68-BDE9-43E8-A06D-ACD9627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8D0-EA53-41F7-A2BE-82FB3CB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AC4-0054-41DD-BBF1-4D9F20AF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BA2-1A4C-4417-80E7-B51B4FBF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EF4C-D4E3-40E6-9FAF-E635524E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81FC-B172-40CA-9E51-082197E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BE7F-69C2-40DF-B5EB-C549CF0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5324-BD3E-41B3-8EFE-2A1D17C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B675-CA53-4998-9911-28922808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B77-34C2-428E-931E-FB0E0458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7544-34D0-4759-BD3F-616570B2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461C-2E0B-421C-93D9-6545B56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E3AF-C877-46B3-AA72-808FF68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1804-4087-48B9-A9B9-7C71120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FE08-02FE-4323-A387-6EFAAC7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98FC-C53C-4A94-B351-387C3D85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6E82-8154-44A6-976A-6CDE266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459B-34C7-48CA-B00F-A25AA6B0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450D-79FC-4731-9B3B-402BF1FA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B1F0-D553-40BF-A391-D8A6FB03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2B1-B6C8-4C44-82A6-F2B0F4F4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DC1C-0725-4FE4-947D-F282DBF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4919-C8BA-4819-96EF-985F136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9AC3-3DF5-4A57-B2CC-B21EF19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F40A-AD75-40A2-9A89-78A9A49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A82E-527B-4290-AA77-AE0D1FC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3C0D-B0C5-4802-9E9E-2630E6A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D256-6798-4DB8-A13D-187E8963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6E08-EB0E-4F19-8CAB-AE0847CE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31A7-C1CC-4A34-BC2A-DF23DF13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E0B6-5011-4E60-9BD0-76DCA393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637-F4C9-4BC4-AC9E-6EE6B592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C75AE-BCDA-4ADA-A0AF-B070781A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2B73-66EF-4360-8756-0EB0D22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6DEC-BF1C-4DE4-931E-843FFC2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ED1E-683A-4098-B8CF-7CDA659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FEAD-7DC9-4A63-AEED-14400B5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EFE7-0D3D-40E0-A927-5F94224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6A18-18F1-42D2-BB3E-6FB52DD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5D8B-0BD6-4EA3-8C29-7CB963B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882A-C7F9-4D47-AC10-2DE71C2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C0B0-1F96-409A-B4CB-9C64E0AC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F33-6ABD-4719-A06D-FA2C1DC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6513-ECCD-4A57-8AEB-6C10C80E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C2F5-89CC-4B0F-89C4-4A06C406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5DD1B-8B94-4F4F-AAF9-FF30D55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3FF2-56D5-487F-8E96-A8F319D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D46B-1FB5-4835-A8D9-1C5B394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34A1-DD9E-4E92-8BC5-FBF69E1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8DF1-C647-4E9B-B09C-CFA6A65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5BB6-6A11-4AC4-80F7-217CFAF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8D3AD-C806-41CF-B7B7-6B54B50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BA17-F4F3-4CD2-8058-FD930BE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EEF-2588-4328-837B-DAA8FF3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B93A-20CD-49A8-BC7C-F06B0DEC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5D63-A047-4E79-A13B-2AD17EF2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FA75-8837-40B3-9D75-329E96B5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715DD-E52D-4125-93A2-DFFADEDD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C133-9065-497D-89E9-A2537D11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2B8D-BEEB-4A25-B3C6-0E0FC090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8441-CC76-4A87-BB16-3D1447E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72DE-D54A-4EAB-9188-CBEDB56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3E65-D236-4D74-BD8F-16A6F4A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4022F-DF76-4EA5-BAC2-8331F10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CB1-9150-4E4C-9A05-B9B3E3AB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D209-59D5-40F6-A90D-2C34430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D001-578C-47CE-A730-A8404DD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7E30-A04F-41BD-ACB0-7A49B94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62984-0C1F-42F4-8613-09DFD2A8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5C9F-74E6-4981-A3C3-F2836464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3757-CB19-4E62-A6BA-65C1857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1860E-BDFD-47BC-9B41-CF467B2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6CB6-B76E-42C0-ACE2-98003D2D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3452D-385F-4D2F-81B5-57DCF45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96D98-CA43-409E-80ED-4FA8D3D6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170-17D2-476D-9A32-90FC052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F1CDA-034D-496A-A294-B2DB691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53B6-D05E-4CEA-AA52-B1AD940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4863-755D-437B-BDC0-EFE71BF7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F595-BABF-4EFC-B462-06CE4E4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4721-3BE5-4A8A-A364-C100292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08893-C8F7-430B-A633-289966DD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1D77-B8E9-44EB-AA2F-0194E4FC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732F-AD86-405D-9FFD-B31C57CB9B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073-7E65-4149-9071-11603D5766F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810-830F-492F-9403-46FB5E7E4BC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C8F9-6756-4943-A0A2-661E54CA8C1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AEC-0F4D-4509-B819-77C01D4D2B3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D999-1041-433C-BCA4-64F387412A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5D9-F16D-46CA-8772-2F0EF924226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E5D-1D33-4028-8995-C9457200EAE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8592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766"/>
                </a:solidFill>
                <a:latin typeface="Lucida Sans Unicode"/>
                <a:ea typeface="BatangChe"/>
              </a:rPr>
              <a:t>ИМЯ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766"/>
                </a:solidFill>
                <a:latin typeface="Lucida Sans Unicode"/>
                <a:ea typeface="BatangChe"/>
              </a:rPr>
              <a:t>ПРИЛАГАТЕЛЬНОЕ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2329"/>
                </a:solidFill>
                <a:latin typeface="Lucida Sans Unicode"/>
                <a:ea typeface="BatangChe"/>
              </a:rPr>
              <a:t>СОСТАВИЛА: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2329"/>
                </a:solidFill>
                <a:latin typeface="Lucida Sans Unicode"/>
                <a:ea typeface="BatangChe"/>
              </a:rPr>
              <a:t>Еремина Ольга Ивановн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5"/>
          <p:cNvSpPr/>
          <p:nvPr/>
        </p:nvSpPr>
        <p:spPr>
          <a:xfrm>
            <a:off x="1256400" y="338040"/>
            <a:ext cx="523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Lucida Sans Unicode"/>
              </a:rPr>
              <a:t>    </a:t>
            </a:r>
            <a:r>
              <a:rPr b="1" lang="ru-RU" sz="6000" spc="-1" strike="noStrike">
                <a:solidFill>
                  <a:srgbClr val="990000"/>
                </a:solidFill>
                <a:latin typeface="Lucida Sans Unicode"/>
              </a:rPr>
              <a:t>Проблема: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468360" y="1700280"/>
            <a:ext cx="810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Lucida Sans Unicode"/>
              </a:rPr>
              <a:t>Какую роль играют в речи имена прилагательные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7" descr="мальчик"/>
          <p:cNvPicPr/>
          <p:nvPr/>
        </p:nvPicPr>
        <p:blipFill>
          <a:blip r:embed="rId1"/>
          <a:stretch/>
        </p:blipFill>
        <p:spPr>
          <a:xfrm>
            <a:off x="7164360" y="3933720"/>
            <a:ext cx="133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5"/>
          <p:cNvSpPr/>
          <p:nvPr/>
        </p:nvSpPr>
        <p:spPr>
          <a:xfrm>
            <a:off x="395280" y="260280"/>
            <a:ext cx="37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Наступила весн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Тает снег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Журчат ручь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Светит солнц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Летят птиц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003480" y="3346560"/>
            <a:ext cx="531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124000" y="308916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Наступила ранняя весн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Тает последний снег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Журчат говорливые ручь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Светит ласковое солнц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Летят голосистые птицы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Line 8"/>
          <p:cNvSpPr/>
          <p:nvPr/>
        </p:nvSpPr>
        <p:spPr>
          <a:xfrm>
            <a:off x="4643280" y="3645000"/>
            <a:ext cx="1440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3419640" y="4221000"/>
            <a:ext cx="2232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3924360" y="4797360"/>
            <a:ext cx="24494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3851280" y="5300640"/>
            <a:ext cx="1871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3564000" y="5950080"/>
            <a:ext cx="2376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Picture 17" descr="дети"/>
          <p:cNvPicPr/>
          <p:nvPr/>
        </p:nvPicPr>
        <p:blipFill>
          <a:blip r:embed="rId1"/>
          <a:srcRect l="0" t="0" r="2931" b="0"/>
          <a:stretch/>
        </p:blipFill>
        <p:spPr>
          <a:xfrm>
            <a:off x="5651640" y="692280"/>
            <a:ext cx="23763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467920" cy="1083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1\Desktop\проект урока\картинки\солнышко.gif"/>
          <p:cNvPicPr/>
          <p:nvPr/>
        </p:nvPicPr>
        <p:blipFill>
          <a:blip r:embed="rId2"/>
          <a:stretch/>
        </p:blipFill>
        <p:spPr>
          <a:xfrm>
            <a:off x="428760" y="2500200"/>
            <a:ext cx="3286080" cy="3506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1\Desktop\птичка.jpg"/>
          <p:cNvPicPr/>
          <p:nvPr/>
        </p:nvPicPr>
        <p:blipFill>
          <a:blip r:embed="rId3"/>
          <a:srcRect l="0" t="0" r="14286" b="0"/>
          <a:stretch/>
        </p:blipFill>
        <p:spPr>
          <a:xfrm>
            <a:off x="3357720" y="1143000"/>
            <a:ext cx="2571480" cy="2786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1\Desktop\дожд..jpg"/>
          <p:cNvPicPr/>
          <p:nvPr/>
        </p:nvPicPr>
        <p:blipFill>
          <a:blip r:embed="rId4"/>
          <a:stretch/>
        </p:blipFill>
        <p:spPr>
          <a:xfrm>
            <a:off x="6143760" y="328608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1\Desktop\руки.jpg"/>
          <p:cNvPicPr/>
          <p:nvPr/>
        </p:nvPicPr>
        <p:blipFill>
          <a:blip r:embed="rId5"/>
          <a:stretch/>
        </p:blipFill>
        <p:spPr>
          <a:xfrm>
            <a:off x="3857760" y="471492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1\Desktop\проект урока\картинки\весна.gif"/>
          <p:cNvPicPr/>
          <p:nvPr/>
        </p:nvPicPr>
        <p:blipFill>
          <a:blip r:embed="rId2"/>
          <a:stretch/>
        </p:blipFill>
        <p:spPr>
          <a:xfrm>
            <a:off x="2874960" y="14810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65"/>
          <p:cNvGrpSpPr/>
          <p:nvPr/>
        </p:nvGrpSpPr>
        <p:grpSpPr>
          <a:xfrm>
            <a:off x="6291720" y="1371600"/>
            <a:ext cx="1055880" cy="856800"/>
            <a:chOff x="6291720" y="1371600"/>
            <a:chExt cx="1055880" cy="856800"/>
          </a:xfrm>
        </p:grpSpPr>
        <p:sp>
          <p:nvSpPr>
            <p:cNvPr id="387" name="Oval 66"/>
            <p:cNvSpPr/>
            <p:nvPr/>
          </p:nvSpPr>
          <p:spPr>
            <a:xfrm>
              <a:off x="6434640" y="1371600"/>
              <a:ext cx="781560" cy="72216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Rectangle 67"/>
            <p:cNvSpPr/>
            <p:nvPr/>
          </p:nvSpPr>
          <p:spPr>
            <a:xfrm rot="493200">
              <a:off x="6324120" y="1635120"/>
              <a:ext cx="99072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89" name="Group 62"/>
          <p:cNvGrpSpPr/>
          <p:nvPr/>
        </p:nvGrpSpPr>
        <p:grpSpPr>
          <a:xfrm>
            <a:off x="3242880" y="1143000"/>
            <a:ext cx="1514880" cy="965160"/>
            <a:chOff x="3242880" y="1143000"/>
            <a:chExt cx="1514880" cy="965160"/>
          </a:xfrm>
        </p:grpSpPr>
        <p:sp>
          <p:nvSpPr>
            <p:cNvPr id="390" name="Oval 63"/>
            <p:cNvSpPr/>
            <p:nvPr/>
          </p:nvSpPr>
          <p:spPr>
            <a:xfrm>
              <a:off x="3427560" y="1143000"/>
              <a:ext cx="114156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Rectangle 64"/>
            <p:cNvSpPr/>
            <p:nvPr/>
          </p:nvSpPr>
          <p:spPr>
            <a:xfrm rot="493200">
              <a:off x="3276360" y="1431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92" name="Group 21"/>
          <p:cNvGrpSpPr/>
          <p:nvPr/>
        </p:nvGrpSpPr>
        <p:grpSpPr>
          <a:xfrm>
            <a:off x="949320" y="4624560"/>
            <a:ext cx="1099800" cy="1040400"/>
            <a:chOff x="949320" y="4624560"/>
            <a:chExt cx="1099800" cy="1040400"/>
          </a:xfrm>
        </p:grpSpPr>
        <p:sp>
          <p:nvSpPr>
            <p:cNvPr id="393" name="Oval 22"/>
            <p:cNvSpPr/>
            <p:nvPr/>
          </p:nvSpPr>
          <p:spPr>
            <a:xfrm rot="1872000">
              <a:off x="1066320" y="485928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Rectangle 23"/>
            <p:cNvSpPr/>
            <p:nvPr/>
          </p:nvSpPr>
          <p:spPr>
            <a:xfrm rot="1471800">
              <a:off x="1066680" y="480024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95" name="Group 61"/>
          <p:cNvGrpSpPr/>
          <p:nvPr/>
        </p:nvGrpSpPr>
        <p:grpSpPr>
          <a:xfrm>
            <a:off x="5452200" y="3505320"/>
            <a:ext cx="1436760" cy="959760"/>
            <a:chOff x="5452200" y="3505320"/>
            <a:chExt cx="1436760" cy="959760"/>
          </a:xfrm>
        </p:grpSpPr>
        <p:sp>
          <p:nvSpPr>
            <p:cNvPr id="396" name="Oval 19"/>
            <p:cNvSpPr/>
            <p:nvPr/>
          </p:nvSpPr>
          <p:spPr>
            <a:xfrm>
              <a:off x="5638680" y="3505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7" name="Rectangle 20"/>
            <p:cNvSpPr/>
            <p:nvPr/>
          </p:nvSpPr>
          <p:spPr>
            <a:xfrm rot="493200">
              <a:off x="5486400" y="3794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9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3200040" y="914400"/>
            <a:ext cx="502920" cy="358560"/>
            <a:chOff x="3200040" y="914400"/>
            <a:chExt cx="502920" cy="358560"/>
          </a:xfrm>
        </p:grpSpPr>
        <p:sp>
          <p:nvSpPr>
            <p:cNvPr id="405" name="Line 10"/>
            <p:cNvSpPr/>
            <p:nvPr/>
          </p:nvSpPr>
          <p:spPr>
            <a:xfrm>
              <a:off x="3200400" y="9144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3200040" y="9144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7" name="Line 13"/>
          <p:cNvSpPr/>
          <p:nvPr/>
        </p:nvSpPr>
        <p:spPr>
          <a:xfrm flipH="1">
            <a:off x="1763640" y="1143000"/>
            <a:ext cx="1665360" cy="42307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Line 17"/>
          <p:cNvSpPr/>
          <p:nvPr/>
        </p:nvSpPr>
        <p:spPr>
          <a:xfrm flipV="1">
            <a:off x="1066680" y="1295280"/>
            <a:ext cx="2444760" cy="37339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Line 24"/>
          <p:cNvSpPr/>
          <p:nvPr/>
        </p:nvSpPr>
        <p:spPr>
          <a:xfrm flipH="1">
            <a:off x="4038480" y="1447920"/>
            <a:ext cx="533520" cy="1373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1" name="Group 30"/>
          <p:cNvGrpSpPr/>
          <p:nvPr/>
        </p:nvGrpSpPr>
        <p:grpSpPr>
          <a:xfrm>
            <a:off x="2243880" y="4518000"/>
            <a:ext cx="1251360" cy="1141920"/>
            <a:chOff x="2243880" y="4518000"/>
            <a:chExt cx="1251360" cy="1141920"/>
          </a:xfrm>
        </p:grpSpPr>
        <p:sp>
          <p:nvSpPr>
            <p:cNvPr id="412" name="Oval 31"/>
            <p:cNvSpPr/>
            <p:nvPr/>
          </p:nvSpPr>
          <p:spPr>
            <a:xfrm rot="1872000">
              <a:off x="2361960" y="4786920"/>
              <a:ext cx="866520" cy="6991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3" name="Rectangle 32"/>
            <p:cNvSpPr/>
            <p:nvPr/>
          </p:nvSpPr>
          <p:spPr>
            <a:xfrm rot="1471800">
              <a:off x="2362320" y="4724280"/>
              <a:ext cx="1090440" cy="4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 flipH="1">
            <a:off x="3200400" y="3276720"/>
            <a:ext cx="838080" cy="20574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Line 33"/>
          <p:cNvSpPr/>
          <p:nvPr/>
        </p:nvSpPr>
        <p:spPr>
          <a:xfrm flipH="1">
            <a:off x="3428640" y="2819520"/>
            <a:ext cx="609480" cy="15228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Line 34"/>
          <p:cNvSpPr/>
          <p:nvPr/>
        </p:nvSpPr>
        <p:spPr>
          <a:xfrm flipH="1" flipV="1">
            <a:off x="3428640" y="2971440"/>
            <a:ext cx="609480" cy="30492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Line 42"/>
          <p:cNvSpPr/>
          <p:nvPr/>
        </p:nvSpPr>
        <p:spPr>
          <a:xfrm flipH="1">
            <a:off x="4648320" y="2438280"/>
            <a:ext cx="2209680" cy="1981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Line 53"/>
          <p:cNvSpPr/>
          <p:nvPr/>
        </p:nvSpPr>
        <p:spPr>
          <a:xfrm flipV="1">
            <a:off x="6858000" y="1600200"/>
            <a:ext cx="355680" cy="838080"/>
          </a:xfrm>
          <a:prstGeom prst="line">
            <a:avLst/>
          </a:prstGeom>
          <a:ln w="12708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Group 50"/>
          <p:cNvGrpSpPr/>
          <p:nvPr/>
        </p:nvGrpSpPr>
        <p:grpSpPr>
          <a:xfrm>
            <a:off x="7009920" y="1447920"/>
            <a:ext cx="502920" cy="360000"/>
            <a:chOff x="7009920" y="1447920"/>
            <a:chExt cx="502920" cy="360000"/>
          </a:xfrm>
        </p:grpSpPr>
        <p:sp>
          <p:nvSpPr>
            <p:cNvPr id="420" name="Line 51"/>
            <p:cNvSpPr/>
            <p:nvPr/>
          </p:nvSpPr>
          <p:spPr>
            <a:xfrm>
              <a:off x="7010280" y="1447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Line 52"/>
            <p:cNvSpPr/>
            <p:nvPr/>
          </p:nvSpPr>
          <p:spPr>
            <a:xfrm flipH="1">
              <a:off x="7009920" y="1447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040" y="2286000"/>
            <a:ext cx="502920" cy="360000"/>
            <a:chOff x="6629040" y="2286000"/>
            <a:chExt cx="502920" cy="360000"/>
          </a:xfrm>
        </p:grpSpPr>
        <p:sp>
          <p:nvSpPr>
            <p:cNvPr id="423" name="Line 48"/>
            <p:cNvSpPr/>
            <p:nvPr/>
          </p:nvSpPr>
          <p:spPr>
            <a:xfrm>
              <a:off x="6629400" y="22860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H="1">
              <a:off x="6629040" y="22860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5" name="Group 54"/>
          <p:cNvGrpSpPr/>
          <p:nvPr/>
        </p:nvGrpSpPr>
        <p:grpSpPr>
          <a:xfrm>
            <a:off x="3809520" y="2590920"/>
            <a:ext cx="502920" cy="360000"/>
            <a:chOff x="3809520" y="2590920"/>
            <a:chExt cx="502920" cy="360000"/>
          </a:xfrm>
        </p:grpSpPr>
        <p:sp>
          <p:nvSpPr>
            <p:cNvPr id="426" name="Line 55"/>
            <p:cNvSpPr/>
            <p:nvPr/>
          </p:nvSpPr>
          <p:spPr>
            <a:xfrm>
              <a:off x="3809880" y="2590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7" name="Line 56"/>
            <p:cNvSpPr/>
            <p:nvPr/>
          </p:nvSpPr>
          <p:spPr>
            <a:xfrm flipH="1">
              <a:off x="3809520" y="2590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8" name="Group 57"/>
          <p:cNvGrpSpPr/>
          <p:nvPr/>
        </p:nvGrpSpPr>
        <p:grpSpPr>
          <a:xfrm>
            <a:off x="4925520" y="4540680"/>
            <a:ext cx="1502280" cy="1084680"/>
            <a:chOff x="4925520" y="4540680"/>
            <a:chExt cx="1502280" cy="1084680"/>
          </a:xfrm>
        </p:grpSpPr>
        <p:sp>
          <p:nvSpPr>
            <p:cNvPr id="429" name="Oval 58"/>
            <p:cNvSpPr/>
            <p:nvPr/>
          </p:nvSpPr>
          <p:spPr>
            <a:xfrm rot="925200">
              <a:off x="5019840" y="4743360"/>
              <a:ext cx="1150200" cy="742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0" name="Rectangle 59"/>
            <p:cNvSpPr/>
            <p:nvPr/>
          </p:nvSpPr>
          <p:spPr>
            <a:xfrm rot="525600">
              <a:off x="4952520" y="4647960"/>
              <a:ext cx="14479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1" name="Line 29"/>
          <p:cNvSpPr/>
          <p:nvPr/>
        </p:nvSpPr>
        <p:spPr>
          <a:xfrm flipH="1">
            <a:off x="5029200" y="1523880"/>
            <a:ext cx="1447920" cy="35816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Line 60"/>
          <p:cNvSpPr/>
          <p:nvPr/>
        </p:nvSpPr>
        <p:spPr>
          <a:xfrm flipV="1">
            <a:off x="6172200" y="3809880"/>
            <a:ext cx="533520" cy="1447920"/>
          </a:xfrm>
          <a:prstGeom prst="line">
            <a:avLst/>
          </a:prstGeom>
          <a:ln w="12708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Line 68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Line 69"/>
          <p:cNvSpPr/>
          <p:nvPr/>
        </p:nvSpPr>
        <p:spPr>
          <a:xfrm>
            <a:off x="25146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70" descr="1-324"/>
          <p:cNvPicPr/>
          <p:nvPr/>
        </p:nvPicPr>
        <p:blipFill>
          <a:blip r:embed="rId1"/>
          <a:stretch/>
        </p:blipFill>
        <p:spPr>
          <a:xfrm>
            <a:off x="3352680" y="533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71"/>
          <p:cNvSpPr/>
          <p:nvPr/>
        </p:nvSpPr>
        <p:spPr>
          <a:xfrm>
            <a:off x="4495680" y="4343400"/>
            <a:ext cx="216000" cy="216000"/>
          </a:xfrm>
          <a:prstGeom prst="flowChartConnector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Picture 82" descr="D:\Буквы\img012.jpg"/>
          <p:cNvPicPr/>
          <p:nvPr/>
        </p:nvPicPr>
        <p:blipFill>
          <a:blip r:embed="rId2"/>
          <a:srcRect l="15216" t="0" r="8697" b="0"/>
          <a:stretch/>
        </p:blipFill>
        <p:spPr>
          <a:xfrm>
            <a:off x="0" y="304920"/>
            <a:ext cx="19810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Lucida Sans Unicode"/>
              </a:rPr>
              <a:t>Пробивался сквозь снежок, росток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4679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Users\1\Desktop\проект урока\картинки\плдснежник.jpg"/>
          <p:cNvPicPr/>
          <p:nvPr/>
        </p:nvPicPr>
        <p:blipFill>
          <a:blip r:embed="rId1"/>
          <a:stretch/>
        </p:blipFill>
        <p:spPr>
          <a:xfrm>
            <a:off x="2000160" y="1143000"/>
            <a:ext cx="535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64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Users\1\Desktop\ла.jpg"/>
          <p:cNvPicPr/>
          <p:nvPr/>
        </p:nvPicPr>
        <p:blipFill>
          <a:blip r:embed="rId2"/>
          <a:stretch/>
        </p:blipFill>
        <p:spPr>
          <a:xfrm>
            <a:off x="5072040" y="1571760"/>
            <a:ext cx="3500640" cy="357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1\Desktop\солн.jpg"/>
          <p:cNvPicPr/>
          <p:nvPr/>
        </p:nvPicPr>
        <p:blipFill>
          <a:blip r:embed="rId3"/>
          <a:srcRect l="15398" t="0" r="6417" b="44444"/>
          <a:stretch/>
        </p:blipFill>
        <p:spPr>
          <a:xfrm>
            <a:off x="285840" y="1500120"/>
            <a:ext cx="37861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Содержимое 1" descr=""/>
          <p:cNvPicPr/>
          <p:nvPr/>
        </p:nvPicPr>
        <p:blipFill>
          <a:blip r:embed="rId1"/>
          <a:stretch/>
        </p:blipFill>
        <p:spPr>
          <a:xfrm>
            <a:off x="450720" y="1633680"/>
            <a:ext cx="8242560" cy="4376520"/>
          </a:xfrm>
          <a:prstGeom prst="rect">
            <a:avLst/>
          </a:prstGeom>
          <a:ln w="0">
            <a:noFill/>
          </a:ln>
        </p:spPr>
      </p:pic>
      <p:pic>
        <p:nvPicPr>
          <p:cNvPr id="446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Lucida Sans Unicode"/>
              </a:rPr>
              <a:t>Слова, отвечающие на вопросы  «какой?», «какая?», «какое?», «какие?» и обозначающие признак предмета, называются именами прилагательным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2:00:06Z</dcterms:created>
  <dc:creator>1</dc:creator>
  <dc:description/>
  <dc:language>en-US</dc:language>
  <cp:lastModifiedBy>1</cp:lastModifiedBy>
  <dcterms:modified xsi:type="dcterms:W3CDTF">2012-04-16T13:00:38Z</dcterms:modified>
  <cp:revision>7</cp:revision>
  <dc:subject/>
  <dc:title>МУНИЦИПАЛЬНОЕ ОБЩЕОБРАЗОВАТЕЛЬНОЕ УЧРЕЖДЕНИЕ ОСНОВНАЯ ОБЩЕОБРАЗОВАТЕЛЬНАЯ ШКОЛА   С. КИВАТЬ Кузоватовский район Ульяновская область</dc:title>
</cp:coreProperties>
</file>