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E4E-C33B-4EDD-9DEB-67DEDF21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300-A57D-48B9-96EF-4384F0F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9D0-3452-4105-8906-9DEFF661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497-D0FE-4AC5-91EC-001E4611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2249-4C93-4783-A382-E5DB4B1B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0687-1297-4512-9FA0-2E037F0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31C-1969-44A6-BFFA-8A7759E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A96D-6CC7-4E48-BAD5-84C10D1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D3A-0804-4A7D-986C-124EB6E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8243-C88F-4970-8129-6B4EEAA4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BBE-D8B4-4E71-AD91-54598F6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653-9582-4137-9CDE-8E20AD2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DD14-5B2C-44F2-BCBE-E522DD3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E690-CC91-4002-B970-7EACBE7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4561-E0C3-40FA-9185-FE06421E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AB10-9A3B-4E10-BFF2-FAC6BA43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DD6C-760E-454B-933E-3E73EEE6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43F3-3C04-4B2D-9167-337E9D22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C878-4AB2-494F-B7C7-FD3EB7BD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301E-B880-41E7-AA3E-F2ECD00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11A6-A715-4CF3-BE43-BFD850D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1665-3196-4ACE-9DAB-2076C581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9E0-302F-4747-BDB6-EBA8316A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EAEC-D852-4E8E-9ECE-D8A0D09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7A7C-A88F-47D5-8CE4-87B4CC6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D6B3-6401-4611-A8E5-88D3C0F3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3AC9-E58E-4825-A481-851B343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4F6E-1B2B-4730-8D00-465E1B5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7B65-39F1-41F5-9BA0-F66B12D4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2696-99B4-4816-8E2B-C1EFB1F1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5324-490B-4695-9C0A-AA44CBB6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60C7-E641-4214-BA8B-0BCAF39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3F62-6AC2-4D85-9EF5-E6083B64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3CE-49CE-43BE-8225-5DD1EBC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BE67-1A12-4E54-9C9E-25F5067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1DD5-52EC-41F8-8672-234622D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DD89-1ECD-474A-9D2C-DF01731F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4CAE-A366-4D52-8F0E-51D6B6F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9D83-C9F9-42F0-97F8-1F035BD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424B-D136-416C-925F-70994CE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74EDC-C821-45F8-97B1-D1EA735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021D-2FD7-44BA-AEAE-EC19B57D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7E33-9F9F-4437-A947-9008A433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42E-63E3-4D5A-86CD-526F89E4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F98-DD27-4F24-9AE9-B2763AA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325-F7EF-4C67-8198-D7EAC81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0BC-1034-4A7E-B51C-1551F0E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D99-E4FC-483B-A9D4-CB3CB891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04DA-97C6-444E-A226-4B55AB8D2F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15A-5198-428E-960D-3F8396E415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1614-72CD-447A-B6D7-132BDBB97C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4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F3D-B4C3-4EC8-ADFB-62EB9E2541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1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струменты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 приспособления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ля кирпичной клад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38436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ет длину сторон 500х700 мм и применяется для проверки прямоугольности закладываемых углов.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3024360"/>
            <a:ext cx="41767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летка и складной 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летку и стальной метр применяют при разметке проемов, примыканий и пересечений стен и других измерительных операци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729080" cy="1454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411280" y="4581360"/>
            <a:ext cx="216072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испособлен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нур-прича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ученый шнур толщиной 3 мм, который натягивают при кладке верст между порядовками и маяками. Шнуром-причалкой пользуются при кладке как ориентиром для обеспечения прямолинейности и горизонтальности рядов кладки, а также одинаковой толщины горизонтальных швов. С помощью шнура определяют, какое положение должен иметь в версте каждый укладываемый кирпич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843360" cy="20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испособлен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яд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яет собой рейку сечением 50 х 50 мм и длиной до 1,8-2м, на которой через каждые 77мм нанесены деления(засечки) соответственно толщине ряда кладки. Порядовки применяют для разметки рядов кладки, фиксирования отметок низа и верха оконных и дверных проемов, перемычек, прогонов, плит перекрытий и других элементов зд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341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производственного об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ебнев Геннадий Иосифович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КУ ПУ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837"/>
                </a:moveTo>
                <a:lnTo>
                  <a:pt x="14587" y="6448"/>
                </a:ln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lnTo>
                  <a:pt x="18974" y="10800"/>
                </a:lnTo>
                <a:lnTo>
                  <a:pt x="17320" y="10800"/>
                </a:lnTo>
                <a:lnTo>
                  <a:pt x="17320" y="17989"/>
                </a:lnTo>
                <a:lnTo>
                  <a:pt x="6701" y="17989"/>
                </a:lnTo>
                <a:lnTo>
                  <a:pt x="6701" y="10800"/>
                </a:lnTo>
                <a:lnTo>
                  <a:pt x="5048" y="10800"/>
                </a:lnTo>
                <a:close/>
              </a:path>
              <a:path fill="darkenLess" w="24021" h="21600">
                <a:moveTo>
                  <a:pt x="14587" y="6448"/>
                </a:move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close/>
              </a:path>
              <a:path fill="darkenLess" w="24021" h="21600">
                <a:moveTo>
                  <a:pt x="11088" y="14299"/>
                </a:moveTo>
                <a:lnTo>
                  <a:pt x="12933" y="14299"/>
                </a:lnTo>
                <a:lnTo>
                  <a:pt x="12933" y="17989"/>
                </a:lnTo>
                <a:lnTo>
                  <a:pt x="17320" y="17989"/>
                </a:lnTo>
                <a:lnTo>
                  <a:pt x="17320" y="10800"/>
                </a:lnTo>
                <a:lnTo>
                  <a:pt x="6701" y="10800"/>
                </a:lnTo>
                <a:lnTo>
                  <a:pt x="6701" y="17989"/>
                </a:lnTo>
                <a:lnTo>
                  <a:pt x="11088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ель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ставляет собой отшлифованную с обеих сторон стальную лопатку с деревянной ручкой. Предназначена для разравнивания раствора по кладке, заполнения раствором вертикальных швов и подрезки в швах лишнего раствора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7352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жит для обработки швов — с их помощью швам придают определенную форму. Профиль поперечного сечения и размеры расшивок должны соответствовать заданной форме и толщине шв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305604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лоток-кироч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няется для рубки целого кирпича на половинки, четвертинки и т. п., а также для обтесывания кирпича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262404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творная лопа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назначена для подачи и расстилания раствора на стене. Лопатой также перемешивают раствор в ящике и разравнивают его между верстами под забутку.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320544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вабров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назначена для очистки вентиляционных каналов от выступившего из швов раствора, а также для более полного заполнения швов раствором и заглаживания их. На стальной ручке швабровки внизу закреплена между фланцами резиновая пластина размером 140 х 140 х 10 мм, с помощью которой и осуществляется процесс зачистки и заглажи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56080" cy="35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в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жит для проверки горизонтальности и вертикальности кладки. На корпусе уровня закреплены две стеклянные трубки-ампулы, изогнутые по кривой большого радиуса, наполненные незамерзающей жидкостью так, что в них остается небольшой воздушный пузырек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2844720"/>
            <a:ext cx="410508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шлифованная деревянная рейка сечением 30 х 80 мм, длиной 1,5—2 м. Его также изготовляют из дюралюминия в виде Н-образного профиля длиной 1,2 м. Этой рейкой проверяют лицевую поверхность кладки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0364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его помощью выверяют вертикальность стен, простенков, столбов и углов кладки. Отвесами массой 200-400 г проверяют правильность кладки по ярусам и в пределах высоты этажа; отвесы массой 600—1000 г служат для проверки наружных углов здания в пределах высоты нескольких этажей. 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00160" y="2781360"/>
            <a:ext cx="20858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8:02:09Z</dcterms:created>
  <dc:creator>пк</dc:creator>
  <dc:description/>
  <dc:language>en-US</dc:language>
  <cp:lastModifiedBy>пк</cp:lastModifiedBy>
  <dcterms:modified xsi:type="dcterms:W3CDTF">2012-11-22T17:57:22Z</dcterms:modified>
  <cp:revision>25</cp:revision>
  <dc:subject/>
  <dc:title>Инструменты и приспособления для кирпичной кладки</dc:title>
</cp:coreProperties>
</file>