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AEF-4F21-4AE6-8C8D-E97701D7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E24-1BBC-4346-8351-A2C9F3C9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8EB4-8FE6-4FFA-9D69-BF32068D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D19B-9F47-4E16-B845-7900CB59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D889-C83B-4204-B561-208913E1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913A-27F8-4536-B34A-D6CF8378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CF8E-A850-47E5-B8ED-87830B3D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53AA-87BC-41E0-9459-52D0654D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B30C-88C1-4D07-B4C3-D73F34EC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B88E-4EF0-4496-94B1-E1651637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1A1B-BF34-4768-A94F-41AA25CC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1A70-08E9-4686-AD6F-5D3D46C0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B255-712E-42E0-A8EC-FE725652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CC04-4C54-4565-85B5-B758560D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D979-802F-4A10-8FDE-8F4015DD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E0D9-DC13-4000-A784-CAEDAE28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BE0A-1265-4D0F-8DE8-E1AF02F4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99AF0-73CC-41FC-B668-1D499B9C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9F604-ED69-4992-B37B-1BB236BA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9CF97-5130-4653-8C82-20D510F7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C2446-B66D-47A8-9F43-7A7B6DE4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C0FBF-EB6A-41E6-9078-B0695BAD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8E6-A8D5-4091-9654-BDAE363A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C542C-A3B4-4817-BDCC-B4C12F00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D6719-9115-415E-8BBD-8C228A39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E3889-BD55-4DF1-9D47-FC8F9633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C2146-5874-40BC-9795-CB000160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58C7B-8482-409B-9783-EC3954C1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67975-955C-4D2B-A1E1-5E3D7568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49B00-2ACB-4388-9DBE-53932AB9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349E3-4A51-4EBA-A272-1D5EB972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5A98D-8A5A-4C30-87E3-5B273341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42539-F311-4EC1-AEBC-F3036A0A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B9A-20EA-46A3-A1C7-EFBA8F6C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27024-0CC5-4899-8090-E387AB3B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44751-26E5-4F2E-B61E-7B545104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5FAB5-7FCA-46E6-973D-F13B3AB6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8799C-A3DC-45F2-AB00-3829380A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7FFE4-EFB8-4CBB-8954-9642435C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A9387-53F1-4062-B105-5FACEBC0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57FD0-6940-488D-8B9E-50B26D20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88415-3860-4328-991C-BA4BE297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8DBBD-D4EF-45AA-96EE-942BDBAF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838-9B03-4398-96AA-C968AD44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239-873A-4C4C-81BF-328E0266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CD0-CED0-471C-AA64-7BE43C1D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ADD7-40B2-4EAE-AA26-A85314A2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D8A3-0E9D-4895-BA9B-4B569669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B05C-AF6F-4C96-B075-18B9B4768B8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D0C8-69F7-4E12-9B4A-9930EE52592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9DC6-3062-4411-83BB-97BA3B50FA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94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5830-D697-4AC1-803F-01C6FE199B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41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Инструменты 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и приспособления 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для кирпичной кладк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700360" y="3789360"/>
            <a:ext cx="3384360" cy="26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Контрольно-измерительный инструмент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голь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меет длину сторон 500х700 мм и применяется для проверки прямоугольности закладываемых углов.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50920" y="3024360"/>
            <a:ext cx="41767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Контрольно-измерительный инструмент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улетка и складной мет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улетку и стальной метр применяют при разметке проемов, примыканий и пересечений стен и других измерительных операция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1729080" cy="1454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411280" y="4581360"/>
            <a:ext cx="2160720" cy="12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Приспособления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Шнур-причал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рученый шнур толщиной 3 мм, который натягивают при кладке верст между порядовками и маяками. Шнуром-причалкой пользуются при кладке как ориентиром для обеспечения прямолинейности и горизонтальности рядов кладки, а также одинаковой толщины горизонтальных швов. С помощью шнура определяют, какое положение должен иметь в версте каждый укладываемый кирпич.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3843360" cy="208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Приспособления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рядо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2920" y="184464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дставляет собой рейку сечением 50 х 50 мм и длиной до 1,8-2м, на которой через каждые 77мм нанесены деления(засечки) соответственно толщине ряда кладки. Порядовки применяют для разметки рядов кладки, фиксирования отметок низа и верха оконных и дверных проемов, перемычек, прогонов, плит перекрытий и других элементов зда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33415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стер производственного обуч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ребнев Геннадий Иосифович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КУ ПУ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>
            <a:hlinkClick r:id="" action="ppaction://hlinkshowjump?jump=firstslide"/>
          </p:cNvPr>
          <p:cNvSpPr/>
          <p:nvPr/>
        </p:nvSpPr>
        <p:spPr>
          <a:xfrm>
            <a:off x="8604360" y="6308640"/>
            <a:ext cx="360360" cy="324000"/>
          </a:xfrm>
          <a:custGeom>
            <a:avLst/>
            <a:gdLst>
              <a:gd name="textAreaLeft" fmla="*/ 20880 w 360360"/>
              <a:gd name="textAreaRight" fmla="*/ 339480 w 360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4021" h="21600">
                <a:moveTo>
                  <a:pt x="0" y="0"/>
                </a:moveTo>
                <a:lnTo>
                  <a:pt x="24021" y="0"/>
                </a:lnTo>
                <a:lnTo>
                  <a:pt x="24021" y="21600"/>
                </a:lnTo>
                <a:lnTo>
                  <a:pt x="0" y="21600"/>
                </a:lnTo>
                <a:close/>
              </a:path>
              <a:path fill="lightenLess" w="24021" h="21600">
                <a:moveTo>
                  <a:pt x="0" y="0"/>
                </a:moveTo>
                <a:lnTo>
                  <a:pt x="24021" y="0"/>
                </a:lnTo>
                <a:lnTo>
                  <a:pt x="22621" y="1400"/>
                </a:lnTo>
                <a:lnTo>
                  <a:pt x="1400" y="1400"/>
                </a:lnTo>
                <a:close/>
              </a:path>
              <a:path fill="darken" w="24021" h="21600">
                <a:moveTo>
                  <a:pt x="24021" y="0"/>
                </a:moveTo>
                <a:lnTo>
                  <a:pt x="24021" y="21600"/>
                </a:lnTo>
                <a:lnTo>
                  <a:pt x="22621" y="20200"/>
                </a:lnTo>
                <a:lnTo>
                  <a:pt x="22621" y="1400"/>
                </a:lnTo>
                <a:close/>
              </a:path>
              <a:path fill="darkenLess" w="24021" h="21600">
                <a:moveTo>
                  <a:pt x="24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1" y="20200"/>
                </a:lnTo>
                <a:close/>
              </a:path>
              <a:path fill="lighten" w="24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21" h="21600">
                <a:moveTo>
                  <a:pt x="12011" y="3837"/>
                </a:moveTo>
                <a:lnTo>
                  <a:pt x="14587" y="6448"/>
                </a:lnTo>
                <a:lnTo>
                  <a:pt x="14587" y="4707"/>
                </a:lnTo>
                <a:lnTo>
                  <a:pt x="16363" y="4707"/>
                </a:lnTo>
                <a:lnTo>
                  <a:pt x="16363" y="8224"/>
                </a:lnTo>
                <a:lnTo>
                  <a:pt x="18974" y="10800"/>
                </a:lnTo>
                <a:lnTo>
                  <a:pt x="17320" y="10800"/>
                </a:lnTo>
                <a:lnTo>
                  <a:pt x="17320" y="17989"/>
                </a:lnTo>
                <a:lnTo>
                  <a:pt x="6701" y="17989"/>
                </a:lnTo>
                <a:lnTo>
                  <a:pt x="6701" y="10800"/>
                </a:lnTo>
                <a:lnTo>
                  <a:pt x="5048" y="10800"/>
                </a:lnTo>
                <a:close/>
              </a:path>
              <a:path fill="darkenLess" w="24021" h="21600">
                <a:moveTo>
                  <a:pt x="14587" y="6448"/>
                </a:moveTo>
                <a:lnTo>
                  <a:pt x="14587" y="4707"/>
                </a:lnTo>
                <a:lnTo>
                  <a:pt x="16363" y="4707"/>
                </a:lnTo>
                <a:lnTo>
                  <a:pt x="16363" y="8224"/>
                </a:lnTo>
                <a:close/>
              </a:path>
              <a:path fill="darkenLess" w="24021" h="21600">
                <a:moveTo>
                  <a:pt x="11088" y="14299"/>
                </a:moveTo>
                <a:lnTo>
                  <a:pt x="12933" y="14299"/>
                </a:lnTo>
                <a:lnTo>
                  <a:pt x="12933" y="17989"/>
                </a:lnTo>
                <a:lnTo>
                  <a:pt x="17320" y="17989"/>
                </a:lnTo>
                <a:lnTo>
                  <a:pt x="17320" y="10800"/>
                </a:lnTo>
                <a:lnTo>
                  <a:pt x="6701" y="10800"/>
                </a:lnTo>
                <a:lnTo>
                  <a:pt x="6701" y="17989"/>
                </a:lnTo>
                <a:lnTo>
                  <a:pt x="11088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Производственный инструмент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ель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ставляет собой отшлифованную с обеих сторон стальную лопатку с деревянной ручкой. Предназначена для разравнивания раствора по кладке, заполнения раствором вертикальных швов и подрезки в швах лишнего раствора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273528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Производственный инструмент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ши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ужит для обработки швов — с их помощью швам придают определенную форму. Профиль поперечного сечения и размеры расшивок должны соответствовать заданной форме и толщине шв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305604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Производственный инструмент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лоток-кироч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меняется для рубки целого кирпича на половинки, четвертинки и т. п., а также для обтесывания кирпича.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2624040" cy="116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Производственный инструмент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творная лопа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назначена для подачи и расстилания раствора на стене. Лопатой также перемешивают раствор в ящике и разравнивают его между верстами под забутку.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3205440" cy="24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Производственный инструмент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вабров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назначена для очистки вентиляционных каналов от выступившего из швов раствора, а также для более полного заполнения швов раствором и заглаживания их. На стальной ручке швабровки внизу закреплена между фланцами резиновая пластина размером 140 х 140 х 10 мм, с помощью которой и осуществляется процесс зачистки и заглажива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556080" cy="35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Контрольно-измерительный инструмент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ровен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ужит для проверки горизонтальности и вертикальности кладки. На корпусе уровня закреплены две стеклянные трубки-ампулы, изогнутые по кривой большого радиуса, наполненные незамерзающей жидкостью так, что в них остается небольшой воздушный пузырек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0920" y="2844720"/>
            <a:ext cx="4105080" cy="32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Контрольно-измерительный инструмент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вил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шлифованная деревянная рейка сечением 30 х 80 мм, длиной 1,5—2 м. Его также изготовляют из дюралюминия в виде Н-образного профиля длиной 1,2 м. Этой рейкой проверяют лицевую поверхность кладки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103640" cy="27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Контрольно-измерительный инструмент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ве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 его помощью выверяют вертикальность стен, простенков, столбов и углов кладки. Отвесами массой 200-400 г проверяют правильность кладки по ярусам и в пределах высоты этажа; отвесы массой 600—1000 г служат для проверки наружных углов здания в пределах высоты нескольких этажей. 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00160" y="2781360"/>
            <a:ext cx="20858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8:02:09Z</dcterms:created>
  <dc:creator>пк</dc:creator>
  <dc:description/>
  <dc:language>en-US</dc:language>
  <cp:lastModifiedBy>пк</cp:lastModifiedBy>
  <dcterms:modified xsi:type="dcterms:W3CDTF">2012-11-22T17:57:22Z</dcterms:modified>
  <cp:revision>25</cp:revision>
  <dc:subject/>
  <dc:title>Инструменты и приспособления для кирпичной кладки</dc:title>
</cp:coreProperties>
</file>