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B6D-AD63-4761-9377-29CAC008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C51-A7BD-4EAA-AD5F-42A18207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590-B62E-4F55-ABEE-B19A1397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FAB-8BC8-43A0-82D0-EC7A5ECD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FA9-C328-4A16-8BFB-FED3352D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8197-1137-4141-81C9-37511F4F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E35-ECAC-41A6-9D91-BB9B5582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972-B1AC-4845-BA0B-78BB6D1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CFC-FACF-4CD3-9240-71D3461D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DC6-FD07-4BDF-836C-BC2AAE2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0C6-0040-476D-A6D1-E6B71905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12F-67B6-4EA0-9A08-8641032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4F5-EF59-4224-B53C-0AE5210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A612-A63E-4FFD-AC29-2EBD04D6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4DCA-7E9B-4553-8BAE-5F3D392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501-51E7-4998-A68B-20142739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0EE3-1477-4C0F-848D-4361322A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D3A-395C-4E2A-A30C-E689550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B24-4F8A-499D-B3B3-B794DDAA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4D7-6CF0-4D79-A35B-E808CDF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A9F-2DD7-4F5C-B7E1-DFF6CA85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A08-8FA9-47EB-A49D-B9DA96D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72D-FC55-40B0-B135-32E622A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7AD-BCDA-4F08-A575-F568722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E0D-BCD8-4770-9005-370637C443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F68-0544-438F-B6A5-43695C5574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30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02020"/>
                </a:solidFill>
                <a:latin typeface="Comic Sans MS"/>
              </a:rPr>
              <a:t>Учебно-исследовательская работ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02020"/>
                </a:solidFill>
                <a:latin typeface="Comic Sans MS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548532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19320" y="3429000"/>
            <a:ext cx="6333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татистические исследования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ащихся 6 класса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БОУ  Хадаханская  СОШ"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6172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2011-2012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1120" y="2424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424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057400"/>
          <a:ext cx="3733560" cy="2890800"/>
        </p:xfrm>
        <a:graphic>
          <a:graphicData uri="http://schemas.openxmlformats.org/drawingml/2006/table">
            <a:tbl>
              <a:tblPr/>
              <a:tblGrid>
                <a:gridCol w="1676160"/>
                <a:gridCol w="609840"/>
                <a:gridCol w="685800"/>
                <a:gridCol w="7617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Impact"/>
                          <a:ea typeface="Times New Roman"/>
                        </a:rPr>
                        <a:t>6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урят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258920" y="605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Исследования показывают, что  бурятский и английский ребята знают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267080" y="1981080"/>
          <a:ext cx="434340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343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 txBox="1"/>
          <p:nvPr/>
        </p:nvSpPr>
        <p:spPr>
          <a:xfrm>
            <a:off x="1676520" y="533520"/>
            <a:ext cx="4971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чество знан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066680" y="380880"/>
          <a:ext cx="5220000" cy="1101960"/>
        </p:xfrm>
        <a:graphic>
          <a:graphicData uri="http://schemas.openxmlformats.org/drawingml/2006/table">
            <a:tbl>
              <a:tblPr/>
              <a:tblGrid>
                <a:gridCol w="2278080"/>
                <a:gridCol w="381240"/>
                <a:gridCol w="457200"/>
                <a:gridCol w="457200"/>
                <a:gridCol w="503280"/>
                <a:gridCol w="571320"/>
                <a:gridCol w="5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д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-во учеников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209680" y="52578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Самая низкая посещаемость учеников нашего класса была на 3 недел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57400" y="1828800"/>
          <a:ext cx="510552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055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04920" y="1752480"/>
          <a:ext cx="3886200" cy="273996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бол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бсолютная      частота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елонефр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з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альная ас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тонзилл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905120" y="4952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вод: Мои исследования говорят о  том, что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1/4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части учащихся моего класса страдают нарушением зрения    и пиелонефр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90512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е здоровь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267080" y="1676520"/>
          <a:ext cx="4191120" cy="2922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676520"/>
                    <a:ext cx="41911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0880" y="1447920"/>
          <a:ext cx="3810240" cy="2739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524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,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астота,        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редина интервала,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–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–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–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–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–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295280" y="4495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Вывод: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Средний рост моих одноклассников – 155,8 см. см. Разница в росте между самым низким и самым высоким составляет 27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495680" y="1447920"/>
          <a:ext cx="3638520" cy="289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363852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 txBox="1"/>
          <p:nvPr/>
        </p:nvSpPr>
        <p:spPr>
          <a:xfrm>
            <a:off x="838080" y="228600"/>
            <a:ext cx="667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т моих одноклассни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495680" y="1447920"/>
          <a:ext cx="3638520" cy="289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447920"/>
                    <a:ext cx="363852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04920" y="2209680"/>
          <a:ext cx="3581280" cy="228600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звание круж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личество учащихся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ctr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Хор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Фолькл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Во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 txBox="1"/>
          <p:nvPr/>
        </p:nvSpPr>
        <p:spPr>
          <a:xfrm>
            <a:off x="1295280" y="76212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ужки по интереса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181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Из гистограммы видно, что ученики больше всего любят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343400" y="2133720"/>
          <a:ext cx="4191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343400" y="2133720"/>
          <a:ext cx="419112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13372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76720" y="4572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к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51814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По моим исследованиям видно, что ученики волейбол и баскетбол любят больше,  чем остальные виды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3520" y="1380960"/>
          <a:ext cx="7772400" cy="34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80960"/>
                    <a:ext cx="7772400" cy="3495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520" y="1371600"/>
          <a:ext cx="7772400" cy="34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71600"/>
                    <a:ext cx="7772400" cy="349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198000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064520"/>
            <a:ext cx="7848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Comic Sans MS"/>
              </a:rPr>
              <a:t>Проблема</a:t>
            </a:r>
            <a:r>
              <a:rPr b="0" i="1" lang="ru-RU" sz="24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этом учебном году в нашем классе на одном из занятий математики были рассмотрены  темы «Столбчатые диаграммы» и «Графики». Заинтересовавшись этой темой, мы решили больше узнать, ознакомиться с принципом построения столбчатых и круговых диаграмм, читать графики, выражающие зависимости между величинами. И с этой целью начали изучение со статистических данных качества знаний учащихся, здоровья, в кружковых занятиях. Нам  эта тема казалась очень интересной, поэтому хотели изучить ее глуб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1398600"/>
            <a:ext cx="7948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Цель нашего исследования:</a:t>
            </a: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яснить, что такое статистика и его в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Изучить данные качества успеваемости учащихся за четверть, количества учащихся, посещаемых спортивные секции,  кру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остроить диаграмму по результатам исследований.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78120"/>
            <a:ext cx="75772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ыяснить, что изучает стати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Собрать информацию и обработать да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Создать диаграммы для описания результатов  наблю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2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9240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читься работать в программах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MS Word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MS Power Point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для создания презентации, т.е. печатать текст, делать диаграммы, выбирать фон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65480"/>
            <a:ext cx="80773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80996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План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Найти и изучить статистику (его толкование в словаре и способы статистического наблюд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Узнать показатели качества знаний учащихся 6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Беседа с медсестрой по выявлению медицинских показаний учащихся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овести анкетирование у одноклассников, которое поможет выяснить творческие спосо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оанализировать собранную информ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Выполнить презентацию по собранному матери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Участвовать в проведении классного часа по собранному матери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809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038099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Представить результат проектно-исследовательской работы на школьной 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75924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Статистика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– получение, обработка, анализ и публикация информации, характеризующей количественные закономерности жизни общества в неразрывной связи с их качественным содержани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56920" y="3504240"/>
            <a:ext cx="65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Способы статистического наблюдения.</a:t>
            </a: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4320" y="464724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Непосредств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2120" y="5637960"/>
            <a:ext cx="42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Документально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98600" y="47235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Опрос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6000" y="4114800"/>
            <a:ext cx="1828800" cy="53352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191120"/>
            <a:ext cx="0" cy="137160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114800"/>
            <a:ext cx="1524240" cy="60948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371600"/>
          <a:ext cx="8077320" cy="1660680"/>
        </p:xfrm>
        <a:graphic>
          <a:graphicData uri="http://schemas.openxmlformats.org/drawingml/2006/table">
            <a:tbl>
              <a:tblPr/>
              <a:tblGrid>
                <a:gridCol w="1376280"/>
                <a:gridCol w="608040"/>
                <a:gridCol w="609480"/>
                <a:gridCol w="609840"/>
                <a:gridCol w="609480"/>
                <a:gridCol w="608040"/>
                <a:gridCol w="609480"/>
                <a:gridCol w="609840"/>
                <a:gridCol w="608040"/>
                <a:gridCol w="609480"/>
                <a:gridCol w="609480"/>
                <a:gridCol w="609840"/>
              </a:tblGrid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мма баллов по зад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" y="3657600"/>
                <a:ext cx="86868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740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ывод: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Данное наблюдение является единовременным, способ наблюдения 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документ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38080" y="895320"/>
          <a:ext cx="746784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95320"/>
                    <a:ext cx="746784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57200" y="457200"/>
          <a:ext cx="6705720" cy="1735200"/>
        </p:xfrm>
        <a:graphic>
          <a:graphicData uri="http://schemas.openxmlformats.org/drawingml/2006/table">
            <a:tbl>
              <a:tblPr/>
              <a:tblGrid>
                <a:gridCol w="1828800"/>
                <a:gridCol w="762120"/>
                <a:gridCol w="761760"/>
                <a:gridCol w="838440"/>
                <a:gridCol w="761760"/>
                <a:gridCol w="83844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л-во      удар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036880" y="5715000"/>
            <a:ext cx="67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ВЫВОД: Более стабильная успевае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тмечена в 6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19320" y="2057400"/>
          <a:ext cx="5715000" cy="338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057400"/>
                    <a:ext cx="571500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1:17:00Z</dcterms:created>
  <dc:creator>Лаврентий</dc:creator>
  <dc:description/>
  <dc:language>en-US</dc:language>
  <cp:lastModifiedBy>Лаврентий</cp:lastModifiedBy>
  <dcterms:modified xsi:type="dcterms:W3CDTF">2012-11-27T12:45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