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552-2CC4-4528-926F-980267A9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456-7FDB-4E91-8D4E-06DAB472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41F-C853-4B2A-8216-4A9B3C8B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7DE-B8B6-4C47-A77F-E1B16FD4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7FBB-86C4-42DE-9997-F3EDE842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562E-61BC-4310-924A-82FF0343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EB55-A5D1-493B-9DE6-F3D7777E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DA60-A420-40F0-97A6-08DCEB46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2C97-4065-43A4-8D42-9585EB7C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368A-5964-465C-BEAE-DDF997E2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A303-16ED-485F-936A-2F541AE7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560-EE9A-4F24-8C69-3032E14A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1BFA-9AC4-4910-8CBF-315B2D91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8F3E-A5E2-44AD-BAB8-055FB642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5E76-9D0F-4561-B311-C5528A83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71F7-8996-4809-AA82-0F649CB9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09FE-1903-43D9-8E49-EE0C343A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5A6-00FF-413E-A83E-2906A909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788-7211-4793-AC49-77B803A7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0E0E-61E5-445D-A78D-C859DA86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508-74E3-43FF-B7E4-D4D8CC73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A9D-33B2-4E11-A5E9-2FEA77CB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0E2-4C4D-40DD-8FFE-3918BA2C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882-ED31-4C34-83EA-111BF03C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3B12-84C6-4622-8710-4682E8AB740D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0615-4E0E-470B-8E06-15AEDA7AAF7D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hyperlink" Target="http://www.sarago.co.jp/nfhtm/ru.html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9"/>
          <p:cNvSpPr/>
          <p:nvPr/>
        </p:nvSpPr>
        <p:spPr>
          <a:xfrm>
            <a:off x="285840" y="6357960"/>
            <a:ext cx="2881080" cy="7128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3" descr="D:\для курсов 2010\Фотографии для слайдов\P1100823.JPG"/>
          <p:cNvPicPr/>
          <p:nvPr/>
        </p:nvPicPr>
        <p:blipFill>
          <a:blip r:embed="rId1"/>
          <a:stretch/>
        </p:blipFill>
        <p:spPr>
          <a:xfrm>
            <a:off x="0" y="3571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D:\для курсов 2010\Фотографии для слайдов\P1100834.JPG"/>
          <p:cNvPicPr/>
          <p:nvPr/>
        </p:nvPicPr>
        <p:blipFill>
          <a:blip r:embed="rId2"/>
          <a:stretch/>
        </p:blipFill>
        <p:spPr>
          <a:xfrm>
            <a:off x="0" y="0"/>
            <a:ext cx="4429080" cy="332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:\для курсов 2010\Фотографии для слайдов\P1100821.JPG"/>
          <p:cNvPicPr/>
          <p:nvPr/>
        </p:nvPicPr>
        <p:blipFill>
          <a:blip r:embed="rId3"/>
          <a:stretch/>
        </p:blipFill>
        <p:spPr>
          <a:xfrm>
            <a:off x="4762440" y="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D:\для курсов 2010\Фотографии для слайдов\P1100826.JPG"/>
          <p:cNvPicPr/>
          <p:nvPr/>
        </p:nvPicPr>
        <p:blipFill>
          <a:blip r:embed="rId4"/>
          <a:stretch/>
        </p:blipFill>
        <p:spPr>
          <a:xfrm>
            <a:off x="4762440" y="357192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100" name="Oval 24"/>
          <p:cNvSpPr/>
          <p:nvPr/>
        </p:nvSpPr>
        <p:spPr>
          <a:xfrm>
            <a:off x="3564000" y="2421000"/>
            <a:ext cx="19429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551b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WordArt 39"/>
          <p:cNvSpPr txBox="1"/>
          <p:nvPr/>
        </p:nvSpPr>
        <p:spPr>
          <a:xfrm>
            <a:off x="3857760" y="7245360"/>
            <a:ext cx="12859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Jokerman LET"/>
              </a:rPr>
              <a:t>Балаково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Jokerman LET"/>
              <a:ea typeface="Jokerman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Jokerman LET"/>
              </a:rPr>
              <a:t>201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Jokerman LET"/>
              <a:ea typeface="Jokerman LET"/>
            </a:endParaRPr>
          </a:p>
        </p:txBody>
      </p:sp>
      <p:pic>
        <p:nvPicPr>
          <p:cNvPr id="102" name="Picture 41" descr="Безымянный"/>
          <p:cNvPicPr/>
          <p:nvPr/>
        </p:nvPicPr>
        <p:blipFill>
          <a:blip r:embed="rId5"/>
          <a:stretch/>
        </p:blipFill>
        <p:spPr>
          <a:xfrm>
            <a:off x="3995640" y="2708280"/>
            <a:ext cx="1112760" cy="1413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7"/>
          <p:cNvSpPr txBox="1"/>
          <p:nvPr/>
        </p:nvSpPr>
        <p:spPr>
          <a:xfrm>
            <a:off x="928800" y="3214800"/>
            <a:ext cx="72151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Jokerman LET"/>
              </a:rPr>
              <a:t>на уроках технологии в 5-6 классах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Jokerman LET"/>
              <a:ea typeface="Jokerman LET"/>
            </a:endParaRPr>
          </a:p>
        </p:txBody>
      </p:sp>
      <p:sp>
        <p:nvSpPr>
          <p:cNvPr id="104" name="WordArt 38"/>
          <p:cNvSpPr txBox="1"/>
          <p:nvPr/>
        </p:nvSpPr>
        <p:spPr>
          <a:xfrm>
            <a:off x="3286080" y="4857840"/>
            <a:ext cx="25718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Jokerman LET"/>
              </a:rPr>
              <a:t>МОУ"СОШ №25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Jokerman LET"/>
              <a:ea typeface="Jokerman LET"/>
            </a:endParaRPr>
          </a:p>
        </p:txBody>
      </p:sp>
      <p:pic>
        <p:nvPicPr>
          <p:cNvPr id="105" name="Picture 40" descr="国旗の由来などを見る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144000" y="0"/>
            <a:ext cx="973080" cy="65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国旗の由来などを見る"/>
          <p:cNvPicPr/>
          <p:nvPr/>
        </p:nvPicPr>
        <p:blipFill>
          <a:blip r:embed="rId8"/>
          <a:stretch/>
        </p:blipFill>
        <p:spPr>
          <a:xfrm>
            <a:off x="-971640" y="0"/>
            <a:ext cx="971640" cy="6494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36"/>
          <p:cNvSpPr txBox="1"/>
          <p:nvPr/>
        </p:nvSpPr>
        <p:spPr>
          <a:xfrm>
            <a:off x="1000080" y="-2214720"/>
            <a:ext cx="7286760" cy="30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Jokerman LET"/>
              </a:rPr>
              <a:t>Изготовление сувенирно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Jokerman LET"/>
              <a:ea typeface="Jokerman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Jokerman LET"/>
              </a:rPr>
              <a:t>продукции из древеси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Jokerman LET"/>
              <a:ea typeface="Jokerman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Jokerman LET"/>
              <a:ea typeface="Jokerman LET"/>
            </a:endParaRPr>
          </a:p>
        </p:txBody>
      </p:sp>
      <p:pic>
        <p:nvPicPr>
          <p:cNvPr id="108" name="Rectangle 8" descr=""/>
          <p:cNvPicPr/>
          <p:nvPr/>
        </p:nvPicPr>
        <p:blipFill>
          <a:blip r:embed="rId9"/>
          <a:stretch/>
        </p:blipFill>
        <p:spPr>
          <a:xfrm>
            <a:off x="615960" y="5168880"/>
            <a:ext cx="7461360" cy="51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8148E-006 L 1.38889E-006 0.43171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7 L -0.00174 -0.17963 E">
                                      <p:cBhvr>
                                        <p:cTn id="1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09531 0.46181 E">
                                      <p:cBhvr>
                                        <p:cTn id="14" dur="3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36994E-006 L 0.09636 0.44185 E">
                                      <p:cBhvr>
                                        <p:cTn id="16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все вместе.wmv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143840" cy="53578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8"/>
          <p:cNvSpPr/>
          <p:nvPr/>
        </p:nvSpPr>
        <p:spPr>
          <a:xfrm>
            <a:off x="214200" y="6286680"/>
            <a:ext cx="864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Изготовление сувенирной продукции из древесины на уроках технологии в 5-6 к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мозаикааа.wmv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286760" cy="54658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8"/>
          <p:cNvSpPr/>
          <p:nvPr/>
        </p:nvSpPr>
        <p:spPr>
          <a:xfrm>
            <a:off x="214200" y="6286680"/>
            <a:ext cx="864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Изготовление сувенирной продукции из древесины на уроках технологии в 5-6 к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D:\для курсов 2010\Фотографии для слайдов\P1240321.JPG"/>
          <p:cNvPicPr/>
          <p:nvPr/>
        </p:nvPicPr>
        <p:blipFill>
          <a:blip r:embed="rId1"/>
          <a:srcRect l="11769" t="23531" r="17648" b="1963"/>
          <a:stretch/>
        </p:blipFill>
        <p:spPr>
          <a:xfrm>
            <a:off x="6000840" y="4465800"/>
            <a:ext cx="2571840" cy="2035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D:\для курсов 2010\Фотографии для слайдов\P1100823.JPG"/>
          <p:cNvPicPr/>
          <p:nvPr/>
        </p:nvPicPr>
        <p:blipFill>
          <a:blip r:embed="rId2"/>
          <a:stretch/>
        </p:blipFill>
        <p:spPr>
          <a:xfrm>
            <a:off x="500040" y="4357800"/>
            <a:ext cx="2714760" cy="2036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D:\для курсов 2010\Фотографии для слайдов\P1100821.JPG"/>
          <p:cNvPicPr/>
          <p:nvPr/>
        </p:nvPicPr>
        <p:blipFill>
          <a:blip r:embed="rId3"/>
          <a:stretch/>
        </p:blipFill>
        <p:spPr>
          <a:xfrm>
            <a:off x="1714680" y="2357280"/>
            <a:ext cx="2738160" cy="2054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D:\для курсов 2010\Фотографии для слайдов\P1100826.JPG"/>
          <p:cNvPicPr/>
          <p:nvPr/>
        </p:nvPicPr>
        <p:blipFill>
          <a:blip r:embed="rId4"/>
          <a:stretch/>
        </p:blipFill>
        <p:spPr>
          <a:xfrm>
            <a:off x="3357720" y="4214880"/>
            <a:ext cx="2809800" cy="2108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5"/>
          <p:cNvSpPr/>
          <p:nvPr/>
        </p:nvSpPr>
        <p:spPr>
          <a:xfrm>
            <a:off x="357120" y="571680"/>
            <a:ext cx="8501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РАКТИЧЕСКАЯ РАБОТА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D:\для курсов 2010\Фотографии для слайдов\P1240333.JPG"/>
          <p:cNvPicPr/>
          <p:nvPr/>
        </p:nvPicPr>
        <p:blipFill>
          <a:blip r:embed="rId5"/>
          <a:stretch/>
        </p:blipFill>
        <p:spPr>
          <a:xfrm>
            <a:off x="5072040" y="228600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155" name="05-Concerto de Arta.mp3" descr=""/>
          <p:cNvPicPr/>
          <p:nvPr/>
        </p:nvPicPr>
        <p:blipFill>
          <a:blip r:embed="rId6"/>
          <a:stretch/>
        </p:blipFill>
        <p:spPr>
          <a:xfrm>
            <a:off x="8643960" y="6072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01-Mallorca Love Theme.mp3" descr=""/>
          <p:cNvPicPr/>
          <p:nvPr/>
        </p:nvPicPr>
        <p:blipFill>
          <a:blip r:embed="rId7"/>
          <a:stretch/>
        </p:blipFill>
        <p:spPr>
          <a:xfrm>
            <a:off x="8643960" y="5500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7" name="1.wav" descr=""/>
          <p:cNvPicPr/>
          <p:nvPr/>
        </p:nvPicPr>
        <p:blipFill>
          <a:blip r:embed="rId8"/>
          <a:stretch/>
        </p:blipFill>
        <p:spPr>
          <a:xfrm>
            <a:off x="214200" y="6000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2.wav" descr=""/>
          <p:cNvPicPr/>
          <p:nvPr/>
        </p:nvPicPr>
        <p:blipFill>
          <a:blip r:embed="rId9"/>
          <a:stretch/>
        </p:blipFill>
        <p:spPr>
          <a:xfrm>
            <a:off x="214200" y="5429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725074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344623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64125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7233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5"/>
          <p:cNvSpPr/>
          <p:nvPr/>
        </p:nvSpPr>
        <p:spPr>
          <a:xfrm>
            <a:off x="714240" y="642960"/>
            <a:ext cx="80010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Список литератур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акушинский А. В. Художественное творчество и воспитание - М.: Просвещение 199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отова И.В. Развитие самостоятельности школьников при изучении технологии // Школа и производство. 2007. №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ылов А.В. Проектирование в технологии // Школа и производство. 2002. №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уравьев Е.М. Структурный подход в обучении технологии // Школа и производство. 2004. №5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шкова Ф.Б., Рогозина В.А. Организация учебного диалога в проектной деятельности школьников // Школа и производство. 2007 №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тернет ресурс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0" name="Группа 5"/>
          <p:cNvGrpSpPr/>
          <p:nvPr/>
        </p:nvGrpSpPr>
        <p:grpSpPr>
          <a:xfrm>
            <a:off x="214200" y="6286680"/>
            <a:ext cx="7715520" cy="457200"/>
            <a:chOff x="214200" y="6286680"/>
            <a:chExt cx="7715520" cy="457200"/>
          </a:xfrm>
        </p:grpSpPr>
        <p:sp>
          <p:nvSpPr>
            <p:cNvPr id="161" name="Rectangle 28"/>
            <p:cNvSpPr/>
            <p:nvPr/>
          </p:nvSpPr>
          <p:spPr>
            <a:xfrm>
              <a:off x="214200" y="6286680"/>
              <a:ext cx="771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Изготовление сувенирной продукции из древесины на уроках технологии в 5-6 кл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29"/>
            <p:cNvSpPr/>
            <p:nvPr/>
          </p:nvSpPr>
          <p:spPr>
            <a:xfrm>
              <a:off x="305640" y="6357960"/>
              <a:ext cx="3692880" cy="71280"/>
            </a:xfrm>
            <a:prstGeom prst="rect">
              <a:avLst/>
            </a:prstGeom>
            <a:solidFill>
              <a:srgbClr val="77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857160" y="711720"/>
            <a:ext cx="785808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Подлинная красота человека проявляется в труде. Прекрасен не только результат труда, но и сам процесс свободного труда, в котором раскрываются творческие возможности человека, мощь его разума, его власть над силами природы. Труд стоит у истоков эстетического чувства, у истоков искусства, которое само является областью вдохновенного духовного тру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П.Р. Арту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Группа 5"/>
          <p:cNvGrpSpPr/>
          <p:nvPr/>
        </p:nvGrpSpPr>
        <p:grpSpPr>
          <a:xfrm>
            <a:off x="214200" y="6286680"/>
            <a:ext cx="7715520" cy="457200"/>
            <a:chOff x="214200" y="6286680"/>
            <a:chExt cx="7715520" cy="457200"/>
          </a:xfrm>
        </p:grpSpPr>
        <p:sp>
          <p:nvSpPr>
            <p:cNvPr id="111" name="Rectangle 28"/>
            <p:cNvSpPr/>
            <p:nvPr/>
          </p:nvSpPr>
          <p:spPr>
            <a:xfrm>
              <a:off x="214200" y="6286680"/>
              <a:ext cx="771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Изготовление сувенирной продукции из древесины на уроках технологии в 5-6 кл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305640" y="6357960"/>
              <a:ext cx="3692880" cy="71280"/>
            </a:xfrm>
            <a:prstGeom prst="rect">
              <a:avLst/>
            </a:prstGeom>
            <a:solidFill>
              <a:srgbClr val="77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5"/>
          <p:cNvSpPr/>
          <p:nvPr/>
        </p:nvSpPr>
        <p:spPr>
          <a:xfrm>
            <a:off x="642960" y="4214880"/>
            <a:ext cx="850104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Цель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Активизация творческой деятельности обучающихс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1000080" y="285840"/>
            <a:ext cx="84297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Педагогические проблем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тсутствие внутренней мотивации школьников к деятельност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ребенок не может применить теорию на практик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ученик испытывает страх перед практической деятельность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5" name="Группа 5"/>
          <p:cNvGrpSpPr/>
          <p:nvPr/>
        </p:nvGrpSpPr>
        <p:grpSpPr>
          <a:xfrm>
            <a:off x="214200" y="6286680"/>
            <a:ext cx="7715520" cy="457200"/>
            <a:chOff x="214200" y="6286680"/>
            <a:chExt cx="7715520" cy="457200"/>
          </a:xfrm>
        </p:grpSpPr>
        <p:sp>
          <p:nvSpPr>
            <p:cNvPr id="116" name="Rectangle 28"/>
            <p:cNvSpPr/>
            <p:nvPr/>
          </p:nvSpPr>
          <p:spPr>
            <a:xfrm>
              <a:off x="214200" y="6286680"/>
              <a:ext cx="771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Изготовление сувенирной продукции из древесины на уроках технологии в 5-6 кл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Rectangle 29"/>
            <p:cNvSpPr/>
            <p:nvPr/>
          </p:nvSpPr>
          <p:spPr>
            <a:xfrm>
              <a:off x="305640" y="6357960"/>
              <a:ext cx="3692880" cy="71280"/>
            </a:xfrm>
            <a:prstGeom prst="rect">
              <a:avLst/>
            </a:prstGeom>
            <a:solidFill>
              <a:srgbClr val="77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5"/>
          <p:cNvSpPr/>
          <p:nvPr/>
        </p:nvSpPr>
        <p:spPr>
          <a:xfrm>
            <a:off x="642960" y="1571760"/>
            <a:ext cx="850104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Творчеств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это процесс человеческой деятельности, создающий  качественно новые материальные и духовные ценности или итог создания субъективно новог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Группа 5"/>
          <p:cNvGrpSpPr/>
          <p:nvPr/>
        </p:nvGrpSpPr>
        <p:grpSpPr>
          <a:xfrm>
            <a:off x="214200" y="6286680"/>
            <a:ext cx="7715520" cy="457200"/>
            <a:chOff x="214200" y="6286680"/>
            <a:chExt cx="7715520" cy="457200"/>
          </a:xfrm>
        </p:grpSpPr>
        <p:sp>
          <p:nvSpPr>
            <p:cNvPr id="120" name="Rectangle 28"/>
            <p:cNvSpPr/>
            <p:nvPr/>
          </p:nvSpPr>
          <p:spPr>
            <a:xfrm>
              <a:off x="214200" y="6286680"/>
              <a:ext cx="771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Изготовление сувенирной продукции из древесины на уроках технологии в 5-6 кл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29"/>
            <p:cNvSpPr/>
            <p:nvPr/>
          </p:nvSpPr>
          <p:spPr>
            <a:xfrm>
              <a:off x="305640" y="6357960"/>
              <a:ext cx="3692880" cy="71280"/>
            </a:xfrm>
            <a:prstGeom prst="rect">
              <a:avLst/>
            </a:prstGeom>
            <a:solidFill>
              <a:srgbClr val="77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хема 4" descr=""/>
          <p:cNvPicPr/>
          <p:nvPr/>
        </p:nvPicPr>
        <p:blipFill>
          <a:blip r:embed="rId1"/>
          <a:stretch/>
        </p:blipFill>
        <p:spPr>
          <a:xfrm>
            <a:off x="1060560" y="706320"/>
            <a:ext cx="7570800" cy="5085000"/>
          </a:xfrm>
          <a:prstGeom prst="rect">
            <a:avLst/>
          </a:prstGeom>
          <a:ln w="0">
            <a:noFill/>
          </a:ln>
        </p:spPr>
      </p:pic>
      <p:sp>
        <p:nvSpPr>
          <p:cNvPr id="123" name="Овал 5"/>
          <p:cNvSpPr/>
          <p:nvPr/>
        </p:nvSpPr>
        <p:spPr>
          <a:xfrm>
            <a:off x="2714760" y="2786040"/>
            <a:ext cx="314316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Группа 5"/>
          <p:cNvGrpSpPr/>
          <p:nvPr/>
        </p:nvGrpSpPr>
        <p:grpSpPr>
          <a:xfrm>
            <a:off x="214200" y="6286680"/>
            <a:ext cx="7715520" cy="457200"/>
            <a:chOff x="214200" y="6286680"/>
            <a:chExt cx="7715520" cy="457200"/>
          </a:xfrm>
        </p:grpSpPr>
        <p:sp>
          <p:nvSpPr>
            <p:cNvPr id="125" name="Rectangle 28"/>
            <p:cNvSpPr/>
            <p:nvPr/>
          </p:nvSpPr>
          <p:spPr>
            <a:xfrm>
              <a:off x="214200" y="6286680"/>
              <a:ext cx="771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Изготовление сувенирной продукции из древесины на уроках технологии в 5-6 кл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Rectangle 29"/>
            <p:cNvSpPr/>
            <p:nvPr/>
          </p:nvSpPr>
          <p:spPr>
            <a:xfrm>
              <a:off x="305640" y="6357960"/>
              <a:ext cx="3692880" cy="71280"/>
            </a:xfrm>
            <a:prstGeom prst="rect">
              <a:avLst/>
            </a:prstGeom>
            <a:solidFill>
              <a:srgbClr val="77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500040" y="1923120"/>
            <a:ext cx="86439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Чувство прекрасного может быть сформировано лишь в том случае, когда красота предмета или явления предстанет перед  учениками в конкретном выражен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Группа 5"/>
          <p:cNvGrpSpPr/>
          <p:nvPr/>
        </p:nvGrpSpPr>
        <p:grpSpPr>
          <a:xfrm>
            <a:off x="214200" y="6286680"/>
            <a:ext cx="7715520" cy="457200"/>
            <a:chOff x="214200" y="6286680"/>
            <a:chExt cx="7715520" cy="457200"/>
          </a:xfrm>
        </p:grpSpPr>
        <p:sp>
          <p:nvSpPr>
            <p:cNvPr id="129" name="Rectangle 28"/>
            <p:cNvSpPr/>
            <p:nvPr/>
          </p:nvSpPr>
          <p:spPr>
            <a:xfrm>
              <a:off x="214200" y="6286680"/>
              <a:ext cx="771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Изготовление сувенирной продукции из древесины на уроках технологии в 5-6 кл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29"/>
            <p:cNvSpPr/>
            <p:nvPr/>
          </p:nvSpPr>
          <p:spPr>
            <a:xfrm>
              <a:off x="305640" y="6357960"/>
              <a:ext cx="3692880" cy="71280"/>
            </a:xfrm>
            <a:prstGeom prst="rect">
              <a:avLst/>
            </a:prstGeom>
            <a:solidFill>
              <a:srgbClr val="77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5"/>
          <p:cNvSpPr/>
          <p:nvPr/>
        </p:nvSpPr>
        <p:spPr>
          <a:xfrm>
            <a:off x="500040" y="1143000"/>
            <a:ext cx="86439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Признаки творческой деятельности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продуктив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ригиналь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нестандарт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способность к генерации новых идей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озможность «выхода за пределы ситу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Группа 5"/>
          <p:cNvGrpSpPr/>
          <p:nvPr/>
        </p:nvGrpSpPr>
        <p:grpSpPr>
          <a:xfrm>
            <a:off x="214200" y="6286680"/>
            <a:ext cx="7715520" cy="457200"/>
            <a:chOff x="214200" y="6286680"/>
            <a:chExt cx="7715520" cy="457200"/>
          </a:xfrm>
        </p:grpSpPr>
        <p:sp>
          <p:nvSpPr>
            <p:cNvPr id="133" name="Rectangle 28"/>
            <p:cNvSpPr/>
            <p:nvPr/>
          </p:nvSpPr>
          <p:spPr>
            <a:xfrm>
              <a:off x="214200" y="6286680"/>
              <a:ext cx="771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Tahoma"/>
                </a:rPr>
                <a:t>Изготовление сувенирной продукции из древесины на уроках технологии в 5-6 кл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05640" y="6357960"/>
              <a:ext cx="3692880" cy="71280"/>
            </a:xfrm>
            <a:prstGeom prst="rect">
              <a:avLst/>
            </a:prstGeom>
            <a:solidFill>
              <a:srgbClr val="77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5" descr="D:\для курсов 2010\Фотографии для слайдов\P1100828.JPG"/>
          <p:cNvPicPr/>
          <p:nvPr/>
        </p:nvPicPr>
        <p:blipFill>
          <a:blip r:embed="rId1"/>
          <a:srcRect l="0" t="0" r="15623" b="0"/>
          <a:stretch/>
        </p:blipFill>
        <p:spPr>
          <a:xfrm>
            <a:off x="6786720" y="4572000"/>
            <a:ext cx="2089080" cy="1857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D:\для курсов 2010\Фотографии для слайдов\P1100850.JPG"/>
          <p:cNvPicPr/>
          <p:nvPr/>
        </p:nvPicPr>
        <p:blipFill>
          <a:blip r:embed="rId2"/>
          <a:stretch/>
        </p:blipFill>
        <p:spPr>
          <a:xfrm>
            <a:off x="4929120" y="4429080"/>
            <a:ext cx="229860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D:\для курсов 2010\Фотографии для слайдов\P1100833.JPG"/>
          <p:cNvPicPr/>
          <p:nvPr/>
        </p:nvPicPr>
        <p:blipFill>
          <a:blip r:embed="rId3"/>
          <a:stretch/>
        </p:blipFill>
        <p:spPr>
          <a:xfrm>
            <a:off x="2357280" y="4286160"/>
            <a:ext cx="2762280" cy="2071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85560" y="928800"/>
            <a:ext cx="67863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Технология изготовления декоративных сувениров…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9" name="Picture 11" descr="D:\для курсов 2010\Фотографии для слайдов\P1100834.JPG"/>
          <p:cNvPicPr/>
          <p:nvPr/>
        </p:nvPicPr>
        <p:blipFill>
          <a:blip r:embed="rId4"/>
          <a:stretch/>
        </p:blipFill>
        <p:spPr>
          <a:xfrm>
            <a:off x="714240" y="228744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D:\для курсов 2010\Фотографии для слайдов\P1100832.JPG"/>
          <p:cNvPicPr/>
          <p:nvPr/>
        </p:nvPicPr>
        <p:blipFill>
          <a:blip r:embed="rId5"/>
          <a:stretch/>
        </p:blipFill>
        <p:spPr>
          <a:xfrm>
            <a:off x="3500280" y="2482920"/>
            <a:ext cx="2500560" cy="1874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D:\для курсов 2010\Фотографии для слайдов\P1100831.JPG"/>
          <p:cNvPicPr/>
          <p:nvPr/>
        </p:nvPicPr>
        <p:blipFill>
          <a:blip r:embed="rId6"/>
          <a:stretch/>
        </p:blipFill>
        <p:spPr>
          <a:xfrm>
            <a:off x="5715000" y="221472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D:\для курсов 2010\Фотографии для слайдов\P1100841.JPG"/>
          <p:cNvPicPr/>
          <p:nvPr/>
        </p:nvPicPr>
        <p:blipFill>
          <a:blip r:embed="rId7"/>
          <a:stretch/>
        </p:blipFill>
        <p:spPr>
          <a:xfrm>
            <a:off x="500040" y="45007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8"/>
          <p:cNvSpPr/>
          <p:nvPr/>
        </p:nvSpPr>
        <p:spPr>
          <a:xfrm>
            <a:off x="214200" y="6286680"/>
            <a:ext cx="864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Изготовление сувенирной продукции из древесины на уроках технологии в 5-6 к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Кактусссс.wmv" descr=""/>
          <p:cNvPicPr/>
          <p:nvPr/>
        </p:nvPicPr>
        <p:blipFill>
          <a:blip r:embed="rId1"/>
          <a:stretch/>
        </p:blipFill>
        <p:spPr>
          <a:xfrm>
            <a:off x="928800" y="857160"/>
            <a:ext cx="7243560" cy="543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1-19T04:58:14Z</dcterms:modified>
  <cp:revision>78</cp:revision>
  <dc:subject/>
  <dc:title>PowerPoint Presentation</dc:title>
</cp:coreProperties>
</file>