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F2F-FA7D-4EA4-A92D-17BD0543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ED1-E5A6-4805-B988-1728F82A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1B8-8418-4A01-A335-30C32D09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6EE-9B82-4A6B-A0E5-800F089E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AEE3-1C8E-44EB-A448-68812E33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F86E-BA54-467A-8697-38F79826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503C-E49F-4147-BAE8-9C2B9800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DA18-84C7-4487-9C80-81BB7FEA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8E2-2BB0-4949-AD1C-BFC86C84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149C-3D60-45D2-BE24-FABCFF77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066B-1E23-43A2-A548-BC92FD6B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1FF-6B32-42D9-8A36-0ADFECD7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CEE6-30A5-4B75-A0B3-494EA3DF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EDFD-4F84-40D9-92FD-1FB373EE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EA97-2A70-41A3-B61D-7A5A97A9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F507-0E56-4F16-B168-85B6AF5E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E940-EFEE-46B7-841C-339D77DC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353-1317-425A-8E79-E1AF68F8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D02-0684-4211-96C9-24BA2799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10B-D506-4B2D-9DF1-3BA6CEFA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E8B-B00C-4A76-910D-2FC00030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18B-5318-4FBF-901D-6C266EB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85C-A471-4C37-992C-F0723EF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16A-38FC-4855-89EE-412907D1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28D1-9889-4796-AA24-925256C5B2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3E17-5D93-4B3C-90E9-227173CFFA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алендарь правовых дат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1 век – Век ребен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01-2010 гг. – Международное десятилетие мира и ненасилия в интересах детей планет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июня – Международный день защиты дет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июня – Международный день детей – жертв агресс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ноября – Всемирный день прав ребен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 декабря - День прав челове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 декабря _ День Конституции Российской Федерац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 – ребенок, я – человек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47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Дети – объект правовой защиты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олее 200 миллионов детей брошены своими семьями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коло 100 миллионов существуют за счет мелкого воровства, проституции или нищенства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40 миллионов детей в возрасте от 6 до 11 лет лишены возможности посещать школу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Ежегодно 5 миллионов детей умирают от заболеваний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«Детство есть та великая пора жизни, когда кладется основание всему будущему нравственному человеку»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35280" y="2997360"/>
            <a:ext cx="51130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«Лучший способ сделать детей хорошими – это сделать их счастливыми» (Оскар Уайльд)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048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7:06:58Z</dcterms:created>
  <dc:creator>SamLab.ws</dc:creator>
  <dc:description/>
  <dc:language>en-US</dc:language>
  <cp:lastModifiedBy>Admin</cp:lastModifiedBy>
  <dcterms:modified xsi:type="dcterms:W3CDTF">2010-05-13T18:09:19Z</dcterms:modified>
  <cp:revision>3</cp:revision>
  <dc:subject/>
  <dc:title>Календарь правовых дат:</dc:title>
</cp:coreProperties>
</file>