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0.wmf" ContentType="image/x-wmf"/>
  <Override PartName="/ppt/media/image4.jpeg" ContentType="image/jpeg"/>
  <Override PartName="/ppt/media/image22.gif" ContentType="image/gif"/>
  <Override PartName="/ppt/media/image8.png" ContentType="image/png"/>
  <Override PartName="/ppt/media/image7.wmf" ContentType="image/x-wmf"/>
  <Override PartName="/ppt/media/image20.jpeg" ContentType="image/jpeg"/>
  <Override PartName="/ppt/media/image18.gif" ContentType="image/gif"/>
  <Override PartName="/ppt/media/image21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5.gif" ContentType="image/gif"/>
  <Override PartName="/ppt/media/image14.gif" ContentType="image/gif"/>
  <Override PartName="/ppt/media/image1.jpeg" ContentType="image/jpeg"/>
  <Override PartName="/ppt/media/image6.wmf" ContentType="image/x-wmf"/>
  <Override PartName="/ppt/media/image19.jpeg" ContentType="image/jpeg"/>
  <Override PartName="/ppt/media/image13.gif" ContentType="image/gif"/>
  <Override PartName="/ppt/media/image5.jpeg" ContentType="image/jpeg"/>
  <Override PartName="/ppt/media/image9.wmf" ContentType="image/x-wmf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EF3F-E6A2-4794-AB3D-9DE14C8DC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9CFB-99CF-43BE-A2AF-5C16AB68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1082-0903-4D22-9B02-5091335B9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99EC-84EB-41B1-874F-C6E57B8DA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7F22-42FA-4BB3-BB6D-31E86A3C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97B5-C07D-492B-9C36-13485238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BD7A-85F4-45F4-8F17-13200B16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E3B3-B943-4B2D-9A5B-E666D74D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BBFF-1BFE-4438-9F50-A26CD259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B219-4729-465E-8DD2-E9C075C2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97EE-1ADA-41DB-8531-FFC1C800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7334-1ECE-4998-ADF6-F68E5C13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6B11-3AD4-441D-9FCC-0A7286FC98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6.gif"/><Relationship Id="rId7" Type="http://schemas.openxmlformats.org/officeDocument/2006/relationships/image" Target="../media/image17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364375706"/>
          <p:cNvPicPr/>
          <p:nvPr/>
        </p:nvPicPr>
        <p:blipFill>
          <a:blip r:embed="rId1"/>
          <a:stretch/>
        </p:blipFill>
        <p:spPr>
          <a:xfrm>
            <a:off x="4788000" y="189000"/>
            <a:ext cx="4105080" cy="2979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WinniethePooh1"/>
          <p:cNvPicPr/>
          <p:nvPr/>
        </p:nvPicPr>
        <p:blipFill>
          <a:blip r:embed="rId2"/>
          <a:stretch/>
        </p:blipFill>
        <p:spPr>
          <a:xfrm>
            <a:off x="250920" y="189000"/>
            <a:ext cx="4105080" cy="2943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153480318"/>
          <p:cNvPicPr/>
          <p:nvPr/>
        </p:nvPicPr>
        <p:blipFill>
          <a:blip r:embed="rId3"/>
          <a:stretch/>
        </p:blipFill>
        <p:spPr>
          <a:xfrm>
            <a:off x="250920" y="3429000"/>
            <a:ext cx="4105080" cy="3122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baza_Malysh&amp;Karlson"/>
          <p:cNvPicPr/>
          <p:nvPr/>
        </p:nvPicPr>
        <p:blipFill>
          <a:blip r:embed="rId4"/>
          <a:stretch/>
        </p:blipFill>
        <p:spPr>
          <a:xfrm>
            <a:off x="4788000" y="3429000"/>
            <a:ext cx="41050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3037488"/>
          <p:cNvPicPr/>
          <p:nvPr/>
        </p:nvPicPr>
        <p:blipFill>
          <a:blip r:embed="rId1"/>
          <a:stretch/>
        </p:blipFill>
        <p:spPr>
          <a:xfrm>
            <a:off x="250920" y="260280"/>
            <a:ext cx="3744720" cy="6257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97289_w464_h260_fc"/>
          <p:cNvPicPr/>
          <p:nvPr/>
        </p:nvPicPr>
        <p:blipFill>
          <a:blip r:embed="rId2"/>
          <a:stretch/>
        </p:blipFill>
        <p:spPr>
          <a:xfrm>
            <a:off x="4500720" y="260280"/>
            <a:ext cx="4419360" cy="2476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125318814280865"/>
          <p:cNvPicPr/>
          <p:nvPr/>
        </p:nvPicPr>
        <p:blipFill>
          <a:blip r:embed="rId3"/>
          <a:stretch/>
        </p:blipFill>
        <p:spPr>
          <a:xfrm>
            <a:off x="4500720" y="3068640"/>
            <a:ext cx="44240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Закончи пословиц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79280" y="1125360"/>
          <a:ext cx="8964720" cy="4618080"/>
        </p:xfrm>
        <a:graphic>
          <a:graphicData uri="http://schemas.openxmlformats.org/drawingml/2006/table">
            <a:tbl>
              <a:tblPr/>
              <a:tblGrid>
                <a:gridCol w="6408720"/>
                <a:gridCol w="2556000"/>
              </a:tblGrid>
              <a:tr h="79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Не имей сто рублей, а имей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берег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Друг познается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не сложиш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Нет друга - ищи, а найдёшь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сто друз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Дружба, как стекло, разобьёшь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без корн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Человек без друзей, что дерево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в бед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Line 23"/>
          <p:cNvSpPr/>
          <p:nvPr/>
        </p:nvSpPr>
        <p:spPr>
          <a:xfrm>
            <a:off x="5651640" y="1484280"/>
            <a:ext cx="1225440" cy="144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4"/>
          <p:cNvSpPr/>
          <p:nvPr/>
        </p:nvSpPr>
        <p:spPr>
          <a:xfrm>
            <a:off x="5724360" y="2276640"/>
            <a:ext cx="1224000" cy="266508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5"/>
          <p:cNvSpPr/>
          <p:nvPr/>
        </p:nvSpPr>
        <p:spPr>
          <a:xfrm flipV="1">
            <a:off x="5796000" y="1628280"/>
            <a:ext cx="1512720" cy="15130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6"/>
          <p:cNvSpPr/>
          <p:nvPr/>
        </p:nvSpPr>
        <p:spPr>
          <a:xfrm flipV="1">
            <a:off x="6227640" y="2565360"/>
            <a:ext cx="1657440" cy="1727280"/>
          </a:xfrm>
          <a:prstGeom prst="line">
            <a:avLst/>
          </a:prstGeom>
          <a:ln w="5724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7"/>
          <p:cNvSpPr/>
          <p:nvPr/>
        </p:nvSpPr>
        <p:spPr>
          <a:xfrm flipV="1">
            <a:off x="6300720" y="4292640"/>
            <a:ext cx="1511280" cy="93672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Законы дружб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48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1.Помогай другу в бе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2.Умей с другом разделить рад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3.Не смейся над недостатками дру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4.Останови друга, если он делает что-то плох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5.Умей принять помощь, со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6.Не обманывай дру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7.Не предавай дру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8.Относись к другу как к се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9.Умей признавать свои ошиб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sh-his"/>
          <p:cNvPicPr/>
          <p:nvPr/>
        </p:nvPicPr>
        <p:blipFill>
          <a:blip r:embed="rId1"/>
          <a:stretch/>
        </p:blipFill>
        <p:spPr>
          <a:xfrm>
            <a:off x="7164360" y="5160960"/>
            <a:ext cx="178920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Дружба — это золотая нить, 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связывающая всех живущих в мире людей.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Джон Ивлин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картина"/>
          <p:cNvPicPr/>
          <p:nvPr/>
        </p:nvPicPr>
        <p:blipFill>
          <a:blip r:embed="rId1"/>
          <a:stretch/>
        </p:blipFill>
        <p:spPr>
          <a:xfrm>
            <a:off x="1928880" y="100080"/>
            <a:ext cx="528624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На что похожа дружб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j0281904"/>
          <p:cNvPicPr/>
          <p:nvPr/>
        </p:nvPicPr>
        <p:blipFill>
          <a:blip r:embed="rId1"/>
          <a:stretch/>
        </p:blipFill>
        <p:spPr>
          <a:xfrm>
            <a:off x="1116000" y="1700280"/>
            <a:ext cx="1825560" cy="1725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j0285926"/>
          <p:cNvPicPr/>
          <p:nvPr/>
        </p:nvPicPr>
        <p:blipFill>
          <a:blip r:embed="rId2"/>
          <a:stretch/>
        </p:blipFill>
        <p:spPr>
          <a:xfrm>
            <a:off x="5867280" y="1557360"/>
            <a:ext cx="1827360" cy="1827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j0432589"/>
          <p:cNvPicPr/>
          <p:nvPr/>
        </p:nvPicPr>
        <p:blipFill>
          <a:blip r:embed="rId3"/>
          <a:stretch/>
        </p:blipFill>
        <p:spPr>
          <a:xfrm>
            <a:off x="3419640" y="3716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j0192427"/>
          <p:cNvPicPr/>
          <p:nvPr/>
        </p:nvPicPr>
        <p:blipFill>
          <a:blip r:embed="rId4"/>
          <a:stretch/>
        </p:blipFill>
        <p:spPr>
          <a:xfrm>
            <a:off x="6443640" y="4005360"/>
            <a:ext cx="1787400" cy="2187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j0407900"/>
          <p:cNvPicPr/>
          <p:nvPr/>
        </p:nvPicPr>
        <p:blipFill>
          <a:blip r:embed="rId5"/>
          <a:stretch/>
        </p:blipFill>
        <p:spPr>
          <a:xfrm>
            <a:off x="393840" y="4035600"/>
            <a:ext cx="177156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Что вы посоветуете человеку, который хочет иметь друзей, но не может их най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Что нужно сделать, чтобы ваш друг детства остался вашим другом на всю жизн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alf6%20(4)"/>
          <p:cNvPicPr/>
          <p:nvPr/>
        </p:nvPicPr>
        <p:blipFill>
          <a:blip r:embed="rId1"/>
          <a:stretch/>
        </p:blipFill>
        <p:spPr>
          <a:xfrm>
            <a:off x="395280" y="4076640"/>
            <a:ext cx="1295280" cy="1440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alf6%20(15)"/>
          <p:cNvPicPr/>
          <p:nvPr/>
        </p:nvPicPr>
        <p:blipFill>
          <a:blip r:embed="rId2"/>
          <a:stretch/>
        </p:blipFill>
        <p:spPr>
          <a:xfrm>
            <a:off x="1619280" y="2565360"/>
            <a:ext cx="1123920" cy="1433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alf6%20(18)"/>
          <p:cNvPicPr/>
          <p:nvPr/>
        </p:nvPicPr>
        <p:blipFill>
          <a:blip r:embed="rId3"/>
          <a:stretch/>
        </p:blipFill>
        <p:spPr>
          <a:xfrm>
            <a:off x="3203640" y="1700280"/>
            <a:ext cx="1100160" cy="1297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alf6%20(6)"/>
          <p:cNvPicPr/>
          <p:nvPr/>
        </p:nvPicPr>
        <p:blipFill>
          <a:blip r:embed="rId4"/>
          <a:stretch/>
        </p:blipFill>
        <p:spPr>
          <a:xfrm>
            <a:off x="4643280" y="1700280"/>
            <a:ext cx="1584360" cy="1307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alf6%20(1)"/>
          <p:cNvPicPr/>
          <p:nvPr/>
        </p:nvPicPr>
        <p:blipFill>
          <a:blip r:embed="rId5"/>
          <a:stretch/>
        </p:blipFill>
        <p:spPr>
          <a:xfrm>
            <a:off x="6732720" y="2637000"/>
            <a:ext cx="1079280" cy="1368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alf6"/>
          <p:cNvPicPr/>
          <p:nvPr/>
        </p:nvPicPr>
        <p:blipFill>
          <a:blip r:embed="rId6"/>
          <a:stretch/>
        </p:blipFill>
        <p:spPr>
          <a:xfrm>
            <a:off x="7667640" y="4365720"/>
            <a:ext cx="1208160" cy="1371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солнышко1"/>
          <p:cNvPicPr/>
          <p:nvPr/>
        </p:nvPicPr>
        <p:blipFill>
          <a:blip r:embed="rId7"/>
          <a:stretch/>
        </p:blipFill>
        <p:spPr>
          <a:xfrm>
            <a:off x="3780000" y="4797360"/>
            <a:ext cx="1942920" cy="1800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ромашка"/>
          <p:cNvPicPr/>
          <p:nvPr/>
        </p:nvPicPr>
        <p:blipFill>
          <a:blip r:embed="rId8"/>
          <a:stretch/>
        </p:blipFill>
        <p:spPr>
          <a:xfrm>
            <a:off x="179280" y="189000"/>
            <a:ext cx="1739880" cy="1317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ромашка"/>
          <p:cNvPicPr/>
          <p:nvPr/>
        </p:nvPicPr>
        <p:blipFill>
          <a:blip r:embed="rId9"/>
          <a:stretch/>
        </p:blipFill>
        <p:spPr>
          <a:xfrm>
            <a:off x="7236000" y="189000"/>
            <a:ext cx="173988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Продолжи фраз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«Хороший друг – это….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755640" y="592200"/>
            <a:ext cx="211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Вер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490200" y="4695840"/>
            <a:ext cx="31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Отзывчив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6587640" y="2708280"/>
            <a:ext cx="228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Чес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756000" y="5445000"/>
            <a:ext cx="221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Внимани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3562200" y="1413000"/>
            <a:ext cx="328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Откров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493080" y="2924280"/>
            <a:ext cx="271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Равнодуш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6659280" y="5361120"/>
            <a:ext cx="16423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Эго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249480" y="3543480"/>
            <a:ext cx="277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Хвастов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6444360" y="333360"/>
            <a:ext cx="2199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Жад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971280" y="1844640"/>
            <a:ext cx="18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Зави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омаш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ромашка"/>
          <p:cNvPicPr/>
          <p:nvPr/>
        </p:nvPicPr>
        <p:blipFill>
          <a:blip r:embed="rId1"/>
          <a:stretch/>
        </p:blipFill>
        <p:spPr>
          <a:xfrm>
            <a:off x="468360" y="907920"/>
            <a:ext cx="876240" cy="885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ромашка"/>
          <p:cNvPicPr/>
          <p:nvPr/>
        </p:nvPicPr>
        <p:blipFill>
          <a:blip r:embed="rId2"/>
          <a:stretch/>
        </p:blipFill>
        <p:spPr>
          <a:xfrm>
            <a:off x="7956720" y="1268280"/>
            <a:ext cx="876240" cy="885960"/>
          </a:xfrm>
          <a:prstGeom prst="rect">
            <a:avLst/>
          </a:prstGeom>
          <a:ln w="0">
            <a:noFill/>
          </a:ln>
        </p:spPr>
      </p:pic>
      <p:sp>
        <p:nvSpPr>
          <p:cNvPr id="78" name="Freeform 10"/>
          <p:cNvSpPr/>
          <p:nvPr/>
        </p:nvSpPr>
        <p:spPr>
          <a:xfrm rot="17849400">
            <a:off x="2050200" y="1989360"/>
            <a:ext cx="1460520" cy="2170080"/>
          </a:xfrm>
          <a:custGeom>
            <a:avLst/>
            <a:gdLst/>
            <a:ahLst/>
            <a:rect l="l" t="t" r="r" b="b"/>
            <a:pathLst>
              <a:path w="920" h="1367">
                <a:moveTo>
                  <a:pt x="195" y="1111"/>
                </a:moveTo>
                <a:cubicBezTo>
                  <a:pt x="176" y="1036"/>
                  <a:pt x="150" y="960"/>
                  <a:pt x="119" y="889"/>
                </a:cubicBezTo>
                <a:cubicBezTo>
                  <a:pt x="100" y="846"/>
                  <a:pt x="77" y="803"/>
                  <a:pt x="63" y="757"/>
                </a:cubicBezTo>
                <a:cubicBezTo>
                  <a:pt x="40" y="680"/>
                  <a:pt x="26" y="604"/>
                  <a:pt x="1" y="528"/>
                </a:cubicBezTo>
                <a:cubicBezTo>
                  <a:pt x="3" y="500"/>
                  <a:pt x="0" y="471"/>
                  <a:pt x="8" y="444"/>
                </a:cubicBezTo>
                <a:cubicBezTo>
                  <a:pt x="12" y="428"/>
                  <a:pt x="36" y="403"/>
                  <a:pt x="36" y="403"/>
                </a:cubicBezTo>
                <a:cubicBezTo>
                  <a:pt x="52" y="348"/>
                  <a:pt x="68" y="266"/>
                  <a:pt x="105" y="222"/>
                </a:cubicBezTo>
                <a:cubicBezTo>
                  <a:pt x="129" y="194"/>
                  <a:pt x="175" y="167"/>
                  <a:pt x="202" y="146"/>
                </a:cubicBezTo>
                <a:cubicBezTo>
                  <a:pt x="235" y="121"/>
                  <a:pt x="219" y="129"/>
                  <a:pt x="251" y="118"/>
                </a:cubicBezTo>
                <a:cubicBezTo>
                  <a:pt x="275" y="99"/>
                  <a:pt x="305" y="90"/>
                  <a:pt x="327" y="70"/>
                </a:cubicBezTo>
                <a:cubicBezTo>
                  <a:pt x="373" y="29"/>
                  <a:pt x="389" y="13"/>
                  <a:pt x="452" y="0"/>
                </a:cubicBezTo>
                <a:cubicBezTo>
                  <a:pt x="545" y="5"/>
                  <a:pt x="634" y="12"/>
                  <a:pt x="723" y="42"/>
                </a:cubicBezTo>
                <a:cubicBezTo>
                  <a:pt x="730" y="47"/>
                  <a:pt x="736" y="53"/>
                  <a:pt x="743" y="56"/>
                </a:cubicBezTo>
                <a:cubicBezTo>
                  <a:pt x="756" y="62"/>
                  <a:pt x="785" y="70"/>
                  <a:pt x="785" y="70"/>
                </a:cubicBezTo>
                <a:cubicBezTo>
                  <a:pt x="787" y="77"/>
                  <a:pt x="787" y="86"/>
                  <a:pt x="792" y="91"/>
                </a:cubicBezTo>
                <a:cubicBezTo>
                  <a:pt x="797" y="96"/>
                  <a:pt x="807" y="94"/>
                  <a:pt x="813" y="98"/>
                </a:cubicBezTo>
                <a:cubicBezTo>
                  <a:pt x="867" y="133"/>
                  <a:pt x="805" y="108"/>
                  <a:pt x="854" y="125"/>
                </a:cubicBezTo>
                <a:cubicBezTo>
                  <a:pt x="883" y="154"/>
                  <a:pt x="889" y="169"/>
                  <a:pt x="903" y="209"/>
                </a:cubicBezTo>
                <a:cubicBezTo>
                  <a:pt x="908" y="223"/>
                  <a:pt x="917" y="250"/>
                  <a:pt x="917" y="250"/>
                </a:cubicBezTo>
                <a:cubicBezTo>
                  <a:pt x="915" y="326"/>
                  <a:pt x="920" y="403"/>
                  <a:pt x="910" y="479"/>
                </a:cubicBezTo>
                <a:cubicBezTo>
                  <a:pt x="908" y="496"/>
                  <a:pt x="891" y="507"/>
                  <a:pt x="882" y="521"/>
                </a:cubicBezTo>
                <a:cubicBezTo>
                  <a:pt x="878" y="527"/>
                  <a:pt x="869" y="565"/>
                  <a:pt x="868" y="569"/>
                </a:cubicBezTo>
                <a:cubicBezTo>
                  <a:pt x="855" y="611"/>
                  <a:pt x="840" y="648"/>
                  <a:pt x="820" y="687"/>
                </a:cubicBezTo>
                <a:cubicBezTo>
                  <a:pt x="802" y="757"/>
                  <a:pt x="829" y="685"/>
                  <a:pt x="792" y="722"/>
                </a:cubicBezTo>
                <a:cubicBezTo>
                  <a:pt x="780" y="734"/>
                  <a:pt x="776" y="752"/>
                  <a:pt x="764" y="764"/>
                </a:cubicBezTo>
                <a:cubicBezTo>
                  <a:pt x="746" y="782"/>
                  <a:pt x="724" y="805"/>
                  <a:pt x="709" y="826"/>
                </a:cubicBezTo>
                <a:cubicBezTo>
                  <a:pt x="675" y="874"/>
                  <a:pt x="714" y="835"/>
                  <a:pt x="681" y="875"/>
                </a:cubicBezTo>
                <a:cubicBezTo>
                  <a:pt x="641" y="923"/>
                  <a:pt x="600" y="975"/>
                  <a:pt x="563" y="1027"/>
                </a:cubicBezTo>
                <a:cubicBezTo>
                  <a:pt x="546" y="1050"/>
                  <a:pt x="542" y="1069"/>
                  <a:pt x="521" y="1090"/>
                </a:cubicBezTo>
                <a:cubicBezTo>
                  <a:pt x="509" y="1127"/>
                  <a:pt x="480" y="1148"/>
                  <a:pt x="459" y="1180"/>
                </a:cubicBezTo>
                <a:cubicBezTo>
                  <a:pt x="447" y="1199"/>
                  <a:pt x="436" y="1217"/>
                  <a:pt x="424" y="1236"/>
                </a:cubicBezTo>
                <a:cubicBezTo>
                  <a:pt x="420" y="1243"/>
                  <a:pt x="410" y="1256"/>
                  <a:pt x="410" y="1256"/>
                </a:cubicBezTo>
                <a:cubicBezTo>
                  <a:pt x="403" y="1284"/>
                  <a:pt x="394" y="1301"/>
                  <a:pt x="383" y="1326"/>
                </a:cubicBezTo>
                <a:cubicBezTo>
                  <a:pt x="377" y="1339"/>
                  <a:pt x="369" y="1367"/>
                  <a:pt x="369" y="1367"/>
                </a:cubicBezTo>
                <a:cubicBezTo>
                  <a:pt x="360" y="1365"/>
                  <a:pt x="348" y="1367"/>
                  <a:pt x="341" y="1361"/>
                </a:cubicBezTo>
                <a:cubicBezTo>
                  <a:pt x="329" y="1351"/>
                  <a:pt x="327" y="1325"/>
                  <a:pt x="320" y="1312"/>
                </a:cubicBezTo>
                <a:cubicBezTo>
                  <a:pt x="315" y="1302"/>
                  <a:pt x="290" y="1269"/>
                  <a:pt x="285" y="1263"/>
                </a:cubicBezTo>
                <a:cubicBezTo>
                  <a:pt x="266" y="1207"/>
                  <a:pt x="278" y="1233"/>
                  <a:pt x="244" y="1180"/>
                </a:cubicBezTo>
                <a:cubicBezTo>
                  <a:pt x="239" y="1173"/>
                  <a:pt x="230" y="1159"/>
                  <a:pt x="230" y="1159"/>
                </a:cubicBezTo>
                <a:cubicBezTo>
                  <a:pt x="224" y="1136"/>
                  <a:pt x="223" y="1111"/>
                  <a:pt x="195" y="1111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11"/>
          <p:cNvSpPr/>
          <p:nvPr/>
        </p:nvSpPr>
        <p:spPr>
          <a:xfrm rot="549000">
            <a:off x="3276360" y="1557360"/>
            <a:ext cx="1460520" cy="2170080"/>
          </a:xfrm>
          <a:custGeom>
            <a:avLst/>
            <a:gdLst/>
            <a:ahLst/>
            <a:rect l="l" t="t" r="r" b="b"/>
            <a:pathLst>
              <a:path w="920" h="1367">
                <a:moveTo>
                  <a:pt x="195" y="1111"/>
                </a:moveTo>
                <a:cubicBezTo>
                  <a:pt x="176" y="1036"/>
                  <a:pt x="150" y="960"/>
                  <a:pt x="119" y="889"/>
                </a:cubicBezTo>
                <a:cubicBezTo>
                  <a:pt x="100" y="846"/>
                  <a:pt x="77" y="803"/>
                  <a:pt x="63" y="757"/>
                </a:cubicBezTo>
                <a:cubicBezTo>
                  <a:pt x="40" y="680"/>
                  <a:pt x="26" y="604"/>
                  <a:pt x="1" y="528"/>
                </a:cubicBezTo>
                <a:cubicBezTo>
                  <a:pt x="3" y="500"/>
                  <a:pt x="0" y="471"/>
                  <a:pt x="8" y="444"/>
                </a:cubicBezTo>
                <a:cubicBezTo>
                  <a:pt x="12" y="428"/>
                  <a:pt x="36" y="403"/>
                  <a:pt x="36" y="403"/>
                </a:cubicBezTo>
                <a:cubicBezTo>
                  <a:pt x="52" y="348"/>
                  <a:pt x="68" y="266"/>
                  <a:pt x="105" y="222"/>
                </a:cubicBezTo>
                <a:cubicBezTo>
                  <a:pt x="129" y="194"/>
                  <a:pt x="175" y="167"/>
                  <a:pt x="202" y="146"/>
                </a:cubicBezTo>
                <a:cubicBezTo>
                  <a:pt x="235" y="121"/>
                  <a:pt x="219" y="129"/>
                  <a:pt x="251" y="118"/>
                </a:cubicBezTo>
                <a:cubicBezTo>
                  <a:pt x="275" y="99"/>
                  <a:pt x="305" y="90"/>
                  <a:pt x="327" y="70"/>
                </a:cubicBezTo>
                <a:cubicBezTo>
                  <a:pt x="373" y="29"/>
                  <a:pt x="389" y="13"/>
                  <a:pt x="452" y="0"/>
                </a:cubicBezTo>
                <a:cubicBezTo>
                  <a:pt x="545" y="5"/>
                  <a:pt x="634" y="12"/>
                  <a:pt x="723" y="42"/>
                </a:cubicBezTo>
                <a:cubicBezTo>
                  <a:pt x="730" y="47"/>
                  <a:pt x="736" y="53"/>
                  <a:pt x="743" y="56"/>
                </a:cubicBezTo>
                <a:cubicBezTo>
                  <a:pt x="756" y="62"/>
                  <a:pt x="785" y="70"/>
                  <a:pt x="785" y="70"/>
                </a:cubicBezTo>
                <a:cubicBezTo>
                  <a:pt x="787" y="77"/>
                  <a:pt x="787" y="86"/>
                  <a:pt x="792" y="91"/>
                </a:cubicBezTo>
                <a:cubicBezTo>
                  <a:pt x="797" y="96"/>
                  <a:pt x="807" y="94"/>
                  <a:pt x="813" y="98"/>
                </a:cubicBezTo>
                <a:cubicBezTo>
                  <a:pt x="867" y="133"/>
                  <a:pt x="805" y="108"/>
                  <a:pt x="854" y="125"/>
                </a:cubicBezTo>
                <a:cubicBezTo>
                  <a:pt x="883" y="154"/>
                  <a:pt x="889" y="169"/>
                  <a:pt x="903" y="209"/>
                </a:cubicBezTo>
                <a:cubicBezTo>
                  <a:pt x="908" y="223"/>
                  <a:pt x="917" y="250"/>
                  <a:pt x="917" y="250"/>
                </a:cubicBezTo>
                <a:cubicBezTo>
                  <a:pt x="915" y="326"/>
                  <a:pt x="920" y="403"/>
                  <a:pt x="910" y="479"/>
                </a:cubicBezTo>
                <a:cubicBezTo>
                  <a:pt x="908" y="496"/>
                  <a:pt x="891" y="507"/>
                  <a:pt x="882" y="521"/>
                </a:cubicBezTo>
                <a:cubicBezTo>
                  <a:pt x="878" y="527"/>
                  <a:pt x="869" y="565"/>
                  <a:pt x="868" y="569"/>
                </a:cubicBezTo>
                <a:cubicBezTo>
                  <a:pt x="855" y="611"/>
                  <a:pt x="840" y="648"/>
                  <a:pt x="820" y="687"/>
                </a:cubicBezTo>
                <a:cubicBezTo>
                  <a:pt x="802" y="757"/>
                  <a:pt x="829" y="685"/>
                  <a:pt x="792" y="722"/>
                </a:cubicBezTo>
                <a:cubicBezTo>
                  <a:pt x="780" y="734"/>
                  <a:pt x="776" y="752"/>
                  <a:pt x="764" y="764"/>
                </a:cubicBezTo>
                <a:cubicBezTo>
                  <a:pt x="746" y="782"/>
                  <a:pt x="724" y="805"/>
                  <a:pt x="709" y="826"/>
                </a:cubicBezTo>
                <a:cubicBezTo>
                  <a:pt x="675" y="874"/>
                  <a:pt x="714" y="835"/>
                  <a:pt x="681" y="875"/>
                </a:cubicBezTo>
                <a:cubicBezTo>
                  <a:pt x="641" y="923"/>
                  <a:pt x="600" y="975"/>
                  <a:pt x="563" y="1027"/>
                </a:cubicBezTo>
                <a:cubicBezTo>
                  <a:pt x="546" y="1050"/>
                  <a:pt x="542" y="1069"/>
                  <a:pt x="521" y="1090"/>
                </a:cubicBezTo>
                <a:cubicBezTo>
                  <a:pt x="509" y="1127"/>
                  <a:pt x="480" y="1148"/>
                  <a:pt x="459" y="1180"/>
                </a:cubicBezTo>
                <a:cubicBezTo>
                  <a:pt x="447" y="1199"/>
                  <a:pt x="436" y="1217"/>
                  <a:pt x="424" y="1236"/>
                </a:cubicBezTo>
                <a:cubicBezTo>
                  <a:pt x="420" y="1243"/>
                  <a:pt x="410" y="1256"/>
                  <a:pt x="410" y="1256"/>
                </a:cubicBezTo>
                <a:cubicBezTo>
                  <a:pt x="403" y="1284"/>
                  <a:pt x="394" y="1301"/>
                  <a:pt x="383" y="1326"/>
                </a:cubicBezTo>
                <a:cubicBezTo>
                  <a:pt x="377" y="1339"/>
                  <a:pt x="369" y="1367"/>
                  <a:pt x="369" y="1367"/>
                </a:cubicBezTo>
                <a:cubicBezTo>
                  <a:pt x="360" y="1365"/>
                  <a:pt x="348" y="1367"/>
                  <a:pt x="341" y="1361"/>
                </a:cubicBezTo>
                <a:cubicBezTo>
                  <a:pt x="329" y="1351"/>
                  <a:pt x="327" y="1325"/>
                  <a:pt x="320" y="1312"/>
                </a:cubicBezTo>
                <a:cubicBezTo>
                  <a:pt x="315" y="1302"/>
                  <a:pt x="290" y="1269"/>
                  <a:pt x="285" y="1263"/>
                </a:cubicBezTo>
                <a:cubicBezTo>
                  <a:pt x="266" y="1207"/>
                  <a:pt x="278" y="1233"/>
                  <a:pt x="244" y="1180"/>
                </a:cubicBezTo>
                <a:cubicBezTo>
                  <a:pt x="239" y="1173"/>
                  <a:pt x="230" y="1159"/>
                  <a:pt x="230" y="1159"/>
                </a:cubicBezTo>
                <a:cubicBezTo>
                  <a:pt x="224" y="1136"/>
                  <a:pt x="223" y="1111"/>
                  <a:pt x="195" y="111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12"/>
          <p:cNvSpPr/>
          <p:nvPr/>
        </p:nvSpPr>
        <p:spPr>
          <a:xfrm rot="4356600">
            <a:off x="4062960" y="2426400"/>
            <a:ext cx="1460520" cy="2170080"/>
          </a:xfrm>
          <a:custGeom>
            <a:avLst/>
            <a:gdLst/>
            <a:ahLst/>
            <a:rect l="l" t="t" r="r" b="b"/>
            <a:pathLst>
              <a:path w="920" h="1367">
                <a:moveTo>
                  <a:pt x="195" y="1111"/>
                </a:moveTo>
                <a:cubicBezTo>
                  <a:pt x="176" y="1036"/>
                  <a:pt x="150" y="960"/>
                  <a:pt x="119" y="889"/>
                </a:cubicBezTo>
                <a:cubicBezTo>
                  <a:pt x="100" y="846"/>
                  <a:pt x="77" y="803"/>
                  <a:pt x="63" y="757"/>
                </a:cubicBezTo>
                <a:cubicBezTo>
                  <a:pt x="40" y="680"/>
                  <a:pt x="26" y="604"/>
                  <a:pt x="1" y="528"/>
                </a:cubicBezTo>
                <a:cubicBezTo>
                  <a:pt x="3" y="500"/>
                  <a:pt x="0" y="471"/>
                  <a:pt x="8" y="444"/>
                </a:cubicBezTo>
                <a:cubicBezTo>
                  <a:pt x="12" y="428"/>
                  <a:pt x="36" y="403"/>
                  <a:pt x="36" y="403"/>
                </a:cubicBezTo>
                <a:cubicBezTo>
                  <a:pt x="52" y="348"/>
                  <a:pt x="68" y="266"/>
                  <a:pt x="105" y="222"/>
                </a:cubicBezTo>
                <a:cubicBezTo>
                  <a:pt x="129" y="194"/>
                  <a:pt x="175" y="167"/>
                  <a:pt x="202" y="146"/>
                </a:cubicBezTo>
                <a:cubicBezTo>
                  <a:pt x="235" y="121"/>
                  <a:pt x="219" y="129"/>
                  <a:pt x="251" y="118"/>
                </a:cubicBezTo>
                <a:cubicBezTo>
                  <a:pt x="275" y="99"/>
                  <a:pt x="305" y="90"/>
                  <a:pt x="327" y="70"/>
                </a:cubicBezTo>
                <a:cubicBezTo>
                  <a:pt x="373" y="29"/>
                  <a:pt x="389" y="13"/>
                  <a:pt x="452" y="0"/>
                </a:cubicBezTo>
                <a:cubicBezTo>
                  <a:pt x="545" y="5"/>
                  <a:pt x="634" y="12"/>
                  <a:pt x="723" y="42"/>
                </a:cubicBezTo>
                <a:cubicBezTo>
                  <a:pt x="730" y="47"/>
                  <a:pt x="736" y="53"/>
                  <a:pt x="743" y="56"/>
                </a:cubicBezTo>
                <a:cubicBezTo>
                  <a:pt x="756" y="62"/>
                  <a:pt x="785" y="70"/>
                  <a:pt x="785" y="70"/>
                </a:cubicBezTo>
                <a:cubicBezTo>
                  <a:pt x="787" y="77"/>
                  <a:pt x="787" y="86"/>
                  <a:pt x="792" y="91"/>
                </a:cubicBezTo>
                <a:cubicBezTo>
                  <a:pt x="797" y="96"/>
                  <a:pt x="807" y="94"/>
                  <a:pt x="813" y="98"/>
                </a:cubicBezTo>
                <a:cubicBezTo>
                  <a:pt x="867" y="133"/>
                  <a:pt x="805" y="108"/>
                  <a:pt x="854" y="125"/>
                </a:cubicBezTo>
                <a:cubicBezTo>
                  <a:pt x="883" y="154"/>
                  <a:pt x="889" y="169"/>
                  <a:pt x="903" y="209"/>
                </a:cubicBezTo>
                <a:cubicBezTo>
                  <a:pt x="908" y="223"/>
                  <a:pt x="917" y="250"/>
                  <a:pt x="917" y="250"/>
                </a:cubicBezTo>
                <a:cubicBezTo>
                  <a:pt x="915" y="326"/>
                  <a:pt x="920" y="403"/>
                  <a:pt x="910" y="479"/>
                </a:cubicBezTo>
                <a:cubicBezTo>
                  <a:pt x="908" y="496"/>
                  <a:pt x="891" y="507"/>
                  <a:pt x="882" y="521"/>
                </a:cubicBezTo>
                <a:cubicBezTo>
                  <a:pt x="878" y="527"/>
                  <a:pt x="869" y="565"/>
                  <a:pt x="868" y="569"/>
                </a:cubicBezTo>
                <a:cubicBezTo>
                  <a:pt x="855" y="611"/>
                  <a:pt x="840" y="648"/>
                  <a:pt x="820" y="687"/>
                </a:cubicBezTo>
                <a:cubicBezTo>
                  <a:pt x="802" y="757"/>
                  <a:pt x="829" y="685"/>
                  <a:pt x="792" y="722"/>
                </a:cubicBezTo>
                <a:cubicBezTo>
                  <a:pt x="780" y="734"/>
                  <a:pt x="776" y="752"/>
                  <a:pt x="764" y="764"/>
                </a:cubicBezTo>
                <a:cubicBezTo>
                  <a:pt x="746" y="782"/>
                  <a:pt x="724" y="805"/>
                  <a:pt x="709" y="826"/>
                </a:cubicBezTo>
                <a:cubicBezTo>
                  <a:pt x="675" y="874"/>
                  <a:pt x="714" y="835"/>
                  <a:pt x="681" y="875"/>
                </a:cubicBezTo>
                <a:cubicBezTo>
                  <a:pt x="641" y="923"/>
                  <a:pt x="600" y="975"/>
                  <a:pt x="563" y="1027"/>
                </a:cubicBezTo>
                <a:cubicBezTo>
                  <a:pt x="546" y="1050"/>
                  <a:pt x="542" y="1069"/>
                  <a:pt x="521" y="1090"/>
                </a:cubicBezTo>
                <a:cubicBezTo>
                  <a:pt x="509" y="1127"/>
                  <a:pt x="480" y="1148"/>
                  <a:pt x="459" y="1180"/>
                </a:cubicBezTo>
                <a:cubicBezTo>
                  <a:pt x="447" y="1199"/>
                  <a:pt x="436" y="1217"/>
                  <a:pt x="424" y="1236"/>
                </a:cubicBezTo>
                <a:cubicBezTo>
                  <a:pt x="420" y="1243"/>
                  <a:pt x="410" y="1256"/>
                  <a:pt x="410" y="1256"/>
                </a:cubicBezTo>
                <a:cubicBezTo>
                  <a:pt x="403" y="1284"/>
                  <a:pt x="394" y="1301"/>
                  <a:pt x="383" y="1326"/>
                </a:cubicBezTo>
                <a:cubicBezTo>
                  <a:pt x="377" y="1339"/>
                  <a:pt x="369" y="1367"/>
                  <a:pt x="369" y="1367"/>
                </a:cubicBezTo>
                <a:cubicBezTo>
                  <a:pt x="360" y="1365"/>
                  <a:pt x="348" y="1367"/>
                  <a:pt x="341" y="1361"/>
                </a:cubicBezTo>
                <a:cubicBezTo>
                  <a:pt x="329" y="1351"/>
                  <a:pt x="327" y="1325"/>
                  <a:pt x="320" y="1312"/>
                </a:cubicBezTo>
                <a:cubicBezTo>
                  <a:pt x="315" y="1302"/>
                  <a:pt x="290" y="1269"/>
                  <a:pt x="285" y="1263"/>
                </a:cubicBezTo>
                <a:cubicBezTo>
                  <a:pt x="266" y="1207"/>
                  <a:pt x="278" y="1233"/>
                  <a:pt x="244" y="1180"/>
                </a:cubicBezTo>
                <a:cubicBezTo>
                  <a:pt x="239" y="1173"/>
                  <a:pt x="230" y="1159"/>
                  <a:pt x="230" y="1159"/>
                </a:cubicBezTo>
                <a:cubicBezTo>
                  <a:pt x="224" y="1136"/>
                  <a:pt x="223" y="1111"/>
                  <a:pt x="195" y="1111"/>
                </a:cubicBez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3"/>
          <p:cNvSpPr/>
          <p:nvPr/>
        </p:nvSpPr>
        <p:spPr>
          <a:xfrm rot="8514000">
            <a:off x="3492000" y="3644640"/>
            <a:ext cx="1460520" cy="2170080"/>
          </a:xfrm>
          <a:custGeom>
            <a:avLst/>
            <a:gdLst/>
            <a:ahLst/>
            <a:rect l="l" t="t" r="r" b="b"/>
            <a:pathLst>
              <a:path w="920" h="1367">
                <a:moveTo>
                  <a:pt x="195" y="1111"/>
                </a:moveTo>
                <a:cubicBezTo>
                  <a:pt x="176" y="1036"/>
                  <a:pt x="150" y="960"/>
                  <a:pt x="119" y="889"/>
                </a:cubicBezTo>
                <a:cubicBezTo>
                  <a:pt x="100" y="846"/>
                  <a:pt x="77" y="803"/>
                  <a:pt x="63" y="757"/>
                </a:cubicBezTo>
                <a:cubicBezTo>
                  <a:pt x="40" y="680"/>
                  <a:pt x="26" y="604"/>
                  <a:pt x="1" y="528"/>
                </a:cubicBezTo>
                <a:cubicBezTo>
                  <a:pt x="3" y="500"/>
                  <a:pt x="0" y="471"/>
                  <a:pt x="8" y="444"/>
                </a:cubicBezTo>
                <a:cubicBezTo>
                  <a:pt x="12" y="428"/>
                  <a:pt x="36" y="403"/>
                  <a:pt x="36" y="403"/>
                </a:cubicBezTo>
                <a:cubicBezTo>
                  <a:pt x="52" y="348"/>
                  <a:pt x="68" y="266"/>
                  <a:pt x="105" y="222"/>
                </a:cubicBezTo>
                <a:cubicBezTo>
                  <a:pt x="129" y="194"/>
                  <a:pt x="175" y="167"/>
                  <a:pt x="202" y="146"/>
                </a:cubicBezTo>
                <a:cubicBezTo>
                  <a:pt x="235" y="121"/>
                  <a:pt x="219" y="129"/>
                  <a:pt x="251" y="118"/>
                </a:cubicBezTo>
                <a:cubicBezTo>
                  <a:pt x="275" y="99"/>
                  <a:pt x="305" y="90"/>
                  <a:pt x="327" y="70"/>
                </a:cubicBezTo>
                <a:cubicBezTo>
                  <a:pt x="373" y="29"/>
                  <a:pt x="389" y="13"/>
                  <a:pt x="452" y="0"/>
                </a:cubicBezTo>
                <a:cubicBezTo>
                  <a:pt x="545" y="5"/>
                  <a:pt x="634" y="12"/>
                  <a:pt x="723" y="42"/>
                </a:cubicBezTo>
                <a:cubicBezTo>
                  <a:pt x="730" y="47"/>
                  <a:pt x="736" y="53"/>
                  <a:pt x="743" y="56"/>
                </a:cubicBezTo>
                <a:cubicBezTo>
                  <a:pt x="756" y="62"/>
                  <a:pt x="785" y="70"/>
                  <a:pt x="785" y="70"/>
                </a:cubicBezTo>
                <a:cubicBezTo>
                  <a:pt x="787" y="77"/>
                  <a:pt x="787" y="86"/>
                  <a:pt x="792" y="91"/>
                </a:cubicBezTo>
                <a:cubicBezTo>
                  <a:pt x="797" y="96"/>
                  <a:pt x="807" y="94"/>
                  <a:pt x="813" y="98"/>
                </a:cubicBezTo>
                <a:cubicBezTo>
                  <a:pt x="867" y="133"/>
                  <a:pt x="805" y="108"/>
                  <a:pt x="854" y="125"/>
                </a:cubicBezTo>
                <a:cubicBezTo>
                  <a:pt x="883" y="154"/>
                  <a:pt x="889" y="169"/>
                  <a:pt x="903" y="209"/>
                </a:cubicBezTo>
                <a:cubicBezTo>
                  <a:pt x="908" y="223"/>
                  <a:pt x="917" y="250"/>
                  <a:pt x="917" y="250"/>
                </a:cubicBezTo>
                <a:cubicBezTo>
                  <a:pt x="915" y="326"/>
                  <a:pt x="920" y="403"/>
                  <a:pt x="910" y="479"/>
                </a:cubicBezTo>
                <a:cubicBezTo>
                  <a:pt x="908" y="496"/>
                  <a:pt x="891" y="507"/>
                  <a:pt x="882" y="521"/>
                </a:cubicBezTo>
                <a:cubicBezTo>
                  <a:pt x="878" y="527"/>
                  <a:pt x="869" y="565"/>
                  <a:pt x="868" y="569"/>
                </a:cubicBezTo>
                <a:cubicBezTo>
                  <a:pt x="855" y="611"/>
                  <a:pt x="840" y="648"/>
                  <a:pt x="820" y="687"/>
                </a:cubicBezTo>
                <a:cubicBezTo>
                  <a:pt x="802" y="757"/>
                  <a:pt x="829" y="685"/>
                  <a:pt x="792" y="722"/>
                </a:cubicBezTo>
                <a:cubicBezTo>
                  <a:pt x="780" y="734"/>
                  <a:pt x="776" y="752"/>
                  <a:pt x="764" y="764"/>
                </a:cubicBezTo>
                <a:cubicBezTo>
                  <a:pt x="746" y="782"/>
                  <a:pt x="724" y="805"/>
                  <a:pt x="709" y="826"/>
                </a:cubicBezTo>
                <a:cubicBezTo>
                  <a:pt x="675" y="874"/>
                  <a:pt x="714" y="835"/>
                  <a:pt x="681" y="875"/>
                </a:cubicBezTo>
                <a:cubicBezTo>
                  <a:pt x="641" y="923"/>
                  <a:pt x="600" y="975"/>
                  <a:pt x="563" y="1027"/>
                </a:cubicBezTo>
                <a:cubicBezTo>
                  <a:pt x="546" y="1050"/>
                  <a:pt x="542" y="1069"/>
                  <a:pt x="521" y="1090"/>
                </a:cubicBezTo>
                <a:cubicBezTo>
                  <a:pt x="509" y="1127"/>
                  <a:pt x="480" y="1148"/>
                  <a:pt x="459" y="1180"/>
                </a:cubicBezTo>
                <a:cubicBezTo>
                  <a:pt x="447" y="1199"/>
                  <a:pt x="436" y="1217"/>
                  <a:pt x="424" y="1236"/>
                </a:cubicBezTo>
                <a:cubicBezTo>
                  <a:pt x="420" y="1243"/>
                  <a:pt x="410" y="1256"/>
                  <a:pt x="410" y="1256"/>
                </a:cubicBezTo>
                <a:cubicBezTo>
                  <a:pt x="403" y="1284"/>
                  <a:pt x="394" y="1301"/>
                  <a:pt x="383" y="1326"/>
                </a:cubicBezTo>
                <a:cubicBezTo>
                  <a:pt x="377" y="1339"/>
                  <a:pt x="369" y="1367"/>
                  <a:pt x="369" y="1367"/>
                </a:cubicBezTo>
                <a:cubicBezTo>
                  <a:pt x="360" y="1365"/>
                  <a:pt x="348" y="1367"/>
                  <a:pt x="341" y="1361"/>
                </a:cubicBezTo>
                <a:cubicBezTo>
                  <a:pt x="329" y="1351"/>
                  <a:pt x="327" y="1325"/>
                  <a:pt x="320" y="1312"/>
                </a:cubicBezTo>
                <a:cubicBezTo>
                  <a:pt x="315" y="1302"/>
                  <a:pt x="290" y="1269"/>
                  <a:pt x="285" y="1263"/>
                </a:cubicBezTo>
                <a:cubicBezTo>
                  <a:pt x="266" y="1207"/>
                  <a:pt x="278" y="1233"/>
                  <a:pt x="244" y="1180"/>
                </a:cubicBezTo>
                <a:cubicBezTo>
                  <a:pt x="239" y="1173"/>
                  <a:pt x="230" y="1159"/>
                  <a:pt x="230" y="1159"/>
                </a:cubicBezTo>
                <a:cubicBezTo>
                  <a:pt x="224" y="1136"/>
                  <a:pt x="223" y="1111"/>
                  <a:pt x="195" y="111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14"/>
          <p:cNvSpPr/>
          <p:nvPr/>
        </p:nvSpPr>
        <p:spPr>
          <a:xfrm rot="12772200">
            <a:off x="2195280" y="3499560"/>
            <a:ext cx="1460520" cy="2170440"/>
          </a:xfrm>
          <a:custGeom>
            <a:avLst/>
            <a:gdLst/>
            <a:ahLst/>
            <a:rect l="l" t="t" r="r" b="b"/>
            <a:pathLst>
              <a:path w="920" h="1367">
                <a:moveTo>
                  <a:pt x="195" y="1111"/>
                </a:moveTo>
                <a:cubicBezTo>
                  <a:pt x="176" y="1036"/>
                  <a:pt x="150" y="960"/>
                  <a:pt x="119" y="889"/>
                </a:cubicBezTo>
                <a:cubicBezTo>
                  <a:pt x="100" y="846"/>
                  <a:pt x="77" y="803"/>
                  <a:pt x="63" y="757"/>
                </a:cubicBezTo>
                <a:cubicBezTo>
                  <a:pt x="40" y="680"/>
                  <a:pt x="26" y="604"/>
                  <a:pt x="1" y="528"/>
                </a:cubicBezTo>
                <a:cubicBezTo>
                  <a:pt x="3" y="500"/>
                  <a:pt x="0" y="471"/>
                  <a:pt x="8" y="444"/>
                </a:cubicBezTo>
                <a:cubicBezTo>
                  <a:pt x="12" y="428"/>
                  <a:pt x="36" y="403"/>
                  <a:pt x="36" y="403"/>
                </a:cubicBezTo>
                <a:cubicBezTo>
                  <a:pt x="52" y="348"/>
                  <a:pt x="68" y="266"/>
                  <a:pt x="105" y="222"/>
                </a:cubicBezTo>
                <a:cubicBezTo>
                  <a:pt x="129" y="194"/>
                  <a:pt x="175" y="167"/>
                  <a:pt x="202" y="146"/>
                </a:cubicBezTo>
                <a:cubicBezTo>
                  <a:pt x="235" y="121"/>
                  <a:pt x="219" y="129"/>
                  <a:pt x="251" y="118"/>
                </a:cubicBezTo>
                <a:cubicBezTo>
                  <a:pt x="275" y="99"/>
                  <a:pt x="305" y="90"/>
                  <a:pt x="327" y="70"/>
                </a:cubicBezTo>
                <a:cubicBezTo>
                  <a:pt x="373" y="29"/>
                  <a:pt x="389" y="13"/>
                  <a:pt x="452" y="0"/>
                </a:cubicBezTo>
                <a:cubicBezTo>
                  <a:pt x="545" y="5"/>
                  <a:pt x="634" y="12"/>
                  <a:pt x="723" y="42"/>
                </a:cubicBezTo>
                <a:cubicBezTo>
                  <a:pt x="730" y="47"/>
                  <a:pt x="736" y="53"/>
                  <a:pt x="743" y="56"/>
                </a:cubicBezTo>
                <a:cubicBezTo>
                  <a:pt x="756" y="62"/>
                  <a:pt x="785" y="70"/>
                  <a:pt x="785" y="70"/>
                </a:cubicBezTo>
                <a:cubicBezTo>
                  <a:pt x="787" y="77"/>
                  <a:pt x="787" y="86"/>
                  <a:pt x="792" y="91"/>
                </a:cubicBezTo>
                <a:cubicBezTo>
                  <a:pt x="797" y="96"/>
                  <a:pt x="807" y="94"/>
                  <a:pt x="813" y="98"/>
                </a:cubicBezTo>
                <a:cubicBezTo>
                  <a:pt x="867" y="133"/>
                  <a:pt x="805" y="108"/>
                  <a:pt x="854" y="125"/>
                </a:cubicBezTo>
                <a:cubicBezTo>
                  <a:pt x="883" y="154"/>
                  <a:pt x="889" y="169"/>
                  <a:pt x="903" y="209"/>
                </a:cubicBezTo>
                <a:cubicBezTo>
                  <a:pt x="908" y="223"/>
                  <a:pt x="917" y="250"/>
                  <a:pt x="917" y="250"/>
                </a:cubicBezTo>
                <a:cubicBezTo>
                  <a:pt x="915" y="326"/>
                  <a:pt x="920" y="403"/>
                  <a:pt x="910" y="479"/>
                </a:cubicBezTo>
                <a:cubicBezTo>
                  <a:pt x="908" y="496"/>
                  <a:pt x="891" y="507"/>
                  <a:pt x="882" y="521"/>
                </a:cubicBezTo>
                <a:cubicBezTo>
                  <a:pt x="878" y="527"/>
                  <a:pt x="869" y="565"/>
                  <a:pt x="868" y="569"/>
                </a:cubicBezTo>
                <a:cubicBezTo>
                  <a:pt x="855" y="611"/>
                  <a:pt x="840" y="648"/>
                  <a:pt x="820" y="687"/>
                </a:cubicBezTo>
                <a:cubicBezTo>
                  <a:pt x="802" y="757"/>
                  <a:pt x="829" y="685"/>
                  <a:pt x="792" y="722"/>
                </a:cubicBezTo>
                <a:cubicBezTo>
                  <a:pt x="780" y="734"/>
                  <a:pt x="776" y="752"/>
                  <a:pt x="764" y="764"/>
                </a:cubicBezTo>
                <a:cubicBezTo>
                  <a:pt x="746" y="782"/>
                  <a:pt x="724" y="805"/>
                  <a:pt x="709" y="826"/>
                </a:cubicBezTo>
                <a:cubicBezTo>
                  <a:pt x="675" y="874"/>
                  <a:pt x="714" y="835"/>
                  <a:pt x="681" y="875"/>
                </a:cubicBezTo>
                <a:cubicBezTo>
                  <a:pt x="641" y="923"/>
                  <a:pt x="600" y="975"/>
                  <a:pt x="563" y="1027"/>
                </a:cubicBezTo>
                <a:cubicBezTo>
                  <a:pt x="546" y="1050"/>
                  <a:pt x="542" y="1069"/>
                  <a:pt x="521" y="1090"/>
                </a:cubicBezTo>
                <a:cubicBezTo>
                  <a:pt x="509" y="1127"/>
                  <a:pt x="480" y="1148"/>
                  <a:pt x="459" y="1180"/>
                </a:cubicBezTo>
                <a:cubicBezTo>
                  <a:pt x="447" y="1199"/>
                  <a:pt x="436" y="1217"/>
                  <a:pt x="424" y="1236"/>
                </a:cubicBezTo>
                <a:cubicBezTo>
                  <a:pt x="420" y="1243"/>
                  <a:pt x="410" y="1256"/>
                  <a:pt x="410" y="1256"/>
                </a:cubicBezTo>
                <a:cubicBezTo>
                  <a:pt x="403" y="1284"/>
                  <a:pt x="394" y="1301"/>
                  <a:pt x="383" y="1326"/>
                </a:cubicBezTo>
                <a:cubicBezTo>
                  <a:pt x="377" y="1339"/>
                  <a:pt x="369" y="1367"/>
                  <a:pt x="369" y="1367"/>
                </a:cubicBezTo>
                <a:cubicBezTo>
                  <a:pt x="360" y="1365"/>
                  <a:pt x="348" y="1367"/>
                  <a:pt x="341" y="1361"/>
                </a:cubicBezTo>
                <a:cubicBezTo>
                  <a:pt x="329" y="1351"/>
                  <a:pt x="327" y="1325"/>
                  <a:pt x="320" y="1312"/>
                </a:cubicBezTo>
                <a:cubicBezTo>
                  <a:pt x="315" y="1302"/>
                  <a:pt x="290" y="1269"/>
                  <a:pt x="285" y="1263"/>
                </a:cubicBezTo>
                <a:cubicBezTo>
                  <a:pt x="266" y="1207"/>
                  <a:pt x="278" y="1233"/>
                  <a:pt x="244" y="1180"/>
                </a:cubicBezTo>
                <a:cubicBezTo>
                  <a:pt x="239" y="1173"/>
                  <a:pt x="230" y="1159"/>
                  <a:pt x="230" y="1159"/>
                </a:cubicBezTo>
                <a:cubicBezTo>
                  <a:pt x="224" y="1136"/>
                  <a:pt x="223" y="1111"/>
                  <a:pt x="195" y="1111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5"/>
          <p:cNvSpPr/>
          <p:nvPr/>
        </p:nvSpPr>
        <p:spPr>
          <a:xfrm>
            <a:off x="3203640" y="328464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1693440" y="278136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окласс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7"/>
          <p:cNvSpPr/>
          <p:nvPr/>
        </p:nvSpPr>
        <p:spPr>
          <a:xfrm>
            <a:off x="3402000" y="215280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росл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8"/>
          <p:cNvSpPr/>
          <p:nvPr/>
        </p:nvSpPr>
        <p:spPr>
          <a:xfrm>
            <a:off x="4337640" y="316080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от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9"/>
          <p:cNvSpPr/>
          <p:nvPr/>
        </p:nvSpPr>
        <p:spPr>
          <a:xfrm>
            <a:off x="3710160" y="4653000"/>
            <a:ext cx="163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дума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0"/>
          <p:cNvSpPr/>
          <p:nvPr/>
        </p:nvSpPr>
        <p:spPr>
          <a:xfrm>
            <a:off x="2103840" y="452916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ки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ль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3T15:05:57Z</dcterms:created>
  <dc:creator>ЕГОР</dc:creator>
  <dc:description/>
  <dc:language>en-US</dc:language>
  <cp:lastModifiedBy>Галина Петровна</cp:lastModifiedBy>
  <dcterms:modified xsi:type="dcterms:W3CDTF">2012-11-27T06:28:07Z</dcterms:modified>
  <cp:revision>4</cp:revision>
  <dc:subject/>
  <dc:title>Слайд 1</dc:title>
</cp:coreProperties>
</file>