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wmf" ContentType="image/x-wmf"/>
  <Override PartName="/ppt/media/image4.jpeg" ContentType="image/jpeg"/>
  <Override PartName="/ppt/media/image22.gif" ContentType="image/gif"/>
  <Override PartName="/ppt/media/image8.png" ContentType="image/png"/>
  <Override PartName="/ppt/media/image7.wmf" ContentType="image/x-wmf"/>
  <Override PartName="/ppt/media/image20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6.wmf" ContentType="image/x-wmf"/>
  <Override PartName="/ppt/media/image19.jpeg" ContentType="image/jpeg"/>
  <Override PartName="/ppt/media/image13.gif" ContentType="image/gif"/>
  <Override PartName="/ppt/media/image5.jpeg" ContentType="image/jpe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0A5-BAA1-4AF8-BD04-349D7D73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255-1C9E-4236-8D2E-C2C4AD4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340-BFA4-4A4E-94E4-2028FD67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21A-B799-48AD-ABDE-212EC807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E15-5974-4BE8-A50C-176C8AE4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407-3F4B-4EC8-93AF-754EDC3E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418-CA99-444D-9957-4A5D2F5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C07-A3FB-4681-9992-6419FC9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2A2-2530-4208-82FD-44E93F3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6CA-7C0C-44E7-8268-28F2CE9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2E4-83F7-4F14-9AF3-D99982B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F6E-FB65-4E4A-897C-2F2E8D7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97F-1639-4110-B464-4237E06E3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64375706"/>
          <p:cNvPicPr/>
          <p:nvPr/>
        </p:nvPicPr>
        <p:blipFill>
          <a:blip r:embed="rId1"/>
          <a:stretch/>
        </p:blipFill>
        <p:spPr>
          <a:xfrm>
            <a:off x="4788000" y="189000"/>
            <a:ext cx="4105080" cy="297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inniethePooh1"/>
          <p:cNvPicPr/>
          <p:nvPr/>
        </p:nvPicPr>
        <p:blipFill>
          <a:blip r:embed="rId2"/>
          <a:stretch/>
        </p:blipFill>
        <p:spPr>
          <a:xfrm>
            <a:off x="250920" y="189000"/>
            <a:ext cx="4105080" cy="29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53480318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aza_Malysh&amp;Karlson"/>
          <p:cNvPicPr/>
          <p:nvPr/>
        </p:nvPicPr>
        <p:blipFill>
          <a:blip r:embed="rId4"/>
          <a:stretch/>
        </p:blipFill>
        <p:spPr>
          <a:xfrm>
            <a:off x="4788000" y="3429000"/>
            <a:ext cx="410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037488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625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97289_w464_h260_fc"/>
          <p:cNvPicPr/>
          <p:nvPr/>
        </p:nvPicPr>
        <p:blipFill>
          <a:blip r:embed="rId2"/>
          <a:stretch/>
        </p:blipFill>
        <p:spPr>
          <a:xfrm>
            <a:off x="4500720" y="260280"/>
            <a:ext cx="441936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25318814280865"/>
          <p:cNvPicPr/>
          <p:nvPr/>
        </p:nvPicPr>
        <p:blipFill>
          <a:blip r:embed="rId3"/>
          <a:stretch/>
        </p:blipFill>
        <p:spPr>
          <a:xfrm>
            <a:off x="4500720" y="3068640"/>
            <a:ext cx="4424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кончи послов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125360"/>
          <a:ext cx="8964720" cy="4618080"/>
        </p:xfrm>
        <a:graphic>
          <a:graphicData uri="http://schemas.openxmlformats.org/drawingml/2006/table">
            <a:tbl>
              <a:tblPr/>
              <a:tblGrid>
                <a:gridCol w="6408720"/>
                <a:gridCol w="255600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 имей сто рублей, а имей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ере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руг познаетс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 слож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ет друга - ищи, а найдёш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то друз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ружба, как стекло, разобьёш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ез кор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еловек без друзей, что дерев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 бе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23"/>
          <p:cNvSpPr/>
          <p:nvPr/>
        </p:nvSpPr>
        <p:spPr>
          <a:xfrm>
            <a:off x="5651640" y="1484280"/>
            <a:ext cx="1225440" cy="144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5724360" y="2276640"/>
            <a:ext cx="1224000" cy="266508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V="1">
            <a:off x="5796000" y="1628280"/>
            <a:ext cx="1512720" cy="1513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 flipV="1">
            <a:off x="6227640" y="2565360"/>
            <a:ext cx="1657440" cy="1727280"/>
          </a:xfrm>
          <a:prstGeom prst="line">
            <a:avLst/>
          </a:prstGeom>
          <a:ln w="572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 flipV="1">
            <a:off x="6300720" y="4292640"/>
            <a:ext cx="1511280" cy="9367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коны друж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Помогай другу в б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Умей с другом разделить 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Не смейся над недостатками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Останови друга, если он делает что-то 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Умей принять помощь,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.Не обманывай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.Не предавай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8.Относись к другу как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.Умей признавать сво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h-his"/>
          <p:cNvPicPr/>
          <p:nvPr/>
        </p:nvPicPr>
        <p:blipFill>
          <a:blip r:embed="rId1"/>
          <a:stretch/>
        </p:blipFill>
        <p:spPr>
          <a:xfrm>
            <a:off x="7164360" y="5160960"/>
            <a:ext cx="17892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ружба — это золотая нить,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язывающая всех живущих в мире людей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жон Ивли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а"/>
          <p:cNvPicPr/>
          <p:nvPr/>
        </p:nvPicPr>
        <p:blipFill>
          <a:blip r:embed="rId1"/>
          <a:stretch/>
        </p:blipFill>
        <p:spPr>
          <a:xfrm>
            <a:off x="1928880" y="100080"/>
            <a:ext cx="5286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 что похожа дружб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281904"/>
          <p:cNvPicPr/>
          <p:nvPr/>
        </p:nvPicPr>
        <p:blipFill>
          <a:blip r:embed="rId1"/>
          <a:stretch/>
        </p:blipFill>
        <p:spPr>
          <a:xfrm>
            <a:off x="1116000" y="170028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j0285926"/>
          <p:cNvPicPr/>
          <p:nvPr/>
        </p:nvPicPr>
        <p:blipFill>
          <a:blip r:embed="rId2"/>
          <a:stretch/>
        </p:blipFill>
        <p:spPr>
          <a:xfrm>
            <a:off x="5867280" y="155736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432589"/>
          <p:cNvPicPr/>
          <p:nvPr/>
        </p:nvPicPr>
        <p:blipFill>
          <a:blip r:embed="rId3"/>
          <a:stretch/>
        </p:blipFill>
        <p:spPr>
          <a:xfrm>
            <a:off x="3419640" y="37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192427"/>
          <p:cNvPicPr/>
          <p:nvPr/>
        </p:nvPicPr>
        <p:blipFill>
          <a:blip r:embed="rId4"/>
          <a:stretch/>
        </p:blipFill>
        <p:spPr>
          <a:xfrm>
            <a:off x="6443640" y="4005360"/>
            <a:ext cx="17874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j0407900"/>
          <p:cNvPicPr/>
          <p:nvPr/>
        </p:nvPicPr>
        <p:blipFill>
          <a:blip r:embed="rId5"/>
          <a:stretch/>
        </p:blipFill>
        <p:spPr>
          <a:xfrm>
            <a:off x="393840" y="4035600"/>
            <a:ext cx="17715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вы посоветуете человеку, который хочет иметь друзей, но не может их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нужно сделать, чтобы ваш друг детства остался вашим другом на всю жизн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lf6%20(4)"/>
          <p:cNvPicPr/>
          <p:nvPr/>
        </p:nvPicPr>
        <p:blipFill>
          <a:blip r:embed="rId1"/>
          <a:stretch/>
        </p:blipFill>
        <p:spPr>
          <a:xfrm>
            <a:off x="395280" y="407664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alf6%20(15)"/>
          <p:cNvPicPr/>
          <p:nvPr/>
        </p:nvPicPr>
        <p:blipFill>
          <a:blip r:embed="rId2"/>
          <a:stretch/>
        </p:blipFill>
        <p:spPr>
          <a:xfrm>
            <a:off x="1619280" y="2565360"/>
            <a:ext cx="1123920" cy="14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alf6%20(18)"/>
          <p:cNvPicPr/>
          <p:nvPr/>
        </p:nvPicPr>
        <p:blipFill>
          <a:blip r:embed="rId3"/>
          <a:stretch/>
        </p:blipFill>
        <p:spPr>
          <a:xfrm>
            <a:off x="3203640" y="1700280"/>
            <a:ext cx="110016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lf6%20(6)"/>
          <p:cNvPicPr/>
          <p:nvPr/>
        </p:nvPicPr>
        <p:blipFill>
          <a:blip r:embed="rId4"/>
          <a:stretch/>
        </p:blipFill>
        <p:spPr>
          <a:xfrm>
            <a:off x="4643280" y="1700280"/>
            <a:ext cx="1584360" cy="130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lf6%20(1)"/>
          <p:cNvPicPr/>
          <p:nvPr/>
        </p:nvPicPr>
        <p:blipFill>
          <a:blip r:embed="rId5"/>
          <a:stretch/>
        </p:blipFill>
        <p:spPr>
          <a:xfrm>
            <a:off x="6732720" y="2637000"/>
            <a:ext cx="107928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lf6"/>
          <p:cNvPicPr/>
          <p:nvPr/>
        </p:nvPicPr>
        <p:blipFill>
          <a:blip r:embed="rId6"/>
          <a:stretch/>
        </p:blipFill>
        <p:spPr>
          <a:xfrm>
            <a:off x="7667640" y="4365720"/>
            <a:ext cx="1208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олнышко1"/>
          <p:cNvPicPr/>
          <p:nvPr/>
        </p:nvPicPr>
        <p:blipFill>
          <a:blip r:embed="rId7"/>
          <a:stretch/>
        </p:blipFill>
        <p:spPr>
          <a:xfrm>
            <a:off x="3780000" y="4797360"/>
            <a:ext cx="194292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ромашка"/>
          <p:cNvPicPr/>
          <p:nvPr/>
        </p:nvPicPr>
        <p:blipFill>
          <a:blip r:embed="rId8"/>
          <a:stretch/>
        </p:blipFill>
        <p:spPr>
          <a:xfrm>
            <a:off x="179280" y="189000"/>
            <a:ext cx="1739880" cy="13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ромашка"/>
          <p:cNvPicPr/>
          <p:nvPr/>
        </p:nvPicPr>
        <p:blipFill>
          <a:blip r:embed="rId9"/>
          <a:stretch/>
        </p:blipFill>
        <p:spPr>
          <a:xfrm>
            <a:off x="7236000" y="189000"/>
            <a:ext cx="17398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должи фраз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Хороший друг – это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55640" y="5922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490200" y="469584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Отзыв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587640" y="270828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Ч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6000" y="544500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Вним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562200" y="1413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Откро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3080" y="292428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659280" y="5361120"/>
            <a:ext cx="1642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го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49480" y="3543480"/>
            <a:ext cx="27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Хваст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6444360" y="333360"/>
            <a:ext cx="2199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971280" y="184464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ви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маш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омашка"/>
          <p:cNvPicPr/>
          <p:nvPr/>
        </p:nvPicPr>
        <p:blipFill>
          <a:blip r:embed="rId1"/>
          <a:stretch/>
        </p:blipFill>
        <p:spPr>
          <a:xfrm>
            <a:off x="468360" y="907920"/>
            <a:ext cx="87624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ромашка"/>
          <p:cNvPicPr/>
          <p:nvPr/>
        </p:nvPicPr>
        <p:blipFill>
          <a:blip r:embed="rId2"/>
          <a:stretch/>
        </p:blipFill>
        <p:spPr>
          <a:xfrm>
            <a:off x="7956720" y="126828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0"/>
          <p:cNvSpPr/>
          <p:nvPr/>
        </p:nvSpPr>
        <p:spPr>
          <a:xfrm rot="17849400">
            <a:off x="2050200" y="198936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 rot="549000">
            <a:off x="3276360" y="155736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 rot="4356600">
            <a:off x="4062960" y="242640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 rot="8514000">
            <a:off x="3492000" y="3644640"/>
            <a:ext cx="1460520" cy="217008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 rot="12772200">
            <a:off x="2195280" y="3499560"/>
            <a:ext cx="1460520" cy="2170440"/>
          </a:xfrm>
          <a:custGeom>
            <a:avLst/>
            <a:gdLst/>
            <a:ahLst/>
            <a:rect l="l" t="t" r="r" b="b"/>
            <a:pathLst>
              <a:path w="920" h="1367">
                <a:moveTo>
                  <a:pt x="195" y="1111"/>
                </a:moveTo>
                <a:cubicBezTo>
                  <a:pt x="176" y="1036"/>
                  <a:pt x="150" y="960"/>
                  <a:pt x="119" y="889"/>
                </a:cubicBezTo>
                <a:cubicBezTo>
                  <a:pt x="100" y="846"/>
                  <a:pt x="77" y="803"/>
                  <a:pt x="63" y="757"/>
                </a:cubicBezTo>
                <a:cubicBezTo>
                  <a:pt x="40" y="680"/>
                  <a:pt x="26" y="604"/>
                  <a:pt x="1" y="528"/>
                </a:cubicBezTo>
                <a:cubicBezTo>
                  <a:pt x="3" y="500"/>
                  <a:pt x="0" y="471"/>
                  <a:pt x="8" y="444"/>
                </a:cubicBezTo>
                <a:cubicBezTo>
                  <a:pt x="12" y="428"/>
                  <a:pt x="36" y="403"/>
                  <a:pt x="36" y="403"/>
                </a:cubicBezTo>
                <a:cubicBezTo>
                  <a:pt x="52" y="348"/>
                  <a:pt x="68" y="266"/>
                  <a:pt x="105" y="222"/>
                </a:cubicBezTo>
                <a:cubicBezTo>
                  <a:pt x="129" y="194"/>
                  <a:pt x="175" y="167"/>
                  <a:pt x="202" y="146"/>
                </a:cubicBezTo>
                <a:cubicBezTo>
                  <a:pt x="235" y="121"/>
                  <a:pt x="219" y="129"/>
                  <a:pt x="251" y="118"/>
                </a:cubicBezTo>
                <a:cubicBezTo>
                  <a:pt x="275" y="99"/>
                  <a:pt x="305" y="90"/>
                  <a:pt x="327" y="70"/>
                </a:cubicBezTo>
                <a:cubicBezTo>
                  <a:pt x="373" y="29"/>
                  <a:pt x="389" y="13"/>
                  <a:pt x="452" y="0"/>
                </a:cubicBezTo>
                <a:cubicBezTo>
                  <a:pt x="545" y="5"/>
                  <a:pt x="634" y="12"/>
                  <a:pt x="723" y="42"/>
                </a:cubicBezTo>
                <a:cubicBezTo>
                  <a:pt x="730" y="47"/>
                  <a:pt x="736" y="53"/>
                  <a:pt x="743" y="56"/>
                </a:cubicBezTo>
                <a:cubicBezTo>
                  <a:pt x="756" y="62"/>
                  <a:pt x="785" y="70"/>
                  <a:pt x="785" y="70"/>
                </a:cubicBezTo>
                <a:cubicBezTo>
                  <a:pt x="787" y="77"/>
                  <a:pt x="787" y="86"/>
                  <a:pt x="792" y="91"/>
                </a:cubicBezTo>
                <a:cubicBezTo>
                  <a:pt x="797" y="96"/>
                  <a:pt x="807" y="94"/>
                  <a:pt x="813" y="98"/>
                </a:cubicBezTo>
                <a:cubicBezTo>
                  <a:pt x="867" y="133"/>
                  <a:pt x="805" y="108"/>
                  <a:pt x="854" y="125"/>
                </a:cubicBezTo>
                <a:cubicBezTo>
                  <a:pt x="883" y="154"/>
                  <a:pt x="889" y="169"/>
                  <a:pt x="903" y="209"/>
                </a:cubicBezTo>
                <a:cubicBezTo>
                  <a:pt x="908" y="223"/>
                  <a:pt x="917" y="250"/>
                  <a:pt x="917" y="250"/>
                </a:cubicBezTo>
                <a:cubicBezTo>
                  <a:pt x="915" y="326"/>
                  <a:pt x="920" y="403"/>
                  <a:pt x="910" y="479"/>
                </a:cubicBezTo>
                <a:cubicBezTo>
                  <a:pt x="908" y="496"/>
                  <a:pt x="891" y="507"/>
                  <a:pt x="882" y="521"/>
                </a:cubicBezTo>
                <a:cubicBezTo>
                  <a:pt x="878" y="527"/>
                  <a:pt x="869" y="565"/>
                  <a:pt x="868" y="569"/>
                </a:cubicBezTo>
                <a:cubicBezTo>
                  <a:pt x="855" y="611"/>
                  <a:pt x="840" y="648"/>
                  <a:pt x="820" y="687"/>
                </a:cubicBezTo>
                <a:cubicBezTo>
                  <a:pt x="802" y="757"/>
                  <a:pt x="829" y="685"/>
                  <a:pt x="792" y="722"/>
                </a:cubicBezTo>
                <a:cubicBezTo>
                  <a:pt x="780" y="734"/>
                  <a:pt x="776" y="752"/>
                  <a:pt x="764" y="764"/>
                </a:cubicBezTo>
                <a:cubicBezTo>
                  <a:pt x="746" y="782"/>
                  <a:pt x="724" y="805"/>
                  <a:pt x="709" y="826"/>
                </a:cubicBezTo>
                <a:cubicBezTo>
                  <a:pt x="675" y="874"/>
                  <a:pt x="714" y="835"/>
                  <a:pt x="681" y="875"/>
                </a:cubicBezTo>
                <a:cubicBezTo>
                  <a:pt x="641" y="923"/>
                  <a:pt x="600" y="975"/>
                  <a:pt x="563" y="1027"/>
                </a:cubicBezTo>
                <a:cubicBezTo>
                  <a:pt x="546" y="1050"/>
                  <a:pt x="542" y="1069"/>
                  <a:pt x="521" y="1090"/>
                </a:cubicBezTo>
                <a:cubicBezTo>
                  <a:pt x="509" y="1127"/>
                  <a:pt x="480" y="1148"/>
                  <a:pt x="459" y="1180"/>
                </a:cubicBezTo>
                <a:cubicBezTo>
                  <a:pt x="447" y="1199"/>
                  <a:pt x="436" y="1217"/>
                  <a:pt x="424" y="1236"/>
                </a:cubicBezTo>
                <a:cubicBezTo>
                  <a:pt x="420" y="1243"/>
                  <a:pt x="410" y="1256"/>
                  <a:pt x="410" y="1256"/>
                </a:cubicBezTo>
                <a:cubicBezTo>
                  <a:pt x="403" y="1284"/>
                  <a:pt x="394" y="1301"/>
                  <a:pt x="383" y="1326"/>
                </a:cubicBezTo>
                <a:cubicBezTo>
                  <a:pt x="377" y="1339"/>
                  <a:pt x="369" y="1367"/>
                  <a:pt x="369" y="1367"/>
                </a:cubicBezTo>
                <a:cubicBezTo>
                  <a:pt x="360" y="1365"/>
                  <a:pt x="348" y="1367"/>
                  <a:pt x="341" y="1361"/>
                </a:cubicBezTo>
                <a:cubicBezTo>
                  <a:pt x="329" y="1351"/>
                  <a:pt x="327" y="1325"/>
                  <a:pt x="320" y="1312"/>
                </a:cubicBezTo>
                <a:cubicBezTo>
                  <a:pt x="315" y="1302"/>
                  <a:pt x="290" y="1269"/>
                  <a:pt x="285" y="1263"/>
                </a:cubicBezTo>
                <a:cubicBezTo>
                  <a:pt x="266" y="1207"/>
                  <a:pt x="278" y="1233"/>
                  <a:pt x="244" y="1180"/>
                </a:cubicBezTo>
                <a:cubicBezTo>
                  <a:pt x="239" y="1173"/>
                  <a:pt x="230" y="1159"/>
                  <a:pt x="230" y="1159"/>
                </a:cubicBezTo>
                <a:cubicBezTo>
                  <a:pt x="224" y="1136"/>
                  <a:pt x="223" y="1111"/>
                  <a:pt x="195" y="111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3203640" y="3284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693440" y="27813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класс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402000" y="2152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337640" y="3160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710160" y="4653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2103840" y="45291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и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5:05:57Z</dcterms:created>
  <dc:creator>ЕГОР</dc:creator>
  <dc:description/>
  <dc:language>en-US</dc:language>
  <cp:lastModifiedBy>Галина Петровна</cp:lastModifiedBy>
  <dcterms:modified xsi:type="dcterms:W3CDTF">2012-11-27T06:28:07Z</dcterms:modified>
  <cp:revision>4</cp:revision>
  <dc:subject/>
  <dc:title>Слайд 1</dc:title>
</cp:coreProperties>
</file>