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82E-750A-46DC-B171-1A6C0830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A35-9953-4F01-A649-138830E8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354-2122-4AD6-92EF-F4F4DD3A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0AF-682E-4CBF-99C2-359AD47D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05EE-CFB2-41B3-8F1D-51D11710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586A-36B1-4A44-89B1-715440FF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F9B9-8E30-4318-A2F1-7ABD1F8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D9FD-37F7-4877-A6CA-A5DEA35D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E025-71AE-4F82-99B0-735CC102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3E14-5576-48F6-8631-D0C089D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E96F-B055-463E-B7AD-10B61E3A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44B-1359-4F62-BEB4-B2F17938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753A-1293-4B95-AD9A-4EFEE28A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B023-7C7A-4EB4-8555-41025DD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0F04-A1B8-495D-9ACA-CF08C933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8081-C8F5-4597-836E-A50C8E9D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36A1-EA05-4269-8E75-74E7349C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1DC-3D8A-44A9-96D9-AE18ED25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73C-4A65-4BEC-A669-EE605288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3A1-498D-4BB9-8A2C-6E483021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684-F3D4-4437-995E-4FFCC9F9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1F0-0FEE-4C4C-8C4C-2C53211A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275-74F4-4A4A-8CEB-E7C1F66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3AD-6DFA-443A-B159-DEC192F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12DA-8F43-4404-A6D9-111E3251CA7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6142-B94F-4A84-B165-B22B217F05E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365040" y="706320"/>
            <a:ext cx="8377200" cy="3706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4289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ла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-логопед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ецкая А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ое речевое расстройство, при котором у детей с нормальным слухом и первично сохранным интеллектом отмечаются позднее начало развития речи, скудный словарный запас, аграмматиз, дефекты произношения и фонемообразования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укопроизношение детей не соответствует возрастной норме: они не различают на слух и в произношении близкие звуки, искажают звуковую  и звуконаполняемость сл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язное речевое высказывание детей отличается отсутствием чёткости, последовательности изложения, в нём отражается внешняя сторона явлений и не учитываются их существенные признаки, причинно-следственные отноше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них характерны неустойчивость внимания, снижение вербальной памяти и продуктивности запоминания, отставание в развитие словесно-логического мышл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численные особенности ведут к неумению вовремя вовлечься в учебно-игровую деятельность или переключиться с одного объекта на другой. Они отличаются быстрой утомляемость, отвлекаемостью, повышенной истощаемостью, что ведёт к появлению различного рода ошибок при выполнении зада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ервый уровень речевого развит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характеризуется почти полным отсутствием словесных средств общения или весьма ограниченным их развитием. У детей находящихся на первом уровне речевого развития, активный словарь состоит из небольшого количества нечётко произносимых обиходных слов, звукоподражаний и звуковых комплексов. Дети пользуются жестами и мимикой.  Речь ребёнка понятна лишь в конкретной ситуац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торой уровень речевого разви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етей появляется фразовая речь. Словарь более разнообразный. В спонтанной речи детей отмечаются уже различные лексико-грамматические разряды слов: существительные, глаголы, прилагательные, наречия, местоимения, некоторые предлоги и союзы. Дети могут ответить на вопросы по картинке, связанные с семьёй, знакомыми явлениями окружающего мира, но они не знают многих слов, обозначающих животных и их детёнышей, части тела, одежду, мебель, профессии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рактерным остаётся ярко выраженный агромматизм. Понимание обращённой речи остаётся неполным, так как многие грамматические формы различаются детьми недостаточ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Третий уровень речевого развит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арактеризуется появлением развёрнутой обиходной речи без грубых лексико-грамматических и фонетических отклонений. На этом фоне наблюдается неточное знание и употребление многих слов и недостаточно полная сформированность ряда грамматических форм и категорий языка. В активном словаре преобладают существительные и глаголы, недостаточно слов обозначающих качества, признаки, действия, состояния предметов, страдает словообразование, затруднён подбор однокоренных сл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закрепляет речевые навыки детей, полученные на логопедических занятиях . Воздействие воспитателя должно быть многоаспектным, направленным на речевые и внеречевые процессы, на активизацию познавательной деятельности дошкольника. Особое внимание должно уделяться развитию мышления (процессов анализа, синтеза, обобщения, противопоставления), внимания, памяти, что создаёт необходимые предпосылки для формирования реч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должен помочь ребёнку овладеть всеми видами деятельности, которая предусмотрена программой массового детского са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обое внимание воспитателя должно быть обращено на создание доброжелательной обстановки в детском коллективе, на правильное отношение детей к окружающим, выработку правильного поведения в коллективе, а так же развитие их этических и нравственных представлений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4:48:09Z</dcterms:created>
  <dc:creator>www.PHILka.RU</dc:creator>
  <dc:description/>
  <dc:language>en-US</dc:language>
  <cp:lastModifiedBy> Apple</cp:lastModifiedBy>
  <dcterms:modified xsi:type="dcterms:W3CDTF">2012-11-27T16:30:46Z</dcterms:modified>
  <cp:revision>12</cp:revision>
  <dc:subject/>
  <dc:title>ДЕТИ С ОБЩИМ НЕДОРАЗВИТИЕМ РЕЧИ</dc:title>
</cp:coreProperties>
</file>