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4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C262-2D58-41BE-BC42-ECC08B54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9A31-D41F-42F1-8A88-19BC0316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D282-B70E-43B9-89CD-6322D154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57B6-9098-44D4-A713-3639758EA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BA10-707C-44CC-B8ED-676B6E84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A3D1-7521-4691-894A-D4414C77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C3F6-1839-42EC-AB39-C16D1CA0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EEFA-62A4-46E2-9A70-48C2BCCB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54D4-FD9C-49E9-BFA0-5700E781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0E5B-F56A-4CB8-8C34-7CD1A4C1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8EF8-7B4D-49C1-8E2A-C0BF3C45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22DB-5542-490E-904F-34C80DBB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3D27-989F-4EED-9212-193B873F0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3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5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0f4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340000" y="2708280"/>
            <a:ext cx="4319640" cy="9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ТО ЧТО ЕСТ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252000" cy="6858000"/>
          </a:xfrm>
          <a:prstGeom prst="rect">
            <a:avLst/>
          </a:prstGeom>
          <a:solidFill>
            <a:srgbClr val="abec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55640" y="333360"/>
            <a:ext cx="7201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руппы животных по типам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итания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1618920" y="1700280"/>
            <a:ext cx="1297080" cy="10080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79280" y="2852640"/>
            <a:ext cx="3571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тительноядн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347640" y="1628640"/>
            <a:ext cx="576360" cy="280836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403280" y="4653000"/>
            <a:ext cx="2981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секомоядн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92720" y="1484280"/>
            <a:ext cx="719280" cy="288144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219640" y="4508640"/>
            <a:ext cx="1790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ищник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59640" y="1484280"/>
            <a:ext cx="1081080" cy="108108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77080" y="2708280"/>
            <a:ext cx="1809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еядн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00000" y="3284640"/>
            <a:ext cx="1657440" cy="1257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40000" y="5157720"/>
            <a:ext cx="1017720" cy="1528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308720" y="3213000"/>
            <a:ext cx="1449360" cy="1509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292720" y="5229360"/>
            <a:ext cx="1800360" cy="1230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6fa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195640" y="476280"/>
            <a:ext cx="475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СТИТЕЛЬНОЯДНЫ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26920" y="1484280"/>
            <a:ext cx="729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ИВОТНЫЕ, КОТОРЫЕ ПИТАЮТС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ТИТЕЛЬНОЙ ПИЩЕЙ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227640" y="4941720"/>
            <a:ext cx="1943280" cy="1459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4000" y="2349360"/>
            <a:ext cx="2361960" cy="2598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2916360" y="2492280"/>
            <a:ext cx="2663640" cy="1781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468360" y="5373720"/>
            <a:ext cx="2016000" cy="100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2987640" y="4653000"/>
            <a:ext cx="2665440" cy="1724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0" y="0"/>
            <a:ext cx="1835280" cy="1471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6084720" y="2421000"/>
            <a:ext cx="2232360" cy="1990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1547640" y="4653000"/>
            <a:ext cx="8780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24360" y="4005360"/>
            <a:ext cx="158436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ЕНГУР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04000" y="4149720"/>
            <a:ext cx="14414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ИРА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00000" y="6165720"/>
            <a:ext cx="1643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АЙС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У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708360" y="6237360"/>
            <a:ext cx="180180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НЕГИР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227640" y="6237360"/>
            <a:ext cx="127476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РОЛ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7f1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124000" y="404640"/>
            <a:ext cx="482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НАСЕКОМОЯД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11280" y="1341360"/>
            <a:ext cx="7777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ИВОТНЫЕ, КОТОРЫЕ ЕДЯ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СЕКОМЫХ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39640" y="2492280"/>
            <a:ext cx="2519640" cy="1731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3564000" y="2421000"/>
            <a:ext cx="2376360" cy="1847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3419640" y="4437000"/>
            <a:ext cx="2303280" cy="2046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6877080" y="1844640"/>
            <a:ext cx="2003400" cy="3013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468360" y="4508640"/>
            <a:ext cx="2663640" cy="1776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6372360" y="4973760"/>
            <a:ext cx="2087280" cy="1380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2195640" y="4076640"/>
            <a:ext cx="72072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РО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780000" y="4076640"/>
            <a:ext cx="2087280" cy="1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УРАВЬЕ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020000" y="4581360"/>
            <a:ext cx="119376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ЯТЕ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050920" y="6165720"/>
            <a:ext cx="998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Д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140360" y="6237360"/>
            <a:ext cx="158400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КВОРЕ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300720" y="6237360"/>
            <a:ext cx="1733760" cy="1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ЯГУШ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cover dir="r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1c9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987640" y="549360"/>
            <a:ext cx="30243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ИЩНИ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95280" y="1484280"/>
            <a:ext cx="8496360" cy="97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ИВОТНЫЕ, КОТОРЫЕ ОХОТЯТСЯ НА БОЛЕ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УПНУЮ ДОБЫЧУ,ПОЕДАЮТ СЕБЕ ПОДОБНЫХ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2681280" cy="1930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492360" y="256536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659640" y="260280"/>
            <a:ext cx="1479600" cy="1011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300720" y="2565360"/>
            <a:ext cx="2629080" cy="1971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1619280" y="4365720"/>
            <a:ext cx="2881440" cy="2004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755640" y="189000"/>
            <a:ext cx="1506600" cy="1130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5003640" y="4365720"/>
            <a:ext cx="2592720" cy="1944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5076720" y="2421000"/>
            <a:ext cx="132552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ОПАР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028000" y="2492280"/>
            <a:ext cx="782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И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9280" y="2349360"/>
            <a:ext cx="147024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ЕЛ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ЕДВЕД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03640" y="6165720"/>
            <a:ext cx="95400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КУ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516720" y="6165720"/>
            <a:ext cx="10652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РЁ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comb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3e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843280" y="333360"/>
            <a:ext cx="302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ЕЯДНЫ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1197000"/>
            <a:ext cx="8424720" cy="9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ИВОТНЫЕ, УПОТРЕБЛЯЮЩ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ТИТЕЛЬНУЮ И ЖИВОТНУЮ ПИЩУ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3932280" cy="2322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59280" y="2349360"/>
            <a:ext cx="3168720" cy="2114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116000" y="4581360"/>
            <a:ext cx="3168720" cy="2109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364000" y="4594320"/>
            <a:ext cx="2880000" cy="1906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79280" y="4076640"/>
            <a:ext cx="237672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УРЫЕ МЕДВЕД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516720" y="4076640"/>
            <a:ext cx="129528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НО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700360" y="6308640"/>
            <a:ext cx="138600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РЫ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732720" y="6237360"/>
            <a:ext cx="132876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Р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4fa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627280" y="260280"/>
            <a:ext cx="3816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Цепи питани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26920" y="2637000"/>
            <a:ext cx="1724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астени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76720" y="2421000"/>
            <a:ext cx="263052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стительноядное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ивотное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732720" y="2421000"/>
            <a:ext cx="190152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лотоядно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ивотно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0360" y="2781360"/>
            <a:ext cx="3589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2852640"/>
            <a:ext cx="79236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611280" y="3500280"/>
            <a:ext cx="2076480" cy="1557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3851280" y="3500280"/>
            <a:ext cx="1612800" cy="1689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6659640" y="3500280"/>
            <a:ext cx="2016000" cy="1581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6fa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5280" y="2997360"/>
            <a:ext cx="1584360" cy="1185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2484360" y="189000"/>
            <a:ext cx="410364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Цепь питани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35280" y="2708280"/>
            <a:ext cx="649080" cy="216000"/>
          </a:xfrm>
          <a:custGeom>
            <a:avLst/>
            <a:gdLst>
              <a:gd name="textAreaLeft" fmla="*/ 113400 w 649080"/>
              <a:gd name="textAreaRight" fmla="*/ 470520 w 64908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2484360" y="2924280"/>
            <a:ext cx="1079640" cy="1301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419640" y="2708280"/>
            <a:ext cx="647640" cy="144360"/>
          </a:xfrm>
          <a:custGeom>
            <a:avLst/>
            <a:gdLst>
              <a:gd name="textAreaLeft" fmla="*/ 113400 w 647640"/>
              <a:gd name="textAreaRight" fmla="*/ 469800 w 64764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3924360" y="2997360"/>
            <a:ext cx="1439640" cy="1203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076720" y="2781360"/>
            <a:ext cx="719280" cy="144360"/>
          </a:xfrm>
          <a:custGeom>
            <a:avLst/>
            <a:gdLst>
              <a:gd name="textAreaLeft" fmla="*/ 125640 w 719280"/>
              <a:gd name="textAreaRight" fmla="*/ 521640 w 71928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7380360" y="3068640"/>
            <a:ext cx="1620720" cy="12175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>
            <a:off x="5508720" y="2997360"/>
            <a:ext cx="1584360" cy="1187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77080" y="2781360"/>
            <a:ext cx="934920" cy="142920"/>
          </a:xfrm>
          <a:custGeom>
            <a:avLst/>
            <a:gdLst>
              <a:gd name="textAreaLeft" fmla="*/ 163440 w 934920"/>
              <a:gd name="textAreaRight" fmla="*/ 677880 w 93492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5280" y="4292640"/>
            <a:ext cx="151272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емлян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556000" y="4292640"/>
            <a:ext cx="936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изе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211640" y="4292640"/>
            <a:ext cx="83016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аб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796000" y="4292640"/>
            <a:ext cx="93492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адю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885080" y="4292640"/>
            <a:ext cx="42552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ё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wheel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3T13:42:16Z</dcterms:created>
  <dc:creator>Добрынина</dc:creator>
  <dc:description/>
  <dc:language>en-US</dc:language>
  <cp:lastModifiedBy>Добрынина</cp:lastModifiedBy>
  <dcterms:modified xsi:type="dcterms:W3CDTF">2012-07-23T17:13:22Z</dcterms:modified>
  <cp:revision>2</cp:revision>
  <dc:subject/>
  <dc:title>Слайд 1</dc:title>
</cp:coreProperties>
</file>