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16AD-C8BA-4FA7-93BE-D70D3275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0FC-A7E6-4EED-8010-2BD247BF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3CB4-B759-4B6F-A1A6-BDF32E7C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B5EA-5917-4440-BEDC-9C07A7BD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35F-8906-47B1-B1E9-A988ACAE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ABC6-1B17-42DE-9663-79943A4F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F69-A2B6-4125-83D7-674FE1D2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DE0-11CA-41E0-B8B1-D8A7B082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B19D-6390-43C8-B8A3-4D24B0AF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04A9-38A8-424A-A136-F93316D5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937-48A2-42D0-AFEA-731B6EFD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62B5-7C5B-46B5-ACB1-6FADBAA7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5AB8-FAE7-4DFD-BF2B-86707509D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3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5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f4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340000" y="2708280"/>
            <a:ext cx="431964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ТО ЧТО ЕС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252000" cy="6858000"/>
          </a:xfrm>
          <a:prstGeom prst="rect">
            <a:avLst/>
          </a:prstGeom>
          <a:solidFill>
            <a:srgbClr val="abec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55640" y="333360"/>
            <a:ext cx="7201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руппы животных по типа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итан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618920" y="1700280"/>
            <a:ext cx="1297080" cy="10080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79280" y="2852640"/>
            <a:ext cx="3571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тительнояд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347640" y="1628640"/>
            <a:ext cx="576360" cy="28083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03280" y="4653000"/>
            <a:ext cx="2981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секомояд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92720" y="1484280"/>
            <a:ext cx="719280" cy="28814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219640" y="4508640"/>
            <a:ext cx="1790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ищни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59640" y="1484280"/>
            <a:ext cx="1081080" cy="108108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77080" y="2708280"/>
            <a:ext cx="1809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яд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1657440" cy="1257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5157720"/>
            <a:ext cx="1017720" cy="1528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308720" y="3213000"/>
            <a:ext cx="1449360" cy="1509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292720" y="5229360"/>
            <a:ext cx="1800360" cy="1230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6fa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95640" y="476280"/>
            <a:ext cx="47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ТИТЕЛЬНОЯДНЫ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26920" y="1484280"/>
            <a:ext cx="729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ЫЕ, КОТОРЫЕ ПИТАЮТС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ТИТЕЛЬНОЙ ПИЩЕЙ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227640" y="4941720"/>
            <a:ext cx="1943280" cy="1459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4000" y="2349360"/>
            <a:ext cx="2361960" cy="2598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916360" y="2492280"/>
            <a:ext cx="2663640" cy="1781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68360" y="5373720"/>
            <a:ext cx="2016000" cy="100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987640" y="4653000"/>
            <a:ext cx="2665440" cy="1724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835280" cy="1471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6084720" y="2421000"/>
            <a:ext cx="2232360" cy="1990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547640" y="4653000"/>
            <a:ext cx="8780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24360" y="4005360"/>
            <a:ext cx="158436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ЕНГУР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04000" y="4149720"/>
            <a:ext cx="14414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ИРА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00000" y="6165720"/>
            <a:ext cx="1643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Й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708360" y="6237360"/>
            <a:ext cx="180180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НЕГИР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27640" y="6237360"/>
            <a:ext cx="127476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ОЛ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7f1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24000" y="404640"/>
            <a:ext cx="48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НАСЕКОМОЯД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11280" y="1341360"/>
            <a:ext cx="777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ЫЕ, КОТОРЫЕ ЕДЯ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СЕКОМЫХ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39640" y="2492280"/>
            <a:ext cx="2519640" cy="1731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564000" y="2421000"/>
            <a:ext cx="2376360" cy="1847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419640" y="4437000"/>
            <a:ext cx="2303280" cy="2046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877080" y="1844640"/>
            <a:ext cx="2003400" cy="3013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468360" y="4508640"/>
            <a:ext cx="2663640" cy="1776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6372360" y="4973760"/>
            <a:ext cx="2087280" cy="1380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195640" y="4076640"/>
            <a:ext cx="7207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О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780000" y="4076640"/>
            <a:ext cx="2087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РАВЬЕ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20000" y="4581360"/>
            <a:ext cx="119376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ЯТЕ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50920" y="6165720"/>
            <a:ext cx="998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Д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40360" y="6237360"/>
            <a:ext cx="158400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КВОР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300720" y="6237360"/>
            <a:ext cx="173376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ЯГУШ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ver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1c9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987640" y="549360"/>
            <a:ext cx="30243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ЩНИ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1484280"/>
            <a:ext cx="849636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ЫЕ, КОТОРЫЕ ОХОТЯТСЯ НА БОЛЕ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УПНУЮ ДОБЫЧУ,ПОЕДАЮТ СЕБЕ ПОДОБНЫХ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2681280" cy="1930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92360" y="2565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659640" y="260280"/>
            <a:ext cx="1479600" cy="1011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300720" y="2565360"/>
            <a:ext cx="2629080" cy="1971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619280" y="4365720"/>
            <a:ext cx="2881440" cy="2004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755640" y="189000"/>
            <a:ext cx="1506600" cy="1130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5003640" y="4365720"/>
            <a:ext cx="2592720" cy="194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5076720" y="2421000"/>
            <a:ext cx="13255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ОПАР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028000" y="2492280"/>
            <a:ext cx="782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И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9280" y="2349360"/>
            <a:ext cx="147024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Л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ДВЕД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03640" y="6165720"/>
            <a:ext cx="9540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КУ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16720" y="6165720"/>
            <a:ext cx="10652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РЁ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3e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843280" y="333360"/>
            <a:ext cx="30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ЕЯДН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197000"/>
            <a:ext cx="842472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ЫЕ, УПОТРЕБЛЯЮЩ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ТИТЕЛЬНУЮ И ЖИВОТНУЮ ПИЩУ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932280" cy="232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59280" y="2349360"/>
            <a:ext cx="3168720" cy="2114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116000" y="4581360"/>
            <a:ext cx="3168720" cy="2109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364000" y="4594320"/>
            <a:ext cx="2880000" cy="1906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79280" y="4076640"/>
            <a:ext cx="23767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РЫЕ МЕДВЕ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516720" y="4076640"/>
            <a:ext cx="129528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Н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700360" y="6308640"/>
            <a:ext cx="138600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Ы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732720" y="6237360"/>
            <a:ext cx="132876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Р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4fa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627280" y="260280"/>
            <a:ext cx="381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Цепи питан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26920" y="2637000"/>
            <a:ext cx="1724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астени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76720" y="2421000"/>
            <a:ext cx="26305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тительноядное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отное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732720" y="2421000"/>
            <a:ext cx="19015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отоядно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о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2781360"/>
            <a:ext cx="3589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2852640"/>
            <a:ext cx="79236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611280" y="3500280"/>
            <a:ext cx="2076480" cy="155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3851280" y="3500280"/>
            <a:ext cx="1612800" cy="1689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6659640" y="3500280"/>
            <a:ext cx="2016000" cy="1581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6fa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1584360" cy="1185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484360" y="189000"/>
            <a:ext cx="410364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Цепь питан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2708280"/>
            <a:ext cx="649080" cy="216000"/>
          </a:xfrm>
          <a:custGeom>
            <a:avLst/>
            <a:gdLst>
              <a:gd name="textAreaLeft" fmla="*/ 113400 w 649080"/>
              <a:gd name="textAreaRight" fmla="*/ 470520 w 64908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484360" y="2924280"/>
            <a:ext cx="1079640" cy="1301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419640" y="2708280"/>
            <a:ext cx="647640" cy="144360"/>
          </a:xfrm>
          <a:custGeom>
            <a:avLst/>
            <a:gdLst>
              <a:gd name="textAreaLeft" fmla="*/ 113400 w 647640"/>
              <a:gd name="textAreaRight" fmla="*/ 469800 w 64764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3924360" y="2997360"/>
            <a:ext cx="1439640" cy="1203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076720" y="2781360"/>
            <a:ext cx="719280" cy="144360"/>
          </a:xfrm>
          <a:custGeom>
            <a:avLst/>
            <a:gdLst>
              <a:gd name="textAreaLeft" fmla="*/ 125640 w 719280"/>
              <a:gd name="textAreaRight" fmla="*/ 521640 w 71928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7380360" y="3068640"/>
            <a:ext cx="1620720" cy="1217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5508720" y="2997360"/>
            <a:ext cx="1584360" cy="1187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77080" y="2781360"/>
            <a:ext cx="934920" cy="142920"/>
          </a:xfrm>
          <a:custGeom>
            <a:avLst/>
            <a:gdLst>
              <a:gd name="textAreaLeft" fmla="*/ 163440 w 934920"/>
              <a:gd name="textAreaRight" fmla="*/ 677880 w 93492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4292640"/>
            <a:ext cx="151272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емля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56000" y="4292640"/>
            <a:ext cx="936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из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11640" y="4292640"/>
            <a:ext cx="83016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аб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796000" y="4292640"/>
            <a:ext cx="9349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адю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885080" y="4292640"/>
            <a:ext cx="4255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ё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13:42:16Z</dcterms:created>
  <dc:creator>Добрынина</dc:creator>
  <dc:description/>
  <dc:language>en-US</dc:language>
  <cp:lastModifiedBy>Добрынина</cp:lastModifiedBy>
  <dcterms:modified xsi:type="dcterms:W3CDTF">2012-07-23T17:13:22Z</dcterms:modified>
  <cp:revision>2</cp:revision>
  <dc:subject/>
  <dc:title>Слайд 1</dc:title>
</cp:coreProperties>
</file>