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249E-98A2-4F87-892A-4CB86FA2D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86ED-0564-4CA3-883D-E6B49463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0119-5D5D-4B9B-87C7-64BBC16FF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B1F4-5B2B-4E0E-9D4B-9C370E79A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224B-E15D-4DBC-A0FD-0D9BBD156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E061-7E7E-4BDA-A568-02351658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4DB6-D7F7-45E3-BEC8-87AAE0D0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C5201-2185-4EAA-AEDD-F4FC8BB6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52554-18D1-4BBC-8B1A-234CE2C8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4A48-9951-47F4-BF21-9C80C53C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558C-FF75-42B4-ABC3-A4F00A0A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874C-FC05-4DEF-8733-CB6A398C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3609-E734-4B28-A6FD-A1AAF596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4F24-995C-4170-8024-92401FCE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0BCA-E965-452F-BBA4-8A150150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B72D-7CBD-40AE-A4D3-281CA1EB5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F7F03-DDDD-460E-8DFA-FAEDF39C9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7A74-D511-4A50-9DCA-BEF82DC6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9BD4-A3E6-4CB6-97D4-AFAE654D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87DF-DD7B-4BEE-B49F-9892AB2C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35BC-EA0B-4675-8DF6-3175BDD7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D7A9-9968-4493-9415-31EDB965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5DA4-4885-49B7-A978-D42B9C20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5146-0167-4468-875B-F38F631D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4ECC-4141-46D9-87D7-ADD4C7B374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7977-A077-4E25-9C43-B66F6BC02F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762120" y="946080"/>
            <a:ext cx="7627680" cy="103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High Tower Text"/>
              </a:rPr>
              <a:t>Лесные пожары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High Tower Text"/>
              <a:ea typeface="High Tower Text"/>
            </a:endParaRPr>
          </a:p>
        </p:txBody>
      </p:sp>
      <p:pic>
        <p:nvPicPr>
          <p:cNvPr id="99" name="" descr="232 1"/>
          <p:cNvPicPr/>
          <p:nvPr/>
        </p:nvPicPr>
        <p:blipFill>
          <a:blip r:embed="rId1"/>
          <a:stretch/>
        </p:blipFill>
        <p:spPr>
          <a:xfrm>
            <a:off x="2027160" y="1981080"/>
            <a:ext cx="4611600" cy="481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20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 Black"/>
              </a:rPr>
              <a:t>                 </a:t>
            </a:r>
            <a:r>
              <a:rPr b="0" lang="ru-RU" sz="2800" spc="-1" strike="noStrike" u="sng">
                <a:solidFill>
                  <a:srgbClr val="de5d3a"/>
                </a:solidFill>
                <a:uFillTx/>
                <a:latin typeface="Arial Black"/>
              </a:rPr>
              <a:t>Лесно́й пожа́р</a:t>
            </a:r>
            <a:r>
              <a:rPr b="0" lang="ru-RU" sz="2800" spc="-1" strike="noStrike">
                <a:solidFill>
                  <a:srgbClr val="ff9900"/>
                </a:solidFill>
                <a:latin typeface="Arial Black"/>
              </a:rPr>
              <a:t> </a:t>
            </a:r>
            <a:r>
              <a:rPr b="0" lang="ru-RU" sz="2800" spc="-1" strike="noStrike">
                <a:solidFill>
                  <a:srgbClr val="ffffb7"/>
                </a:solidFill>
                <a:latin typeface="Arial Black"/>
              </a:rPr>
              <a:t>— это стихийное, неуправляемое распространение огня по лесным площадям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2265480"/>
            <a:ext cx="8007480" cy="38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e5d3a"/>
                </a:solidFill>
                <a:uFillTx/>
                <a:latin typeface="Arial"/>
              </a:rPr>
              <a:t>Причины возникновения пожаров в лес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979640" y="2708280"/>
            <a:ext cx="216072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3645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естествен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2708280"/>
            <a:ext cx="230364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16360" y="364500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антропоген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429264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молния и засух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08720" y="4292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челове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5229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 зависимости от того, где распространяется огонь, пожары делятся на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низовые, верховые и подземны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486400" y="4079880"/>
            <a:ext cx="3398760" cy="2549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3520" y="3124080"/>
            <a:ext cx="3743280" cy="28083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9898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Низовой пожар :</a:t>
            </a:r>
            <a:r>
              <a:rPr b="0" lang="en-US" sz="20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сгорает лесная подстилка, лишайники, мхи, травы, опавшие на землю ветки и т. п. Скорость движения пожара по ветру 0,25—5 км/ч. 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 Black"/>
              </a:rPr>
              <a:t>Высота пламени до 2,5 м.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 Black"/>
              </a:rPr>
              <a:t>Температура горения около 700 °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Верховой пожар</a:t>
            </a: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: охватывает листья, хвою, ветви, а в случае падения горящих деревьев и травяно-моховой покров почвы и подрост. Скорость распространения от 5—30 км/ч. </a:t>
            </a:r>
            <a:r>
              <a:rPr b="0" lang="en-US" sz="2000" spc="-1" strike="noStrike">
                <a:solidFill>
                  <a:srgbClr val="ff3300"/>
                </a:solidFill>
                <a:latin typeface="Arial Black"/>
              </a:rPr>
              <a:t>Температура от 900 °C до 1200 °C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148360" y="2997360"/>
            <a:ext cx="3857400" cy="3686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3330360" cy="41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Подземные (почвенные) пожары</a:t>
            </a: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 : чаще всего связаны с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возгоранием торфа. Распространяется </a:t>
            </a: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со скоростью до 1 км в сутки. Могут быть малозаметны и уходить на глубину до нескольких метров, поэтому представляют дополнительную опасность и крайне плохо поддаются тушению.</a:t>
            </a:r>
            <a:br>
              <a:rPr sz="2000"/>
            </a:b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(Торф может гореть без доступа воздуха и даже под водой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 Black"/>
              </a:rPr>
              <a:t>Температура горящего торфа около 600 °C 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6126120"/>
            <a:ext cx="8244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908000" y="3429000"/>
            <a:ext cx="5407200" cy="311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 Black"/>
              </a:rPr>
              <a:t>Правила спасения при лесном пожаре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8353440" cy="57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тветьте на вопросы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0" y="1197000"/>
            <a:ext cx="4286160" cy="2685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50920" y="3573360"/>
            <a:ext cx="3887640" cy="30798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5280" y="1341360"/>
            <a:ext cx="4032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Что не сдела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оре-турист после привал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56000" y="4149720"/>
            <a:ext cx="43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Какие правила спасения необходимо соблюдать , если вы попали в зону лесного пожар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3360"/>
            <a:ext cx="4340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724360" y="3417840"/>
            <a:ext cx="3094200" cy="3440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4753080" cy="33796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003640" y="404640"/>
            <a:ext cx="3600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Что это за вид лесного пожар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к обычно с ним борютс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4005360"/>
            <a:ext cx="532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 Назовите вид этого лесного пожара. Какие виды техники используют пожарные МЧС при его тушени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Школа</cp:lastModifiedBy>
  <dcterms:modified xsi:type="dcterms:W3CDTF">2012-11-19T17:37:4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