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23D-7968-4508-85AA-B8610F3F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C2E-023B-43D3-9BFC-334238C8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0B1-6FE0-40BA-A245-D48A6835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706-091C-471D-A8A7-767BCD28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CCB-C293-4B51-8960-9C65E16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E7F4-8FE1-4609-BFE0-7E8458BE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86AE-C0B6-47AF-AC22-85433B9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3FBF-1984-4084-A0C4-46360AD6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2BB6-159F-4D7C-B526-B1607D69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0948-09D3-4F93-8B5C-9B92199C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DA5F-5CE9-4FB1-8AD8-F62875F1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E2C-AA0E-42EB-A3E2-8606D06F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CE32-F364-497B-A96F-E5F2B097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5123-4FCD-408C-B378-77B9ED9E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A68C-17C3-4FE6-BED0-0D3DCA8A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63ED-B418-43DD-8DDB-85414F22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E4D8-BEC1-4227-9885-8F3A17DE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775-259D-4963-8CE0-F7B9315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003-B16E-4819-880D-D377FEDD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384-79FC-4B4A-9683-0C0257EA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B49-0A1E-4C6D-BD9D-3D69B3B2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252-BC5A-4D1F-A08D-F18F759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1D3-0BC2-48C3-8F27-99308A87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EBD-81EB-42A9-AF5B-B85994B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5D3D-17EE-4F8A-AEC4-F659C58C5C18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6208-DDC1-4E49-BA79-1CE5AC83F7AB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f88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i="1" lang="en-US" sz="72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Министерство образования и молодежной политики Чувашской Республики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en-US" sz="7200" spc="-1" strike="noStrike">
                <a:solidFill>
                  <a:srgbClr val="ffffff"/>
                </a:solidFill>
                <a:latin typeface="Monotype Corsiva"/>
              </a:rPr>
              <a:t>Наша слава- русская</a:t>
            </a: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i="1" lang="en-US" sz="7200" spc="-1" strike="noStrike">
                <a:solidFill>
                  <a:srgbClr val="ffffff"/>
                </a:solidFill>
                <a:latin typeface="Monotype Corsiva"/>
              </a:rPr>
              <a:t>держава.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66ff66"/>
                </a:solidFill>
                <a:uFillTx/>
                <a:latin typeface="Britannic Bold"/>
              </a:rPr>
              <a:t>Автор проекта- </a:t>
            </a:r>
            <a:r>
              <a:rPr b="0" lang="ru-RU" sz="1900" spc="-1" strike="noStrike">
                <a:solidFill>
                  <a:srgbClr val="66ff66"/>
                </a:solidFill>
                <a:latin typeface="Britannic Bold"/>
              </a:rPr>
              <a:t>Архипова</a:t>
            </a:r>
            <a:r>
              <a:rPr b="0" lang="ru-RU" sz="1900" spc="-1" strike="noStrike" u="sng">
                <a:solidFill>
                  <a:srgbClr val="66ff66"/>
                </a:solidFill>
                <a:uFillTx/>
                <a:latin typeface="Britannic Bold"/>
              </a:rPr>
              <a:t> Лариса Алексеевна, учитель музыки МОУ «Вутабосинская СОШ»Канашского района  Чувашской  Республики</a:t>
            </a:r>
            <a:r>
              <a:rPr b="1" lang="ru-RU" sz="1900" spc="-1" strike="noStrike">
                <a:solidFill>
                  <a:srgbClr val="66ff66"/>
                </a:solidFill>
                <a:latin typeface="Britannic Bold"/>
              </a:rPr>
              <a:t>. </a:t>
            </a: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Britannic Bold"/>
              </a:rPr>
              <a:t>С. Вутабоси -2008г.</a:t>
            </a:r>
            <a:r>
              <a:rPr b="1" lang="ru-RU" sz="2400" spc="-1" strike="noStrike">
                <a:solidFill>
                  <a:srgbClr val="ffcc00"/>
                </a:solidFill>
                <a:latin typeface="Britannic Bold"/>
              </a:rPr>
              <a:t>         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0" y="404640"/>
            <a:ext cx="457200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их А. Толстого «Баллада о солдате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льм Эйзенштейна «Александр Невский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тина Васнецова «После побоища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.н. п. «Солдатушки, бравы ребятушки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входе в город Новгород плакат « Александр Невский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ера Прокофьева «Война и мир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сня Соловьева-Седого «Баллада о солдате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болгарском городе Пловдив поставлен памятник «Алеша»-в честь советских героев - освободителей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сня Тухманова «День победы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ера  Молчанова по книге Бориса Васильева«А зори здесь тихие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ыло 5 апре­ля 1242 год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ного русских воинов в тот великий день «кровь свою прольяша». Но враг по­нес потери еще большие. Только рыцарей было убито полтысячи. Полсотни рыцарей попало в плен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лки Александра под звуки труб и буб­нов подходили к Пскову. Ликующие люди высыпали из города встречать победите­лей. Смотрели, как ведут крестоносцев подле их коней; рыцарь, идущий около ко­ня с непокрытой головой, терял, но прави­лам ордена, рыцарское достоинство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трясающий урок получили германцы. Летом в Новгород приехали послы из ордена и просили у Александра вечного мира. Мир был заключен. Говорят, что то­гда-то Александр произнес слова, став­шие на Русской земле пророческими: «Кто с мечом к нам придет, от меча и погибнет!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e18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b17"/>
                </a:solidFill>
                <a:latin typeface="Arial Black"/>
              </a:rPr>
              <a:t>Великий полководец и святой земли Русской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Александру Невскому посвятил свою кантату композитор С.С. Прокофьев. Кантата «Александр Невский» завоевала всемирную славу. Прокофьев стремился в своей кантате» дать русскую песню в современном складе». Вот почему, несмотря на то, что кантата рассказывает о том, как русский народ защищал от врагов свою Родину 750 (!) лет тому назад, призывная песня-хор» Вставайте, люди русские» постоянно звучала и в дни Великой Отечественной войны, поднимая людей на борьбу с фашизмо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435640" y="1981080"/>
            <a:ext cx="2665440" cy="44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192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ероические образы   предков в музык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К.Ф.Рылеев обращался к историческому прошлому русского народа. Его привлекали патриотические образы предков, героические события, которые всегда жили в памяти народа и составляли его гордост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Тема Родины, защита Родины от внешних врагов, борьба внутри страны с угнетателями народа – вот что направляет свое внимание Рылеев в думе         « Иван Сусанин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273e"/>
            </a:gs>
            <a:gs pos="100000">
              <a:srgbClr val="33cf8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усский  по сердц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384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.Бестужев отметил в думах Рылеева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стремление»возбуждать доблести сограждан подвигам предков». Задача эта была выполнена: думы пробуждали интерес и сочувствие к сильным, мужественным людям, совершали подвиг во имя Родины и народ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-36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Иван Сусанин - патриот, завел врагов в лесные дебри и погубил их, погибнув и сам. Перед смертью патриот бросает в лицо врагам мужественные слова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98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Этот пафос нашел продолжение в поэзии Лермонтова, который в 30-ые годы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века мечтал о том, чтобы голос поэта звучал»как колокол на башне вечевой во дни торжеств и бед народных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огатыри- не вы! - восклицает поэт, обращаясь к современникам. Кто же тогда богатыри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огатырями для поэта были они, солдаты и офицеры войны 1812 года, победители, которы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мереть обещали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лятву верности сдержали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стояли головою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одину сво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4968720" y="2060640"/>
            <a:ext cx="4175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f8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Где же ваша слава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Я думаю, именно в это время появилась песня «Солдатушки, бравы ребятушки</a:t>
            </a:r>
            <a:r>
              <a:rPr b="0" lang="en-US" sz="3200" spc="-1" strike="noStrike">
                <a:solidFill>
                  <a:srgbClr val="ffcc00"/>
                </a:solidFill>
                <a:latin typeface="Britannic Bold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572000" y="2205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ша слава- русская           держава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Солдатушки, бравы ребятушк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Где же ваши деды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Наши деды - славные побед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Вот, где наши деды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Солдатушки, бравы ребятушк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Где же ваши сестры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Наши сестры - пики, сабли востр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Вот, где наши сестры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Солдатушки, бравы ребятушк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Где же ваша слава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Наша слава-русская держа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Вот, где наша слава</a:t>
            </a:r>
            <a:r>
              <a:rPr b="0" lang="en-US" sz="1800" spc="-1" strike="noStrike">
                <a:solidFill>
                  <a:srgbClr val="ffcc00"/>
                </a:solidFill>
                <a:latin typeface="Britannic Bold"/>
              </a:rPr>
              <a:t>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99"/>
                </a:solidFill>
                <a:latin typeface="Century"/>
              </a:rPr>
              <a:t>  </a:t>
            </a:r>
            <a:r>
              <a:rPr b="0" i="1" lang="en-US" sz="4800" spc="-1" strike="noStrike">
                <a:solidFill>
                  <a:srgbClr val="000099"/>
                </a:solidFill>
                <a:latin typeface="Century"/>
              </a:rPr>
              <a:t>Кто с мечом к нам придет , тот от меча и погибнет!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Century"/>
              </a:rPr>
              <a:t> </a:t>
            </a:r>
            <a:r>
              <a:rPr b="0" i="1" lang="en-US" sz="4000" spc="-1" strike="noStrike">
                <a:solidFill>
                  <a:srgbClr val="196d47"/>
                </a:solidFill>
                <a:latin typeface="Century"/>
              </a:rPr>
              <a:t>Александр Невски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96d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103"/>
                </a:solidFill>
                <a:latin typeface="Arial Black"/>
              </a:rPr>
              <a:t>               </a:t>
            </a:r>
            <a:r>
              <a:rPr b="0" lang="en-US" sz="4400" spc="-1" strike="noStrike">
                <a:solidFill>
                  <a:srgbClr val="ffe103"/>
                </a:solidFill>
                <a:latin typeface="Arial Black"/>
              </a:rPr>
              <a:t>Виват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810240" cy="8762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Narrow"/>
              </a:rPr>
              <a:t>       </a:t>
            </a:r>
            <a:r>
              <a:rPr b="0" lang="ru-RU" sz="1800" spc="-1" strike="noStrike">
                <a:solidFill>
                  <a:srgbClr val="ffcc00"/>
                </a:solidFill>
                <a:latin typeface="Arial Narrow"/>
              </a:rPr>
              <a:t>многоголосная бытовая песня-кант. Слово это в переводе с латинского означает песня, пение . Авторами кантов были учителя пения, певчие церковных хоров. Однако многие дошедшие до нас канты безымянны. Этим они похожи на русские народные песни. Канты посвящались разным жизненным событиям. В них воспевали и скорбели о погибших, осуждали предательство и высмеивали глупость. При Петре </a:t>
            </a:r>
            <a:r>
              <a:rPr b="0" lang="en-US" sz="1800" spc="-1" strike="noStrike">
                <a:solidFill>
                  <a:srgbClr val="ffcc00"/>
                </a:solidFill>
                <a:latin typeface="Arial Narrow"/>
              </a:rPr>
              <a:t>I</a:t>
            </a:r>
            <a:r>
              <a:rPr b="0" lang="ru-RU" sz="1800" spc="-1" strike="noStrike">
                <a:solidFill>
                  <a:srgbClr val="ffcc00"/>
                </a:solidFill>
                <a:latin typeface="Arial Narrow"/>
              </a:rPr>
              <a:t> канты сочиняли для торжеств по случаю побед русского оружия. Такие канты назывались хвалебными. Как правило, в них было слово»Виват», что в переводе означает да здравствует!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3816360" cy="27734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003640" y="166860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Cyr Chuv"/>
              </a:rPr>
              <a:t>Почти 300 лет назад появилась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стота, добро  и прав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ffe103"/>
                </a:solidFill>
                <a:latin typeface="Arial Black"/>
              </a:rPr>
              <a:t>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Broadway"/>
              </a:rPr>
              <a:t>Композиторы обращаются к  героическому прошлому русской истории. С.С.Прокофьев создает оперу –эпопею по роману Л.Толстого «Война и мир».Одна из лучших мелодий в этой опере – это главная мелодия арии Кутузова, командовавшего русскими войсками в войне против французской армии Наполеона, мечтавшей захватить Москву, захватить всю Россию</a:t>
            </a:r>
            <a:r>
              <a:rPr b="0" i="1" lang="en-US" sz="2200" spc="-1" strike="noStrike">
                <a:solidFill>
                  <a:srgbClr val="000000"/>
                </a:solidFill>
                <a:latin typeface="Broadway"/>
              </a:rPr>
              <a:t>.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303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О сердце России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Arial Black"/>
              </a:rPr>
              <a:t>Кутузов поет о белокаменной Москве, о сердце России, о любви к своей родине и готовности отдать жизнь за ее спасение. Это один из самых важных эпизодов всей оперы Прокофьева. Слушая эту арию невольно вспоминается Иван Сусанин и отчетливо ощущается какие глубокие связи существуют между музыкой нашей эпохи и русской музыкальной классики прошлого века- между Прокофьевым и Глинкой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Если сравнить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Война и мир» завершается хором поющим славу Москве и русскому народу,   как  знаменитым хором «Славься»завершает Глинка своего  «Ивана Сусанина». И если сравнить арию Сусанина с арией Кутузова, то в них много общего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164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обе арии поются ночью, наедине как размышления о судьбах своей Родин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-  обе поются теми героями, которые спасли Москву - один ценой своей гибели, другой – мудростью великого полководц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И все же арии очень различны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В арии Сусанина преобладает хоть и мужественная , но и трагическая скорбь героя, обреченного на смерть;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В арии Кутузова господствует мужество полководца, готового вести свою армию в бой и уверенного в победе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В ходе исследования пришла к таким выводам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-        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Красота этой музыки заключалось не только в самой музыке, но и в том, что она выражает , о чем рассказывает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-       В арии Ивана Сусанина красивы его мужество и благородство, его любовь к Родине, которая ему дороже  всего на свете, дороже жизни, красив его подвиг, потому что подвиг – это высшее проявление красоты человеческого дух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-       Герой , совершивший подвиг, всегда прекрасен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-       Для выражения в музыке подвиг Сусанина М.Глинка нашел прекрасные правдивые средства музыкальной выразительност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1ec2e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Формы и методы работ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Изучение художественных произведений(Дума К.Рылеева «Иван Сусанин»,роман-эпопея Л.Толстого «Война и мир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Прослушивание фрагментов из опер М.Глинки «Иван Сусанин» и С.Прокофьева «Война и мир», кантату «Александр Невский» С.Прокофьева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Сравнительный анализ музыкальных произведений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Разучивание текстов арий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Просмотр художественного фильма «Александр Невский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Художественное оформление работы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Отчет - презентация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47"/>
                </a:solidFill>
                <a:latin typeface="Arial Black"/>
              </a:rPr>
              <a:t>Использованная литератур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Критская Е.Д.и др. Музыка.- М.:Просвещение,2000-128 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Критская Е.Д. Музыка :Учеб. Для учащихся 4 кл. нач. шк. – М .:Просвещение, 2004.- 127 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М.Ю.Лермонтов. Бородино.- М.:Дет.лит.,1989.-15 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У каждого народа есть заветные имена, которые никогда не забываются, напротив — чем дальше развивается историческая жизнь народа, тем ярче, светлее становится в памяти потомства нравственный облик тех деятелей, которые, отдав все силы на служение своему народу, успели оказать ему существенные услуги. Такие деятели становятся излюбленными народными героями, со­ставляют его национальную славу, их подвиги прославляются в позднейших сказаниях и песнях. Это как бы звезды на историческом горизонте, освещающие весь дальнейший исторический путь народа. Еще выше значение тех деятелей, жизнь которых озаряется ореолом святости, которые умели совершать дело служения своему народу в угождение Богу. Тогда они становятся ангелами-хранителями своего народа, предстателями за него пред Богом, к ним в тяжелые годины обращается народ с молитвою о помощи, их небесной защите приписывает счастливые события и случаи избавления от разных бедстви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Имя Александра Невского — одно из самых славных в истории нашей страны. И не только славных, но что, пожалуй, еще значительнее,— одно из самых светлых и любимых русским наро­дом. Героев наша история дала немало, но почти никого из чих не вспоминают потомки с таким теплым чувством, как Алексан­дра. Он много потрудился для Русской земли и мечом и головой — вклад его в строительство Российского государства бесценен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ак полководец он по праву может почитаться великим, ибо за всю свою жизнь не проиграл ни одного сражения, с малыми силами побеждал сильнейших и в действиях своих сочетал военную гениальность с личной отвагой. Но есть нечто, что делает ему особую честь: в ту мрачную эпоху беспрестанных междоусобных войн меч его ни разу не обагрился русской кровью, и имя его не запятнано участием ни в одной усобице. Может быть, именно это, подсоз­нательно запечатлевшись в народной памяти, и создало ему такую добрую славу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doni MT Poster Compressed"/>
              </a:rPr>
              <a:t>Цели и задачи:</a:t>
            </a:r>
            <a:r>
              <a:rPr b="0" lang="en-US" sz="4000" spc="-1" strike="noStrike">
                <a:solidFill>
                  <a:srgbClr val="ffffff"/>
                </a:solidFill>
                <a:latin typeface="Bodoni MT Poster Compressed"/>
              </a:rPr>
              <a:t>           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Arial Narrow"/>
              </a:rPr>
              <a:t>Увлечь, раскрыть мир мыслей, отношений, чувств, который составляет сущность музыкально-художественной образност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Arial Narrow"/>
              </a:rPr>
              <a:t>Расширить духовный мир через эмоциональное восприяти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Arial Narrow"/>
              </a:rPr>
              <a:t>Возбуждать интерес к подвигам, большую любовь к Родине и тревогу за ее судьбу.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Arial Narrow"/>
              </a:rPr>
              <a:t>Заинтересовать учащихся музыкальным искусством.</a:t>
            </a:r>
            <a:r>
              <a:rPr b="0" lang="en-US" sz="3600" spc="-1" strike="noStrike">
                <a:solidFill>
                  <a:srgbClr val="ffcc00"/>
                </a:solidFill>
                <a:latin typeface="Agency FB"/>
              </a:rPr>
              <a:t>                                                                                             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ыло 5 апре­ля 1242 год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ного русских воинов в тот великий день «кровь свою прольяша». Но враг по­нес потери еще большие. Только рыцарей было убито полтысячи. Полсотни рыцарей попало в плен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лки Александра под звуки труб и буб­нов подходили к Пскову. Ликующие люди высыпали из города встречать победите­лей. Смотрели, как ведут крестоносцев подле их коней; рыцарь, идущий около ко­ня с непокрытой головой, терял, но прави­лам ордена, рыцарское достоинство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трясающий урок получили германцы. Летом в Новгород приехали послы из ордена и просили у Александра вечного мира. Мир был заключен. Говорят, что то­гда-то Александр произнес слова, став­шие на Русской земле пророческими: «Кто с мечом к нам придет, от меча и погибнет!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Славься, славься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f273e"/>
                </a:solidFill>
                <a:latin typeface="Eras Demi ITC"/>
              </a:rPr>
              <a:t>Славься, славься ты, Русь моя</a:t>
            </a:r>
            <a:r>
              <a:rPr b="0" i="1" lang="en-US" sz="2800" spc="-1" strike="noStrike">
                <a:solidFill>
                  <a:srgbClr val="af273e"/>
                </a:solidFill>
                <a:latin typeface="Eras Demi ITC"/>
              </a:rPr>
              <a:t>!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Славься ты , русская наша земля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Да будет во веки веков силь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Любимая наша родная страна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Славься ,славься из рода в род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Славься, великий наш русский народ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Врагов, посягнувших на край родной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рази беспощадной могучей рукой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Слава, слава родным бойцам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Родины нашей отважным сынам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Кто кровь за отчизну свою прольет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Того никогда не забудет народ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имволы России( герб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Золотой двуглавый орел изображен на щите красного цвета. Правой лапой орел сжимает скипетр. держава представляет собой золотой шар с крестом на верху. Они напоминают нам об историческом прошлом Родины и символизируют единство Российской Федераци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54320" cy="37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68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68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Флаг России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Lucida Sans Unicode"/>
              </a:rPr>
              <a:t>    </a:t>
            </a:r>
            <a:r>
              <a:rPr b="1" i="1" lang="en-US" sz="2000" spc="-1" strike="noStrike">
                <a:solidFill>
                  <a:srgbClr val="ffcc00"/>
                </a:solidFill>
                <a:latin typeface="Lucida Sans Unicode"/>
              </a:rPr>
              <a:t>Белый цвет-святой Георгий Победоносец, синий-развевающийся плащ всадника, красный-фон, цвет герба. Изображение всадника, копьем поражающего черного дракона, означает победу справедливости, добра над злом. Белый цвет мир, чистоту; синий- небо, верность, правду; красный- огонь, отвагу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Флаг Российской Федерации. Фото: © РИА Новости."/>
          <p:cNvPicPr/>
          <p:nvPr/>
        </p:nvPicPr>
        <p:blipFill>
          <a:blip r:embed="rId1"/>
          <a:stretch/>
        </p:blipFill>
        <p:spPr>
          <a:xfrm>
            <a:off x="4211640" y="2205000"/>
            <a:ext cx="410544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e1f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имн Росс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810240" cy="44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оссия -священная наша держава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оссия-любимая наша стран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Могучая воля, великая слава-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Твое достоянье на все времена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лавься отечество, наше свободное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Братских народов союз веково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редками данная, мудрость народная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лавься, страна, мы гордимся тобой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т южных морей до полярного круга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аскинулись наши леса и поля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дна ты на свете! Одна ты такая-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Хранимая богом родная земля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Широкий простор для мечты и для жизни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Грядущие нам открывают год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Нам силу дает наша верность Отчизне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Так было, так есть и так буде всегда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Гимн Российской Федерации. Фото: © РИА Новости."/>
          <p:cNvPicPr/>
          <p:nvPr/>
        </p:nvPicPr>
        <p:blipFill>
          <a:blip r:embed="rId1"/>
          <a:srcRect l="13863" t="0" r="16864" b="516"/>
          <a:stretch/>
        </p:blipFill>
        <p:spPr>
          <a:xfrm rot="264000">
            <a:off x="4608360" y="2502000"/>
            <a:ext cx="3627720" cy="32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68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68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68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68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03"/>
            </a:gs>
            <a:gs pos="100000">
              <a:srgbClr val="33cf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окола- русское чудо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окольные звоны- это голос Роди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ржественные перезвон, которым встречали победоносных ратников, и так называемый всполошный колокол, предупреждавший жителей города о появлении неприятеля, и набатный колокол, который оповещал о войнах и пожарах, и метельный звон, помогавший найти дорогу заблудившимся путникам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3935520" cy="43196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голос Роди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род чтит и помни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У каждого народа есть свои национальные герои, которых любят, чтят, помнят. Их имена остаются в веках, нравственный облик не только не стирается, а напротив, с течением времени становится ярче и светлее. Те же из них , чья жизнь была озарена ореолом святости, а деяния и служение народу были угодны богу, еще более чтимы на земле.  Это в  полной мере относится к Александру Невскому(1220-1263). Имя Александра Невского на Руси произносится с гордостью и почтением. Православная церковь  причислила благотворного князя Александра к лику святого. Реально существовавшие русские люди, ставшие впоследствии святыми, предоставлены не только церковной музыкой, но и композиторской, не только иконами, но и произведениями художников. В их честь, или как говорили раньше, « в похвалу», написано множество икон, воздвигнуты храмы и часовни, сложены молитвы песнопения, написаны жития романы, стихотворения и поэмы, памятники, сняты кинофильмы.</a:t>
            </a:r>
            <a:endParaRPr b="0" lang="en-US" sz="15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1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02:56Z</dcterms:created>
  <dc:creator>User</dc:creator>
  <dc:description/>
  <dc:language>en-US</dc:language>
  <cp:lastModifiedBy>User</cp:lastModifiedBy>
  <dcterms:modified xsi:type="dcterms:W3CDTF">2008-10-22T10:32:52Z</dcterms:modified>
  <cp:revision>57</cp:revision>
  <dc:subject/>
  <dc:title>Наша слава- русская держава.</dc:title>
</cp:coreProperties>
</file>