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19.gif" ContentType="image/gif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984-92F1-46C5-8608-27CA07A8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E82-B130-4D16-B462-C8C76E1B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85F-DF64-4E98-8A79-4A99146F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031-BF25-4737-BB02-CC1E12F1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5A1-8A95-4FE4-ACC9-43CCFE5D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DA02-8702-4480-96AD-F03B2954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639-A3DC-4CEF-8ED1-9F93A96C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EE9-2758-4923-9F1E-AFF7A0C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5B58-A671-4B55-8BB8-AF235E2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8437-53CA-4AEA-88D2-4A33242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676C-4388-4D7C-9A8B-F5AC92C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75A-7932-4118-BF0A-860E9897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F1B6-B6F4-44B3-AB4D-3332CD5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6A54-4BEC-4B2E-B0B1-B14E58A4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B8C8-85CD-4B5E-89C4-4364C0C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662A-4F84-4F63-B463-660C83F6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A801-D387-4465-8914-94F7D691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277-FCFB-44DC-8471-1DAD22A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E47-16B5-4DF1-A4E5-C2414386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BD0-AA53-4ACC-8725-A20B0F4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EED-0CCB-4191-9C3D-20DA80CC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AE4-D2B0-4050-ABE0-C392EAB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4C2-590D-458B-8960-2AEEE34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2DA-2F16-42BD-95AF-5A2CC8C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2B2-72D2-4C01-9415-0A6B4477D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90B-339D-4B1B-8054-C92EFDFFBA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za.ru/pics/2008/04/23/38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26d18"/>
                </a:solidFill>
                <a:latin typeface="Times New Roman"/>
              </a:rPr>
              <a:t>Охрана растений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 rot="5806800">
            <a:off x="3994200" y="2397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1581120" y="5927760"/>
            <a:ext cx="756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0" y="360"/>
            <a:ext cx="48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ть, есть душа у каждого цветк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ой взгляд и стать у каждой есть травин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вет и рисунок венчика, листк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лепестка, и пестика с тычинко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каждого цветка есть жизни сро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ть время детства, юности, цветен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доношенья, старости порог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ть время сна и время пробуждень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8" descr="489332[1]"/>
          <p:cNvPicPr/>
          <p:nvPr/>
        </p:nvPicPr>
        <p:blipFill>
          <a:blip r:embed="rId1"/>
          <a:stretch/>
        </p:blipFill>
        <p:spPr>
          <a:xfrm>
            <a:off x="2340000" y="3500280"/>
            <a:ext cx="3724200" cy="3357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32000" y="-360"/>
            <a:ext cx="4211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фремов Матв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 МБУ№67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Середа Ири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надье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3743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шей стране проводится большая работа по охране растений. Редкие растения запрещено собирать. Под особой защитой они находятся в заповедниках. Много редких растений со всего мира выращивают в ботанических са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охранять надо не только редкие, но и другие, даже обычные виды растений. Каждый должен выполнять правила поведения в природе, больше сажать растений в городах и сёл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9" descr="i?id=340529821-46-72"/>
          <p:cNvPicPr/>
          <p:nvPr/>
        </p:nvPicPr>
        <p:blipFill>
          <a:blip r:embed="rId1"/>
          <a:stretch/>
        </p:blipFill>
        <p:spPr>
          <a:xfrm>
            <a:off x="7093080" y="2133720"/>
            <a:ext cx="1871640" cy="149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i?id=255364163-25-72"/>
          <p:cNvPicPr/>
          <p:nvPr/>
        </p:nvPicPr>
        <p:blipFill>
          <a:blip r:embed="rId2"/>
          <a:stretch/>
        </p:blipFill>
        <p:spPr>
          <a:xfrm>
            <a:off x="1908000" y="5433840"/>
            <a:ext cx="2016360" cy="14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забывать и о том, что в природе всё взаимосвязано. Поэтому охране растений помогает борьба с загрязнением воздуха и воды, охрана насекомых- опылителей, хищных насекомых, охрана на п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8" descr="i?id=62483354-16-72"/>
          <p:cNvPicPr/>
          <p:nvPr/>
        </p:nvPicPr>
        <p:blipFill>
          <a:blip r:embed="rId1"/>
          <a:stretch/>
        </p:blipFill>
        <p:spPr>
          <a:xfrm>
            <a:off x="395280" y="4365720"/>
            <a:ext cx="2951280" cy="215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f92030de344"/>
          <p:cNvPicPr/>
          <p:nvPr/>
        </p:nvPicPr>
        <p:blipFill>
          <a:blip r:embed="rId2"/>
          <a:stretch/>
        </p:blipFill>
        <p:spPr>
          <a:xfrm>
            <a:off x="3708360" y="4365720"/>
            <a:ext cx="2305080" cy="215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1037"/>
          <p:cNvPicPr/>
          <p:nvPr/>
        </p:nvPicPr>
        <p:blipFill>
          <a:blip r:embed="rId3"/>
          <a:stretch/>
        </p:blipFill>
        <p:spPr>
          <a:xfrm>
            <a:off x="6588000" y="4292640"/>
            <a:ext cx="2400480" cy="220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68360" y="259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руках человека красота и богатство родной земл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НИ ОБ ЭТОМ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0_61b9c_8f2651_XL[1]"/>
          <p:cNvPicPr/>
          <p:nvPr/>
        </p:nvPicPr>
        <p:blipFill>
          <a:blip r:embed="rId1"/>
          <a:stretch/>
        </p:blipFill>
        <p:spPr>
          <a:xfrm>
            <a:off x="2268360" y="3357720"/>
            <a:ext cx="4824720" cy="3500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регите эти земли, эти воды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же малую былиночку люб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регите всех зверят внутри природы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вайте лишь зверей внутри себя!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69249515_B59[1]"/>
          <p:cNvPicPr/>
          <p:nvPr/>
        </p:nvPicPr>
        <p:blipFill>
          <a:blip r:embed="rId1"/>
          <a:stretch/>
        </p:blipFill>
        <p:spPr>
          <a:xfrm>
            <a:off x="2340000" y="3333600"/>
            <a:ext cx="4511520" cy="352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хорошо, что на земле есть растен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выделяют в воздух кислород, необходимый для дыхания живых существ. Для животных растения- это и дом, и пища. Люди тоже питаются растениями и продуктами, полученными из них. Многие растения- лекарствен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ph4[1]"/>
          <p:cNvPicPr/>
          <p:nvPr/>
        </p:nvPicPr>
        <p:blipFill>
          <a:blip r:embed="rId1"/>
          <a:stretch/>
        </p:blipFill>
        <p:spPr>
          <a:xfrm>
            <a:off x="4572000" y="1700280"/>
            <a:ext cx="2521080" cy="344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окна хлопчатника и льна идут на изготовления тканей. Не могут обойтись люди без древесины. А сколько радостей доставляет нам красота растений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сожалению, хозяйственная деятельность людей изменяет условия жизни растений. К примеру, на месте леса люди строят завод или роют карьер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месте луга устраивают ферму. Много дикорастущих растений при этом погибает. Так постепенно человек наступает на природ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3" descr="clip_image002(20)[1]"/>
          <p:cNvPicPr/>
          <p:nvPr/>
        </p:nvPicPr>
        <p:blipFill>
          <a:blip r:embed="rId1"/>
          <a:stretch/>
        </p:blipFill>
        <p:spPr>
          <a:xfrm>
            <a:off x="4067280" y="1455840"/>
            <a:ext cx="5076720" cy="406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многие растения становятся редкими из-за того, что люди рвут их ради красивых цветков. Такие растения не дадут плодов и семян, а значит, и потомство. Сорванные растения быстро вянут, а в природе они еще долго могли бы радовать нас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0" descr="768375843[1]"/>
          <p:cNvPicPr/>
          <p:nvPr/>
        </p:nvPicPr>
        <p:blipFill>
          <a:blip r:embed="rId1"/>
          <a:stretch/>
        </p:blipFill>
        <p:spPr>
          <a:xfrm>
            <a:off x="539640" y="2133720"/>
            <a:ext cx="3600720" cy="275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3640" y="-5532840"/>
            <a:ext cx="266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8920" y="404640"/>
            <a:ext cx="793116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ие замечательные растения, например эдельвейс, водяной орех, находятся под угрозой исчезновения. Редкими стали кувшинка белая, волчье лыко, купальница, сон-трава. Мало осталось  возле больших городов ландышей, колокольчиков. Все эти растения нуждаются в охра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8" descr="сон-тр"/>
          <p:cNvPicPr/>
          <p:nvPr/>
        </p:nvPicPr>
        <p:blipFill>
          <a:blip r:embed="rId1"/>
          <a:stretch/>
        </p:blipFill>
        <p:spPr>
          <a:xfrm>
            <a:off x="4500720" y="42926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вол"/>
          <p:cNvPicPr/>
          <p:nvPr/>
        </p:nvPicPr>
        <p:blipFill>
          <a:blip r:embed="rId2"/>
          <a:stretch/>
        </p:blipFill>
        <p:spPr>
          <a:xfrm>
            <a:off x="826920" y="4292640"/>
            <a:ext cx="2808360" cy="186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4032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ьное богатство- лекарственные растения. Некоторые виды лекарственных растений из-за неумеренного сбора уже стали редкими. Это первоцвет, валериана, плаун. Их совсем не надо собирать. Лучше всего заготавливать подорожник, пастушью сумку, пижму, тысячелистник, птичью гречишк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8" descr="паст"/>
          <p:cNvPicPr/>
          <p:nvPr/>
        </p:nvPicPr>
        <p:blipFill>
          <a:blip r:embed="rId1"/>
          <a:stretch/>
        </p:blipFill>
        <p:spPr>
          <a:xfrm>
            <a:off x="5076720" y="1557360"/>
            <a:ext cx="3600720" cy="232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ервоцвет"/>
          <p:cNvPicPr/>
          <p:nvPr/>
        </p:nvPicPr>
        <p:blipFill>
          <a:blip r:embed="rId2"/>
          <a:stretch/>
        </p:blipFill>
        <p:spPr>
          <a:xfrm>
            <a:off x="5435640" y="4019400"/>
            <a:ext cx="3708360" cy="273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помни правил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ходясь в природе, нельзя срывать растения для букетов. Букеты можно составлять только из тех растений, которые выращены человек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ирать лекарственные растения можно только в тех местах, где их много. Часть растений нужно обязательно оставлять в приро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2916360" y="5143680"/>
            <a:ext cx="15714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6084720" y="5257800"/>
            <a:ext cx="15624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вает, что люди, даже не срывая растений, губят их. Причина этого 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таптыва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Идет человек по лесу и не замечает, как у него под ногами ломаются, вытаптываются в землю хрупкие травы. К тому же под ногами людей уплотняется почва. В такой почве остаётся мало воздуха, воды, и растения на ней жить не могут, они погиб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Картинка 8 из 12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675240"/>
            <a:ext cx="4103640" cy="3182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помни правил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ироде, особенно в лесу, нужно стараться ходить по тропинкам, чтобы растения не погибли от вытапты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581120" cy="174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21:16Z</dcterms:created>
  <dc:creator>Пользователь</dc:creator>
  <dc:description/>
  <dc:language>en-US</dc:language>
  <cp:lastModifiedBy>ирина</cp:lastModifiedBy>
  <dcterms:modified xsi:type="dcterms:W3CDTF">2012-11-08T07:37:55Z</dcterms:modified>
  <cp:revision>11</cp:revision>
  <dc:subject/>
  <dc:title>Слайд 1</dc:title>
</cp:coreProperties>
</file>