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1.jpeg" ContentType="image/jpeg"/>
  <Override PartName="/ppt/media/image19.gif" ContentType="image/gif"/>
  <Override PartName="/ppt/media/image1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5A58-B5EF-4FA3-BD1E-AC979D90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1B61-6B17-44C8-9672-198AAD3B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D953-86B9-4F85-B04E-F5E3CC76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4209-9ACA-4A9E-B5CC-F5819575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0804-3EDE-4499-9952-85574CFF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0ADC-0454-443A-90E0-95BDE06F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083F-D440-4AD1-AB67-9E22777F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4439-B219-4919-9359-7F3DB484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CBF9-BCEF-4842-8B17-3A977486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6247-001E-465F-96AE-A864A181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6FD1-31F1-4B49-886A-9E9F5A8B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2AB-75E1-46B9-8603-9B9968B5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F0E2-F387-4643-BFA3-2EA8066C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4E01-74A4-4AEA-AB77-B11F35BB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1166-00A1-482C-998D-3BD2AAF7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93A1-CFCB-4161-AC2A-7E5C07E4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AA74-0992-4501-AD06-86485FF7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3F0E-1DAF-4865-96D7-3FCC2448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6686-3A32-4FA1-86A2-9751C6C4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A503-79FD-468C-A8C2-845474E1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874-D498-4217-86FB-F6C4DD42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D7C2-5268-48C6-884E-E641C55B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B24-5412-4F54-91D4-6A2B9CAF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DA35-CDF5-492A-B989-334D0F57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B0FE-1AF7-4E36-84BC-7C46D71AF7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0F18-F911-4663-B9BE-3532991CF41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roza.ru/pics/2008/04/23/38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a26d18"/>
                </a:solidFill>
                <a:latin typeface="Times New Roman"/>
              </a:rPr>
              <a:t>Охрана растений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Rectangle 13"/>
          <p:cNvSpPr/>
          <p:nvPr/>
        </p:nvSpPr>
        <p:spPr>
          <a:xfrm rot="5806800">
            <a:off x="3994200" y="2397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1581120" y="5927760"/>
            <a:ext cx="756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0" y="360"/>
            <a:ext cx="488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ть, есть душа у каждого цветка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ой взгляд и стать у каждой есть травинк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вет и рисунок венчика, листка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лепестка, и пестика с тычинкой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 каждого цветка есть жизни срок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ть время детства, юности, цветенья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одоношенья, старости порог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ть время сна и время пробуждень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18" descr="489332[1]"/>
          <p:cNvPicPr/>
          <p:nvPr/>
        </p:nvPicPr>
        <p:blipFill>
          <a:blip r:embed="rId1"/>
          <a:stretch/>
        </p:blipFill>
        <p:spPr>
          <a:xfrm>
            <a:off x="2340000" y="3500280"/>
            <a:ext cx="3724200" cy="3357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932000" y="-360"/>
            <a:ext cx="42116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фремов Матве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ник МБУ№67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ь Середа Ири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ннадьев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3743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нашей стране проводится большая работа по охране растений. Редкие растения запрещено собирать. Под особой защитой они находятся в заповедниках. Много редких растений со всего мира выращивают в ботанических сад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ечно, охранять надо не только редкие, но и другие, даже обычные виды растений. Каждый должен выполнять правила поведения в природе, больше сажать растений в городах и сёл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9" descr="i?id=340529821-46-72"/>
          <p:cNvPicPr/>
          <p:nvPr/>
        </p:nvPicPr>
        <p:blipFill>
          <a:blip r:embed="rId1"/>
          <a:stretch/>
        </p:blipFill>
        <p:spPr>
          <a:xfrm>
            <a:off x="7093080" y="2133720"/>
            <a:ext cx="1871640" cy="1496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i?id=255364163-25-72"/>
          <p:cNvPicPr/>
          <p:nvPr/>
        </p:nvPicPr>
        <p:blipFill>
          <a:blip r:embed="rId2"/>
          <a:stretch/>
        </p:blipFill>
        <p:spPr>
          <a:xfrm>
            <a:off x="1908000" y="5433840"/>
            <a:ext cx="2016360" cy="1424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льзя забывать и о том, что в природе всё взаимосвязано. Поэтому охране растений помогает борьба с загрязнением воздуха и воды, охрана насекомых- опылителей, хищных насекомых, охрана на пти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8" descr="i?id=62483354-16-72"/>
          <p:cNvPicPr/>
          <p:nvPr/>
        </p:nvPicPr>
        <p:blipFill>
          <a:blip r:embed="rId1"/>
          <a:stretch/>
        </p:blipFill>
        <p:spPr>
          <a:xfrm>
            <a:off x="395280" y="4365720"/>
            <a:ext cx="2951280" cy="2158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3f92030de344"/>
          <p:cNvPicPr/>
          <p:nvPr/>
        </p:nvPicPr>
        <p:blipFill>
          <a:blip r:embed="rId2"/>
          <a:stretch/>
        </p:blipFill>
        <p:spPr>
          <a:xfrm>
            <a:off x="3708360" y="4365720"/>
            <a:ext cx="2305080" cy="2158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1037"/>
          <p:cNvPicPr/>
          <p:nvPr/>
        </p:nvPicPr>
        <p:blipFill>
          <a:blip r:embed="rId3"/>
          <a:stretch/>
        </p:blipFill>
        <p:spPr>
          <a:xfrm>
            <a:off x="6588000" y="4292640"/>
            <a:ext cx="2400480" cy="2203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68360" y="259920"/>
            <a:ext cx="82296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руках человека красота и богатство родной земл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МНИ ОБ ЭТОМ!!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6" descr="0_61b9c_8f2651_XL[1]"/>
          <p:cNvPicPr/>
          <p:nvPr/>
        </p:nvPicPr>
        <p:blipFill>
          <a:blip r:embed="rId1"/>
          <a:stretch/>
        </p:blipFill>
        <p:spPr>
          <a:xfrm>
            <a:off x="2268360" y="3357720"/>
            <a:ext cx="4824720" cy="3500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ерегите эти земли, эти воды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аже малую былиночку любя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ерегите всех зверят внутри природы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бивайте лишь зверей внутри себя!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6" descr="69249515_B59[1]"/>
          <p:cNvPicPr/>
          <p:nvPr/>
        </p:nvPicPr>
        <p:blipFill>
          <a:blip r:embed="rId1"/>
          <a:stretch/>
        </p:blipFill>
        <p:spPr>
          <a:xfrm>
            <a:off x="2340000" y="3333600"/>
            <a:ext cx="4511520" cy="3524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хорошо, что на земле есть растения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и выделяют в воздух кислород, необходимый для дыхания живых существ. Для животных растения- это и дом, и пища. Люди тоже питаются растениями и продуктами, полученными из них. Многие растения- лекарственны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8" descr="ph4[1]"/>
          <p:cNvPicPr/>
          <p:nvPr/>
        </p:nvPicPr>
        <p:blipFill>
          <a:blip r:embed="rId1"/>
          <a:stretch/>
        </p:blipFill>
        <p:spPr>
          <a:xfrm>
            <a:off x="4572000" y="1700280"/>
            <a:ext cx="2521080" cy="3440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40323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локна хлопчатника и льна идут на изготовления тканей. Не могут обойтись люди без древесины. А сколько радостей доставляет нам красота растений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 сожалению, хозяйственная деятельность людей изменяет условия жизни растений. К примеру, на месте леса люди строят завод или роют карьер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месте луга устраивают ферму. Много дикорастущих растений при этом погибает. Так постепенно человек наступает на природу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13" descr="clip_image002(20)[1]"/>
          <p:cNvPicPr/>
          <p:nvPr/>
        </p:nvPicPr>
        <p:blipFill>
          <a:blip r:embed="rId1"/>
          <a:stretch/>
        </p:blipFill>
        <p:spPr>
          <a:xfrm>
            <a:off x="4067280" y="1455840"/>
            <a:ext cx="5076720" cy="4060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чень многие растения становятся редкими из-за того, что люди рвут их ради красивых цветков. Такие растения не дадут плодов и семян, а значит, и потомство. Сорванные растения быстро вянут, а в природе они еще долго могли бы радовать нас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0" descr="768375843[1]"/>
          <p:cNvPicPr/>
          <p:nvPr/>
        </p:nvPicPr>
        <p:blipFill>
          <a:blip r:embed="rId1"/>
          <a:stretch/>
        </p:blipFill>
        <p:spPr>
          <a:xfrm>
            <a:off x="539640" y="2133720"/>
            <a:ext cx="3600720" cy="2752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3640" y="-5532840"/>
            <a:ext cx="2667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78920" y="404640"/>
            <a:ext cx="793116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ногие замечательные растения, например эдельвейс, водяной орех, находятся под угрозой исчезновения. Редкими стали кувшинка белая, волчье лыко, купальница, сон-трава. Мало осталось  возле больших городов ландышей, колокольчиков. Все эти растения нуждаются в охран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8" descr="сон-тр"/>
          <p:cNvPicPr/>
          <p:nvPr/>
        </p:nvPicPr>
        <p:blipFill>
          <a:blip r:embed="rId1"/>
          <a:stretch/>
        </p:blipFill>
        <p:spPr>
          <a:xfrm>
            <a:off x="4500720" y="429264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вол"/>
          <p:cNvPicPr/>
          <p:nvPr/>
        </p:nvPicPr>
        <p:blipFill>
          <a:blip r:embed="rId2"/>
          <a:stretch/>
        </p:blipFill>
        <p:spPr>
          <a:xfrm>
            <a:off x="826920" y="4292640"/>
            <a:ext cx="2808360" cy="1868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40323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мечательное богатство- лекарственные растения. Некоторые виды лекарственных растений из-за неумеренного сбора уже стали редкими. Это первоцвет, валериана, плаун. Их совсем не надо собирать. Лучше всего заготавливать подорожник, пастушью сумку, пижму, тысячелистник, птичью гречишк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8" descr="паст"/>
          <p:cNvPicPr/>
          <p:nvPr/>
        </p:nvPicPr>
        <p:blipFill>
          <a:blip r:embed="rId1"/>
          <a:stretch/>
        </p:blipFill>
        <p:spPr>
          <a:xfrm>
            <a:off x="5076720" y="1557360"/>
            <a:ext cx="3600720" cy="2322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первоцвет"/>
          <p:cNvPicPr/>
          <p:nvPr/>
        </p:nvPicPr>
        <p:blipFill>
          <a:blip r:embed="rId2"/>
          <a:stretch/>
        </p:blipFill>
        <p:spPr>
          <a:xfrm>
            <a:off x="5435640" y="4019400"/>
            <a:ext cx="3708360" cy="2733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Запомни правило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ходясь в природе, нельзя срывать растения для букетов. Букеты можно составлять только из тех растений, которые выращены человек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бирать лекарственные растения можно только в тех местах, где их много. Часть растений нужно обязательно оставлять в природ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1"/>
          <a:stretch/>
        </p:blipFill>
        <p:spPr>
          <a:xfrm>
            <a:off x="2916360" y="5143680"/>
            <a:ext cx="1571400" cy="1714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"/>
          <p:cNvPicPr/>
          <p:nvPr/>
        </p:nvPicPr>
        <p:blipFill>
          <a:blip r:embed="rId2"/>
          <a:stretch/>
        </p:blipFill>
        <p:spPr>
          <a:xfrm>
            <a:off x="6084720" y="5257800"/>
            <a:ext cx="1562400" cy="1600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ывает, что люди, даже не срывая растений, губят их. Причина этого 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таптыва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Идет человек по лесу и не замечает, как у него под ногами ломаются, вытаптываются в землю хрупкие травы. К тому же под ногами людей уплотняется почва. В такой почве остаётся мало воздуха, воды, и растения на ней жить не могут, они погибаю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7" descr="Картинка 8 из 124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675240"/>
            <a:ext cx="4103640" cy="3182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Запомни правило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природе, особенно в лесу, нужно стараться ходить по тропинкам, чтобы растения не погибли от вытапты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13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1581120" cy="1743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8:21:16Z</dcterms:created>
  <dc:creator>Пользователь</dc:creator>
  <dc:description/>
  <dc:language>en-US</dc:language>
  <cp:lastModifiedBy>ирина</cp:lastModifiedBy>
  <dcterms:modified xsi:type="dcterms:W3CDTF">2012-11-08T07:37:55Z</dcterms:modified>
  <cp:revision>11</cp:revision>
  <dc:subject/>
  <dc:title>Слайд 1</dc:title>
</cp:coreProperties>
</file>