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5.jpeg" ContentType="image/jpeg"/>
  <Override PartName="/ppt/media/image6.png" ContentType="image/png"/>
  <Override PartName="/ppt/media/image26.gif" ContentType="image/gif"/>
  <Override PartName="/ppt/media/image11.gif" ContentType="image/gif"/>
  <Override PartName="/ppt/media/image1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29.gif" ContentType="image/gif"/>
  <Override PartName="/ppt/media/image28.wmf" ContentType="image/x-wmf"/>
  <Override PartName="/ppt/media/image27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6BF-9D5C-4E52-9B07-7EC539E7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D23-E4E5-4612-85CE-84278D4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7DD-3353-4389-B3DA-122B576F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1D6-4CB1-4EB3-A3BA-A830D870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5B3-C986-482E-9DC6-9958A63E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0DE-E19B-4DDC-9230-328937E6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A23-51EA-4DE1-A1CB-F981B7A1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1FD5-80CA-4D32-9FA2-5D65CE7C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478-D9CB-4F56-A36F-BA9B273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E6CB-6EDC-4CE9-AE7A-20CA307F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FC3-6A93-4E14-B569-DB64467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19F-6493-4404-8115-4B18B3CF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AA38-C575-45D8-8CA4-BB04187B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20C5-B219-423A-9874-ECB8A536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F545-23DF-43CC-9BCC-FEE6E3D4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65F-6DD5-4BA4-81F3-BD001C00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8843-BEB3-4759-A64A-D85B2CC7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1C4B-FC19-4A39-8F91-D07735E9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C945-6DF5-4D61-A22F-F6C995BA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3B4F-E3A1-4F1A-9DD2-6A7D04BC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356A-9F72-4715-A1F8-5CBFEB8D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0431-3ABF-4CBD-919E-819161E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DFF-F85D-4C51-AE67-7DA8A769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8C52-4F63-4730-BA00-CEE3C29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D739-80A1-4BBF-AC46-4B288DD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F140-5B84-418D-B674-7432960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291D-DD90-49ED-A1B9-B6945862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2F77-3318-4AA2-9B8B-6EDD1F9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FFDF-A7DA-4777-A8DB-9B34078E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782B-E92F-4069-9E11-F23DE55B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20E2-E702-4A16-B28B-07207C8F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ED30-4CFF-4DBE-B313-CD166693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E6EC-0EC9-4234-9F1C-33C556F3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3BD-DBB6-44E2-BE4B-FDBBFD4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55F9-885D-4A4A-A7EC-D1B3591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2F5B-5F42-47AF-8074-3007765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E539-B165-4663-B1EF-75276A92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78A1-BE9C-45F1-83EF-C3633B7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28AE-046C-4E65-B794-7D2F022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F3FE-8760-45E6-B8DE-D857807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9D19-0A10-42BE-93CD-7419993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F68DC-2CC7-4C6B-AC94-C4CC852F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9164-58DF-4945-9E8D-5F620CD4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4978-D098-49F8-89B7-6C0AE193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AF9-EBEA-49A7-9789-6CEB10D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7FFEC-664C-47D9-AB93-F6CAB68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5521-35C5-42C4-88BD-98C207E6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E115-AF98-48EC-9B7B-AC717D1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8B13-4CC5-4115-9F18-11F5AB10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5DB9-4956-4741-9DBE-C2B2535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68A3-2524-451B-9A9E-86AE2C8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961A-D6A8-4D92-8CF7-D5FDCD0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D3A7E-183C-4011-97CA-F7247DA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8939-7006-416F-BB6D-56CBB48D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3D8A-E1D9-4894-B95E-B89F4B3B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242-1190-49B3-95D2-6920054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F4F3-5055-4D54-94F8-0851B484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999D-3DDB-43D0-A57E-0A75B308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75B9C-50DE-4583-94D5-AE092AE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D04D-5682-4743-A1E2-F61A169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44A0-1CD5-4E72-883E-EAC7699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62D4-1212-4135-9B51-8F24168A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5D6E-A747-48D7-A2A7-84824B4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91152-B33E-42D9-B14E-D095E15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94663-301A-47B8-ACCE-E6A33076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4407E-0E7B-4929-99A6-36B2C07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890-7043-44E0-AC7F-2B406C4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8AEC-9D59-4305-B1B0-2997C46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0BC4B-6093-4E4D-9A85-D49AFF5C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903D-9DFB-4A9C-B2B8-727EBA31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3A90-93C9-43C3-B5E8-1C2A2638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13BF-4248-4A61-9375-7383E477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E4EC-5073-4FFC-A119-3EF16333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D3E6-2207-4A7B-9F9F-9E23B93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EA29-04AB-40FD-A42A-D291E84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437F-E6E7-401E-95B8-16497A7B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4D44-FF71-433B-B2F3-1457BF1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15A-93F2-43A7-AFAB-36B2278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275F-8582-4845-BA52-52EBCE21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6332-98FC-4FF0-A5F3-9324A43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95F8-CAB1-4BC3-B2C2-FB5A3A7D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7278-4E12-4A8E-8685-DFA2610C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EAC06-5523-44C2-A909-AB93ACCA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85B-32C4-4570-AE8A-BE158538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6E3-D32C-4143-BABA-EFB8DCE5B1E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E51-9982-411D-933E-05DE8A41DEB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921D-132C-40B5-9089-0212FD131A7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930E-263D-49DA-9BF5-8866C61DA29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478-20E3-47A9-838E-9E45AD87CA3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7B4C-E8DC-4AD5-A03D-BD0347C5535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2AC-0CB9-4FCB-840C-CD1169BD398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hyperlink" Target="http://smiles.33b.ru/smile.104337.html" TargetMode="External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narod.ru/guestbook/?owner=12773677" TargetMode="Externa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71360" y="500040"/>
            <a:ext cx="807228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 вами громада –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Гогол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гоголь"/>
          <p:cNvPicPr/>
          <p:nvPr/>
        </p:nvPicPr>
        <p:blipFill>
          <a:blip r:embed="rId2"/>
          <a:stretch/>
        </p:blipFill>
        <p:spPr>
          <a:xfrm>
            <a:off x="1214280" y="3286080"/>
            <a:ext cx="2778120" cy="3357720"/>
          </a:xfrm>
          <a:prstGeom prst="rect">
            <a:avLst/>
          </a:prstGeom>
          <a:ln w="0">
            <a:noFill/>
          </a:ln>
        </p:spPr>
      </p:pic>
      <p:pic>
        <p:nvPicPr>
          <p:cNvPr id="321" name="004 Fanfar.mp3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54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434960" y="642600"/>
            <a:ext cx="749952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-У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-Э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Т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КАЗАТЬ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3"/>
          <p:cNvSpPr/>
          <p:nvPr/>
        </p:nvSpPr>
        <p:spPr>
          <a:xfrm>
            <a:off x="1143000" y="4857840"/>
            <a:ext cx="4143240" cy="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7"/>
          <p:cNvSpPr/>
          <p:nvPr/>
        </p:nvSpPr>
        <p:spPr>
          <a:xfrm>
            <a:off x="5715000" y="5929200"/>
            <a:ext cx="2928960" cy="180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1"/>
          <p:cNvSpPr/>
          <p:nvPr/>
        </p:nvSpPr>
        <p:spPr>
          <a:xfrm flipH="1" flipV="1">
            <a:off x="5071680" y="3714840"/>
            <a:ext cx="3143160" cy="144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9"/>
          <p:cNvSpPr/>
          <p:nvPr/>
        </p:nvSpPr>
        <p:spPr>
          <a:xfrm>
            <a:off x="5572080" y="1428840"/>
            <a:ext cx="1857600" cy="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H="1" flipV="1">
            <a:off x="1214280" y="928800"/>
            <a:ext cx="1928880" cy="144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33"/>
          <p:cNvSpPr/>
          <p:nvPr/>
        </p:nvSpPr>
        <p:spPr>
          <a:xfrm>
            <a:off x="1214280" y="2571840"/>
            <a:ext cx="2786400" cy="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71280" y="189000"/>
            <a:ext cx="7962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Жаргонизмы засоряют уже не только устную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о и  письменную реч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сети Интерн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вот такие перл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евед» -                прив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жунимагу» -        смеш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цтой» -                  скуш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ога букф неасилил» - слишком много текст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2286000" y="0"/>
            <a:ext cx="4500720" cy="4370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9144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285840"/>
            <a:ext cx="67802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онести должны через века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то, что нашей гордости основа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бережём богатство язык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истоту божественного слова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9" descr="001"/>
          <p:cNvPicPr/>
          <p:nvPr/>
        </p:nvPicPr>
        <p:blipFill>
          <a:blip r:embed="rId2"/>
          <a:stretch/>
        </p:blipFill>
        <p:spPr>
          <a:xfrm>
            <a:off x="500040" y="2214720"/>
            <a:ext cx="3782880" cy="43574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5143680" y="2357280"/>
            <a:ext cx="35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500040"/>
            <a:ext cx="7499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удем мы язык родной храни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ову сердца, а не по приказу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 можешь ты, мой друг, не быть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родной язык беречь обязан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6" descr="Толстой"/>
          <p:cNvPicPr/>
          <p:nvPr/>
        </p:nvPicPr>
        <p:blipFill>
          <a:blip r:embed="rId2"/>
          <a:stretch/>
        </p:blipFill>
        <p:spPr>
          <a:xfrm>
            <a:off x="571680" y="2286000"/>
            <a:ext cx="3733560" cy="4357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D:\РТН\Поэты и писатели\Тургенев\Портреты\Автор А.А. Харламов. И.С. Тургенев. Этюд. 1871.jpg"/>
          <p:cNvPicPr/>
          <p:nvPr/>
        </p:nvPicPr>
        <p:blipFill>
          <a:blip r:embed="rId3"/>
          <a:stretch/>
        </p:blipFill>
        <p:spPr>
          <a:xfrm>
            <a:off x="5500800" y="2300400"/>
            <a:ext cx="310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14240" y="571320"/>
            <a:ext cx="8220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89720" indent="-14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Беречь язык родной земли!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189720" indent="-146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0" y="1857240"/>
            <a:ext cx="4000680" cy="3473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1714680" y="4786200"/>
            <a:ext cx="1500120" cy="1793880"/>
          </a:xfrm>
          <a:prstGeom prst="rect">
            <a:avLst/>
          </a:prstGeom>
          <a:ln w="0">
            <a:noFill/>
          </a:ln>
        </p:spPr>
      </p:pic>
      <p:pic>
        <p:nvPicPr>
          <p:cNvPr id="377" name="15 Дорожка 15.wma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5"/>
          <a:stretch/>
        </p:blipFill>
        <p:spPr>
          <a:xfrm>
            <a:off x="4071960" y="2428920"/>
            <a:ext cx="5046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98916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и 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балаева Сабина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ейманов Вадим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анов Евгений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7 класса МО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ОШ с. Брыковк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ицкого  район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кина Наталья Анатольевна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4" descr="bd05012_"/>
          <p:cNvPicPr/>
          <p:nvPr/>
        </p:nvPicPr>
        <p:blipFill>
          <a:blip r:embed="rId2"/>
          <a:stretch/>
        </p:blipFill>
        <p:spPr>
          <a:xfrm>
            <a:off x="6215040" y="21420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7" descr="e5413e915f3dddb80ec369a286f956e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28800" y="4357800"/>
            <a:ext cx="217152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28440" y="213840"/>
            <a:ext cx="84344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дному         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рк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старевшему   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апоминающему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временному           в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разительн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вершенному   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расив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расноречивому        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иверсальн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ригинальному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узыкальному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дивительн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5929200" y="485784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Лучший из лучших – наш русский язык.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е потеряй наследство предков –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усский язык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3" descr="Рисунок9"/>
          <p:cNvPicPr/>
          <p:nvPr/>
        </p:nvPicPr>
        <p:blipFill>
          <a:blip r:embed="rId2"/>
          <a:stretch/>
        </p:blipFill>
        <p:spPr>
          <a:xfrm flipH="1">
            <a:off x="4687920" y="3716280"/>
            <a:ext cx="4098960" cy="277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др"/>
          <p:cNvPicPr/>
          <p:nvPr/>
        </p:nvPicPr>
        <p:blipFill>
          <a:blip r:embed="rId3"/>
          <a:stretch/>
        </p:blipFill>
        <p:spPr>
          <a:xfrm>
            <a:off x="1143000" y="4857840"/>
            <a:ext cx="34416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Овал 3"/>
          <p:cNvSpPr/>
          <p:nvPr/>
        </p:nvSpPr>
        <p:spPr>
          <a:xfrm>
            <a:off x="3429000" y="2286000"/>
            <a:ext cx="2786040" cy="164304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10"/>
          <p:cNvSpPr/>
          <p:nvPr/>
        </p:nvSpPr>
        <p:spPr>
          <a:xfrm>
            <a:off x="1143000" y="2071800"/>
            <a:ext cx="1785960" cy="127152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1"/>
          <p:cNvSpPr/>
          <p:nvPr/>
        </p:nvSpPr>
        <p:spPr>
          <a:xfrm>
            <a:off x="2143080" y="428760"/>
            <a:ext cx="2143080" cy="127152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в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2"/>
          <p:cNvSpPr/>
          <p:nvPr/>
        </p:nvSpPr>
        <p:spPr>
          <a:xfrm>
            <a:off x="5286240" y="428760"/>
            <a:ext cx="2143440" cy="127152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зите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15"/>
          <p:cNvSpPr/>
          <p:nvPr/>
        </p:nvSpPr>
        <p:spPr>
          <a:xfrm>
            <a:off x="3929040" y="5143680"/>
            <a:ext cx="2071800" cy="127152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16"/>
          <p:cNvSpPr/>
          <p:nvPr/>
        </p:nvSpPr>
        <p:spPr>
          <a:xfrm>
            <a:off x="6858000" y="2071800"/>
            <a:ext cx="1914480" cy="127152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17"/>
          <p:cNvSpPr/>
          <p:nvPr/>
        </p:nvSpPr>
        <p:spPr>
          <a:xfrm>
            <a:off x="6643800" y="40719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уш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18"/>
          <p:cNvSpPr/>
          <p:nvPr/>
        </p:nvSpPr>
        <p:spPr>
          <a:xfrm>
            <a:off x="1071720" y="4071960"/>
            <a:ext cx="2128680" cy="1357200"/>
          </a:xfrm>
          <a:prstGeom prst="roundRect">
            <a:avLst>
              <a:gd name="adj" fmla="val 16667"/>
            </a:avLst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местите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 flipV="1">
            <a:off x="5214960" y="1643040"/>
            <a:ext cx="214200" cy="7142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 flipH="1" flipV="1">
            <a:off x="3995640" y="1628640"/>
            <a:ext cx="216000" cy="7207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"/>
          <p:cNvSpPr/>
          <p:nvPr/>
        </p:nvSpPr>
        <p:spPr>
          <a:xfrm flipH="1" flipV="1">
            <a:off x="2857680" y="2785680"/>
            <a:ext cx="574560" cy="1429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4"/>
          <p:cNvSpPr/>
          <p:nvPr/>
        </p:nvSpPr>
        <p:spPr>
          <a:xfrm flipV="1">
            <a:off x="6227640" y="2785680"/>
            <a:ext cx="563760" cy="21132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5"/>
          <p:cNvSpPr/>
          <p:nvPr/>
        </p:nvSpPr>
        <p:spPr>
          <a:xfrm flipH="1">
            <a:off x="3058920" y="3716280"/>
            <a:ext cx="936360" cy="43344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5867280" y="3645000"/>
            <a:ext cx="649440" cy="57600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4857840" y="4000680"/>
            <a:ext cx="0" cy="1079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357440" y="1214280"/>
            <a:ext cx="47862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наш славный и могучий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жденья знаем мы его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наш русский -самый лучший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ее нету ниче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14" descr="12"/>
          <p:cNvPicPr/>
          <p:nvPr/>
        </p:nvPicPr>
        <p:blipFill>
          <a:blip r:embed="rId2"/>
          <a:stretch/>
        </p:blipFill>
        <p:spPr>
          <a:xfrm>
            <a:off x="0" y="214200"/>
            <a:ext cx="4683240" cy="5786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344" name="Picture 28" descr=" Гостевая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15080" y="5357880"/>
            <a:ext cx="2087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428760"/>
            <a:ext cx="842976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свой язык родной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ить нам неразлучно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меняю на другой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амый благозвучны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4071960" cy="3167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3"/>
          <a:stretch/>
        </p:blipFill>
        <p:spPr>
          <a:xfrm>
            <a:off x="6000840" y="4357800"/>
            <a:ext cx="292896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56880" y="3643200"/>
            <a:ext cx="707724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жим мы в школу как всегд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язык мы будем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когда, и никогд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авил не забудем!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143000" y="214200"/>
            <a:ext cx="7429680" cy="3760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6715080" y="4786200"/>
            <a:ext cx="20001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slide0005_image003"/>
          <p:cNvPicPr/>
          <p:nvPr/>
        </p:nvPicPr>
        <p:blipFill>
          <a:blip r:embed="rId2"/>
          <a:stretch/>
        </p:blipFill>
        <p:spPr>
          <a:xfrm>
            <a:off x="357120" y="214200"/>
            <a:ext cx="4500720" cy="6018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Кир"/>
          <p:cNvPicPr/>
          <p:nvPr/>
        </p:nvPicPr>
        <p:blipFill>
          <a:blip r:embed="rId3"/>
          <a:stretch/>
        </p:blipFill>
        <p:spPr>
          <a:xfrm>
            <a:off x="5214960" y="357120"/>
            <a:ext cx="3598920" cy="480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4"/>
          <a:stretch/>
        </p:blipFill>
        <p:spPr>
          <a:xfrm>
            <a:off x="6643800" y="5214960"/>
            <a:ext cx="1815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71360" y="428400"/>
            <a:ext cx="7862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                                   Прикол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шка                           Учил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ик                                     Комп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овка                               Предк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азарь                              Не гони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януться                          Оторватьс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убиться                             Похиля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зжать                               Прикин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                                     Стрёмн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мысле                               Клев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3"/>
          <p:cNvSpPr/>
          <p:nvPr/>
        </p:nvSpPr>
        <p:spPr>
          <a:xfrm flipH="1" flipV="1">
            <a:off x="571320" y="357120"/>
            <a:ext cx="8072280" cy="585792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7"/>
          <p:cNvSpPr/>
          <p:nvPr/>
        </p:nvSpPr>
        <p:spPr>
          <a:xfrm flipV="1">
            <a:off x="1000080" y="499680"/>
            <a:ext cx="7072200" cy="5715000"/>
          </a:xfrm>
          <a:prstGeom prst="line">
            <a:avLst/>
          </a:prstGeom>
          <a:ln w="38160">
            <a:solidFill>
              <a:srgbClr val="dd0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40:04Z</dcterms:created>
  <dc:creator>Admin</dc:creator>
  <dc:description/>
  <dc:language>en-US</dc:language>
  <cp:lastModifiedBy>1</cp:lastModifiedBy>
  <dcterms:modified xsi:type="dcterms:W3CDTF">2011-04-22T09:58:26Z</dcterms:modified>
  <cp:revision>110</cp:revision>
  <dc:subject/>
  <dc:title>11 марта 2011 года  на базе МОУ «СОШ р.п. Духовницкое» состоится районный праздник  русского языка и литературы Участники  праздника –  учащиеся 5 - 11 классов общеобразовательных учреждений  Духовницкого района.  Начало  в 10.00 </dc:title>
</cp:coreProperties>
</file>