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F9A-2CD9-495D-B728-4700CFD0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C05-6D67-4AD2-8789-67E4DB2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04D-48F5-4F8B-98C1-5E761679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82A-615F-416F-9206-1AD17ECE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70C-9A03-482B-9035-0EBDBDED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883-FB73-4207-8308-087422E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B8A-0258-4306-90DE-752A828F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F68-1628-4FDF-82C1-480E7695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1AD-027B-498D-B95D-1DBB1C17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AA8-FB67-4446-8155-B2CDAB5C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733-09CB-401D-9610-70AAA99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3B0-E298-4A76-90AC-BC47494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ADE3-E31A-4988-B9CC-290350D4E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Размножение и развитие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рок-презентация по окружающему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итель: Макшакова Т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ицей  № 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ара,живая природа,животные,пары,попугаи,природа,птицы,фотографии"/>
          <p:cNvPicPr/>
          <p:nvPr/>
        </p:nvPicPr>
        <p:blipFill>
          <a:blip r:embed="rId1"/>
          <a:stretch/>
        </p:blipFill>
        <p:spPr>
          <a:xfrm>
            <a:off x="-396720" y="-34844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выражение лица,выражения,детеныши животных,детеныши зверей,дикие животные,живая природа,животные,лица,макаки,макак-резус,малютки,млекопитающие,обезьяны,обнимать,объятия,приматы,природа,резус,фотографии"/>
          <p:cNvPicPr/>
          <p:nvPr/>
        </p:nvPicPr>
        <p:blipFill>
          <a:blip r:embed="rId2"/>
          <a:stretch/>
        </p:blipFill>
        <p:spPr>
          <a:xfrm>
            <a:off x="2195640" y="-3411360"/>
            <a:ext cx="3095640" cy="30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otolia,барашки,детеныши животных,животные,лица,луга,овцы,поля,сельское хозяйство,трава,фермы,хорошенький"/>
          <p:cNvPicPr/>
          <p:nvPr/>
        </p:nvPicPr>
        <p:blipFill>
          <a:blip r:embed="rId3"/>
          <a:stretch/>
        </p:blipFill>
        <p:spPr>
          <a:xfrm>
            <a:off x="5580000" y="-35560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Размножение  звер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ождение детеныша- взрослое живо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африканские слоны,животные,млекопитающие,природа,слоны,фотографии,хоботы"/>
          <p:cNvPicPr/>
          <p:nvPr/>
        </p:nvPicPr>
        <p:blipFill>
          <a:blip r:embed="rId2"/>
          <a:stretch/>
        </p:blipFill>
        <p:spPr>
          <a:xfrm>
            <a:off x="108000" y="2060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07960" y="3341520"/>
            <a:ext cx="136080" cy="174600"/>
          </a:xfrm>
          <a:prstGeom prst="rect">
            <a:avLst/>
          </a:prstGeom>
          <a:solidFill>
            <a:srgbClr val="dd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-100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5640" y="3341520"/>
            <a:ext cx="71280" cy="174960"/>
          </a:xfrm>
          <a:prstGeom prst="rect">
            <a:avLst/>
          </a:prstGeom>
          <a:solidFill>
            <a:srgbClr val="dd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-1000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бамбук,вымирающие виды,вымирающие животные,два медведя,детеныши медведей,еда,живая природа,животные,зима,листья,медведи,медвежата,млекопитающие,панды,пары,природа,растения,снега,снегопады,фотографические снимки"/>
          <p:cNvPicPr/>
          <p:nvPr/>
        </p:nvPicPr>
        <p:blipFill>
          <a:blip r:embed="rId3"/>
          <a:stretch/>
        </p:blipFill>
        <p:spPr>
          <a:xfrm>
            <a:off x="3132000" y="2492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животные,меха,млекопитающие,морды,обезьяны,приматы,природа,фотографии,Шига,Япония,японский"/>
          <p:cNvPicPr/>
          <p:nvPr/>
        </p:nvPicPr>
        <p:blipFill>
          <a:blip r:embed="rId4"/>
          <a:stretch/>
        </p:blipFill>
        <p:spPr>
          <a:xfrm>
            <a:off x="6048360" y="3500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Назови тип размножения и развития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птенчики,чирикающие воробьи,Fotolia,расти,природа,гнезда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живая природа,животные,игуана,Канкун,кресла,Латинская Америка,Мексика,морские виды,пляжи,пляжные кресла,природа,рептилии,Северная Америка,скалы,фотографии,ящерицы"/>
          <p:cNvPicPr/>
          <p:nvPr/>
        </p:nvPicPr>
        <p:blipFill>
          <a:blip r:embed="rId2"/>
          <a:stretch/>
        </p:blipFill>
        <p:spPr>
          <a:xfrm>
            <a:off x="1042920" y="39337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iStockphoto,гривы,дикие кошки,животные,кошки,львы,пары"/>
          <p:cNvPicPr/>
          <p:nvPr/>
        </p:nvPicPr>
        <p:blipFill>
          <a:blip r:embed="rId3"/>
          <a:stretch/>
        </p:blipFill>
        <p:spPr>
          <a:xfrm>
            <a:off x="4356000" y="1413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Fotolia,антенны,бабочки,весна,глаза,дворы,есть,жуки,кормление,крупный план,крылатый,крылья,лето,макро,насекомые,природа,сады"/>
          <p:cNvPicPr/>
          <p:nvPr/>
        </p:nvPicPr>
        <p:blipFill>
          <a:blip r:embed="rId4"/>
          <a:stretch/>
        </p:blipFill>
        <p:spPr>
          <a:xfrm>
            <a:off x="5508720" y="4005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существа,дельфины,обитатели моря,Fotolia,лагуны,моря,сообразительный,улыбки,плавание,дружелюбный,млекопитающие"/>
          <p:cNvPicPr/>
          <p:nvPr/>
        </p:nvPicPr>
        <p:blipFill>
          <a:blip r:embed="rId1"/>
          <a:stretch/>
        </p:blipFill>
        <p:spPr>
          <a:xfrm>
            <a:off x="179280" y="1159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амфибии,глаза,животные,камышовая жаба,камышовая лягушка,лягушки,природа,фотографии"/>
          <p:cNvPicPr/>
          <p:nvPr/>
        </p:nvPicPr>
        <p:blipFill>
          <a:blip r:embed="rId2"/>
          <a:stretch/>
        </p:blipFill>
        <p:spPr>
          <a:xfrm>
            <a:off x="3203640" y="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жуки,Fotolia,сады,насекомые,природа,дикая природа,дворы"/>
          <p:cNvPicPr/>
          <p:nvPr/>
        </p:nvPicPr>
        <p:blipFill>
          <a:blip r:embed="rId3"/>
          <a:stretch/>
        </p:blipFill>
        <p:spPr>
          <a:xfrm>
            <a:off x="179280" y="2997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живая природа,животные,колибри,колибри с изумрудной грудкой,Латинская Америка,Мехико,оперение,природа,птицы,Северная Америка,фотографии"/>
          <p:cNvPicPr/>
          <p:nvPr/>
        </p:nvPicPr>
        <p:blipFill>
          <a:blip r:embed="rId4"/>
          <a:stretch/>
        </p:blipFill>
        <p:spPr>
          <a:xfrm>
            <a:off x="6048360" y="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животные,природа,птицы,расплывчатое,расплывчатость,стаи,страусы,фотографии"/>
          <p:cNvPicPr/>
          <p:nvPr/>
        </p:nvPicPr>
        <p:blipFill>
          <a:blip r:embed="rId5"/>
          <a:stretch/>
        </p:blipFill>
        <p:spPr>
          <a:xfrm>
            <a:off x="3059280" y="2852640"/>
            <a:ext cx="3095280" cy="3095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горилла,живая природа,животные,приматы,природа,фотографии"/>
          <p:cNvPicPr/>
          <p:nvPr/>
        </p:nvPicPr>
        <p:blipFill>
          <a:blip r:embed="rId6"/>
          <a:stretch/>
        </p:blipFill>
        <p:spPr>
          <a:xfrm>
            <a:off x="6156360" y="2997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Найди лишнее животно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птицы,перья,Fotolia,лебеди,водоплавающие,белый,природа,озера,грациозный"/>
          <p:cNvPicPr/>
          <p:nvPr/>
        </p:nvPicPr>
        <p:blipFill>
          <a:blip r:embed="rId1"/>
          <a:stretch/>
        </p:blipFill>
        <p:spPr>
          <a:xfrm>
            <a:off x="250920" y="11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iStockphoto,живая природа,животные,зоопарки,клювы,крылья,перья,прибытия,природа,пристани,птицы,стервятники,хищная птица"/>
          <p:cNvPicPr/>
          <p:nvPr/>
        </p:nvPicPr>
        <p:blipFill>
          <a:blip r:embed="rId2"/>
          <a:stretch/>
        </p:blipFill>
        <p:spPr>
          <a:xfrm>
            <a:off x="4356000" y="119700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белые цапли,животные,фотографии"/>
          <p:cNvPicPr/>
          <p:nvPr/>
        </p:nvPicPr>
        <p:blipFill>
          <a:blip r:embed="rId3"/>
          <a:stretch/>
        </p:blipFill>
        <p:spPr>
          <a:xfrm>
            <a:off x="4932360" y="3762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iStockphoto,Антарктида,Антарктика,животные,зевать,млекопитающие,морские животные,морские млекопитающие,морской слон,природа,проблемы экологии,сохранение,тюлени"/>
          <p:cNvPicPr/>
          <p:nvPr/>
        </p:nvPicPr>
        <p:blipFill>
          <a:blip r:embed="rId4"/>
          <a:stretch/>
        </p:blipFill>
        <p:spPr>
          <a:xfrm>
            <a:off x="125892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Найди лишнее живо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животные,морские животные,природа,рыбы,Фотографии"/>
          <p:cNvPicPr/>
          <p:nvPr/>
        </p:nvPicPr>
        <p:blipFill>
          <a:blip r:embed="rId1"/>
          <a:stretch/>
        </p:blipFill>
        <p:spPr>
          <a:xfrm>
            <a:off x="0" y="1125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водные животные,живая природа,животные,морские животные,природа,рты,рыбы,фотографии"/>
          <p:cNvPicPr/>
          <p:nvPr/>
        </p:nvPicPr>
        <p:blipFill>
          <a:blip r:embed="rId2"/>
          <a:stretch/>
        </p:blipFill>
        <p:spPr>
          <a:xfrm>
            <a:off x="3059280" y="1125360"/>
            <a:ext cx="3095280" cy="309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белухи,вода,водяные животные,дельфины,животные,млекопитающие,морские животные,рыбы,фотографии"/>
          <p:cNvPicPr/>
          <p:nvPr/>
        </p:nvPicPr>
        <p:blipFill>
          <a:blip r:embed="rId3"/>
          <a:stretch/>
        </p:blipFill>
        <p:spPr>
          <a:xfrm>
            <a:off x="0" y="3762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водные животные,животные,лирохвост,природа,рыбы,фотографии"/>
          <p:cNvPicPr/>
          <p:nvPr/>
        </p:nvPicPr>
        <p:blipFill>
          <a:blip r:embed="rId4"/>
          <a:stretch/>
        </p:blipFill>
        <p:spPr>
          <a:xfrm>
            <a:off x="6048360" y="1052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животные,коралловая рыба,подводный мир,природа,рыбы,треска,фотографии"/>
          <p:cNvPicPr/>
          <p:nvPr/>
        </p:nvPicPr>
        <p:blipFill>
          <a:blip r:embed="rId5"/>
          <a:stretch/>
        </p:blipFill>
        <p:spPr>
          <a:xfrm>
            <a:off x="3059280" y="3762360"/>
            <a:ext cx="3095280" cy="309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акулы,водяные животные,животные,морская жизнь,подводный мир,природа,рыбы,фотографии,хищники"/>
          <p:cNvPicPr/>
          <p:nvPr/>
        </p:nvPicPr>
        <p:blipFill>
          <a:blip r:embed="rId6"/>
          <a:stretch/>
        </p:blipFill>
        <p:spPr>
          <a:xfrm>
            <a:off x="604836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Найди лишнее животн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животные,млекопитающие,природа,тюлени,фотографии"/>
          <p:cNvPicPr/>
          <p:nvPr/>
        </p:nvPicPr>
        <p:blipFill>
          <a:blip r:embed="rId1"/>
          <a:stretch/>
        </p:blipFill>
        <p:spPr>
          <a:xfrm>
            <a:off x="250920" y="11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животные,млекопитающие,рыси,фотографии"/>
          <p:cNvPicPr/>
          <p:nvPr/>
        </p:nvPicPr>
        <p:blipFill>
          <a:blip r:embed="rId2"/>
          <a:stretch/>
        </p:blipFill>
        <p:spPr>
          <a:xfrm>
            <a:off x="3203640" y="11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животные,обезьяны,природа,фотографии"/>
          <p:cNvPicPr/>
          <p:nvPr/>
        </p:nvPicPr>
        <p:blipFill>
          <a:blip r:embed="rId3"/>
          <a:stretch/>
        </p:blipFill>
        <p:spPr>
          <a:xfrm>
            <a:off x="5796000" y="11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животные,овца,природа,фотографии,ягнята"/>
          <p:cNvPicPr/>
          <p:nvPr/>
        </p:nvPicPr>
        <p:blipFill>
          <a:blip r:embed="rId4"/>
          <a:stretch/>
        </p:blipFill>
        <p:spPr>
          <a:xfrm>
            <a:off x="0" y="3645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животные,млекопитающие,фотографии"/>
          <p:cNvPicPr/>
          <p:nvPr/>
        </p:nvPicPr>
        <p:blipFill>
          <a:blip r:embed="rId5"/>
          <a:stretch/>
        </p:blipFill>
        <p:spPr>
          <a:xfrm>
            <a:off x="5796000" y="3573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животные,змея,рептилии,фотографии"/>
          <p:cNvPicPr/>
          <p:nvPr/>
        </p:nvPicPr>
        <p:blipFill>
          <a:blip r:embed="rId6"/>
          <a:stretch/>
        </p:blipFill>
        <p:spPr>
          <a:xfrm>
            <a:off x="3059280" y="3429000"/>
            <a:ext cx="3095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ля нас все змеи одинаковы. Но между ними есть различия. Оно состоит в том ,что змеи по-разному размножаются. Гремучие змеи ,медноголовки ,водяные змеи не откладывают яйца ,а рождают живых детенышей. Известны змеи ,которые могут родить за раз до 75 детен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ругие змеи откладывают яйца .Индий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ий питон может отложить  до 107 яиц. Но кто же заботится о потомстве ,если в кладке более 100 яиц? Да никто! Все маленькие змеи способны позаботится о себе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Тест по теме «Размножение и развитие животны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Кто рождает живых детенышей и выкармливает их мол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Какое слово пропущено: икринка-……- ры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мал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голова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Какое слово пропущено: яйцо-личинка-……-бабочк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куко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пт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кр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Тест(продолж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узнечик- насекомое. Проходит ли 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своем развитии стадию кукол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 всех насекомых бывают кукол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 кузнечиков нет стадии кукол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из яйца вылупляется взрослое насеко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какое время года охота и рыбная ловля запреще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в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ос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зи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Попробуй ответ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то три раза род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то два раза род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колько этапов развития у насеком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колько этапов развития у з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a50021"/>
                </a:solidFill>
                <a:latin typeface="Arial"/>
              </a:rPr>
              <a:t>Ц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знакомиться с размножением и развитием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звивать мыш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учиться сравнивать, обоб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оспитывать бережное отношение к живо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Arial"/>
              </a:rPr>
              <a:t>Подготовься к тес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животные,мультфильмы,образы,существа,улитки"/>
          <p:cNvPicPr/>
          <p:nvPr/>
        </p:nvPicPr>
        <p:blipFill>
          <a:blip r:embed="rId2"/>
          <a:stretch/>
        </p:blipFill>
        <p:spPr>
          <a:xfrm>
            <a:off x="2124000" y="3573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животные,мультфильмы,образы,рептилии,существа,черепахи,шляпы"/>
          <p:cNvPicPr/>
          <p:nvPr/>
        </p:nvPicPr>
        <p:blipFill>
          <a:blip r:embed="rId3"/>
          <a:stretch/>
        </p:blipFill>
        <p:spPr>
          <a:xfrm>
            <a:off x="4284720" y="1125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a50021"/>
                </a:solidFill>
                <a:latin typeface="Arial"/>
              </a:rPr>
              <a:t>Отгадайте загад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Расту червя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Питаюсь лист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Потом засып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Себя обмот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Не ем ,не гляж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Неподвижно виш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Но теплой в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Я вновь ожив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И ,как птичка, порх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5211720" y="244620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Давайте попробуем с помощью загадки составить схему развития баб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йцо -личинка- куколка -ба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гусеница королевского мотылька,гусеницы,гусеницы королевского мотылька,животные,королевские мотыльки,королевский мотылек,листья,мотыльки,насекомые,природа,растения,фотографии"/>
          <p:cNvPicPr/>
          <p:nvPr/>
        </p:nvPicPr>
        <p:blipFill>
          <a:blip r:embed="rId1"/>
          <a:stretch/>
        </p:blipFill>
        <p:spPr>
          <a:xfrm>
            <a:off x="611280" y="2852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бабочка-монарх,бабочки,данаида,живая природа,животные,жуки,монархи,насекомые,растения,фотографии,хризантемы,цветы"/>
          <p:cNvPicPr/>
          <p:nvPr/>
        </p:nvPicPr>
        <p:blipFill>
          <a:blip r:embed="rId2"/>
          <a:stretch/>
        </p:blipFill>
        <p:spPr>
          <a:xfrm>
            <a:off x="485928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Не у всех насекомых  бывают ку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пример, нет куколок  у  кузнеч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Схема развития кузнеч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Яйцо -личинка, похожая на  кузнечика- взрослый кузнечик 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антенны,животные,кузнечики,листья,насекомые,природа,растения,фотографии"/>
          <p:cNvPicPr/>
          <p:nvPr/>
        </p:nvPicPr>
        <p:blipFill>
          <a:blip r:embed="rId1"/>
          <a:stretch/>
        </p:blipFill>
        <p:spPr>
          <a:xfrm>
            <a:off x="5651640" y="3573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Развитие земно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хема развития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Икринка-головастик-ляг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Fotolia,амфибии,глаза,домашние животные,животные,зеленая древесная лягушка,квакши,лягушки"/>
          <p:cNvPicPr/>
          <p:nvPr/>
        </p:nvPicPr>
        <p:blipFill>
          <a:blip r:embed="rId1"/>
          <a:stretch/>
        </p:blipFill>
        <p:spPr>
          <a:xfrm>
            <a:off x="324000" y="3429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iStockphoto,вырубка лесов,День Земли,дождевые леса,живая природа,животные,земля,лягушки,охрана окружающей среды,природа,проблемы экологии,сохранение,экология"/>
          <p:cNvPicPr/>
          <p:nvPr/>
        </p:nvPicPr>
        <p:blipFill>
          <a:blip r:embed="rId2"/>
          <a:stretch/>
        </p:blipFill>
        <p:spPr>
          <a:xfrm>
            <a:off x="5435640" y="3357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Схема развития ры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кринка –малек- взрослая ры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Stockphoto,вода,всплески,выпрыгивать,золотые рыбки,плескаться,природа,прыгать,прыжки,рыбы"/>
          <p:cNvPicPr/>
          <p:nvPr/>
        </p:nvPicPr>
        <p:blipFill>
          <a:blip r:embed="rId1"/>
          <a:stretch/>
        </p:blipFill>
        <p:spPr>
          <a:xfrm>
            <a:off x="179280" y="3284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акулы,водяные животные,животные,морская жизнь,подводный мир,природа,рыбы,фотографии,хищники"/>
          <p:cNvPicPr/>
          <p:nvPr/>
        </p:nvPicPr>
        <p:blipFill>
          <a:blip r:embed="rId2"/>
          <a:stretch/>
        </p:blipFill>
        <p:spPr>
          <a:xfrm>
            <a:off x="2627280" y="2421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водные животные,живая природа,животные,кораллы,природа,фотографии"/>
          <p:cNvPicPr/>
          <p:nvPr/>
        </p:nvPicPr>
        <p:blipFill>
          <a:blip r:embed="rId3"/>
          <a:stretch/>
        </p:blipFill>
        <p:spPr>
          <a:xfrm>
            <a:off x="5796000" y="3284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Схема развития пресмыкаю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Яйцо –детеныш -взрослая особ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животные,природа,рептилии,силуэты,фотографии,хамелеоны,ящерицы"/>
          <p:cNvPicPr/>
          <p:nvPr/>
        </p:nvPicPr>
        <p:blipFill>
          <a:blip r:embed="rId1"/>
          <a:stretch/>
        </p:blipFill>
        <p:spPr>
          <a:xfrm>
            <a:off x="0" y="3068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аллигаторы,болота,воды,животные,природа,пруды,птицы,рептилии,фотографии,цапли"/>
          <p:cNvPicPr/>
          <p:nvPr/>
        </p:nvPicPr>
        <p:blipFill>
          <a:blip r:embed="rId2"/>
          <a:stretch/>
        </p:blipFill>
        <p:spPr>
          <a:xfrm>
            <a:off x="2556000" y="306864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животные,крокодилы,фотографии"/>
          <p:cNvPicPr/>
          <p:nvPr/>
        </p:nvPicPr>
        <p:blipFill>
          <a:blip r:embed="rId3"/>
          <a:stretch/>
        </p:blipFill>
        <p:spPr>
          <a:xfrm>
            <a:off x="5651640" y="2276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животные,змеи,природа,рептилии,спирали,фотографии,чаши весов"/>
          <p:cNvPicPr/>
          <p:nvPr/>
        </p:nvPicPr>
        <p:blipFill>
          <a:blip r:embed="rId4"/>
          <a:stretch/>
        </p:blipFill>
        <p:spPr>
          <a:xfrm>
            <a:off x="0" y="77500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a50021"/>
                </a:solidFill>
                <a:latin typeface="Arial"/>
              </a:rPr>
              <a:t>Размножение и развитие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Яйцо-птенец- взрослая пт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животные,куры,природа,птенцы,птицы,фотографии"/>
          <p:cNvPicPr/>
          <p:nvPr/>
        </p:nvPicPr>
        <p:blipFill>
          <a:blip r:embed="rId2"/>
          <a:stretch/>
        </p:blipFill>
        <p:spPr>
          <a:xfrm>
            <a:off x="6048360" y="21337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solidFill>
            <a:srgbClr val="dd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360" bIns="-4294866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solidFill>
            <a:srgbClr val="dd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360" bIns="-4294866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дрозд-пересмешник,дрозды-пересмешники,животные,клювы,пересмешники,природа,птицы,северные дрозды-пересмешники,северные пересмешники,северный дрозд-пересмешник,северный пересмешник,фотографии"/>
          <p:cNvPicPr/>
          <p:nvPr/>
        </p:nvPicPr>
        <p:blipFill>
          <a:blip r:embed="rId3"/>
          <a:stretch/>
        </p:blipFill>
        <p:spPr>
          <a:xfrm>
            <a:off x="3276720" y="376236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гнезда,животные,природа,птицы,пятнистый,пятнышки,фотографии,яйца"/>
          <p:cNvPicPr/>
          <p:nvPr/>
        </p:nvPicPr>
        <p:blipFill>
          <a:blip r:embed="rId4"/>
          <a:stretch/>
        </p:blipFill>
        <p:spPr>
          <a:xfrm>
            <a:off x="179280" y="3762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7:41:47Z</dcterms:created>
  <dc:creator>Татьяна</dc:creator>
  <dc:description/>
  <dc:language>en-US</dc:language>
  <cp:lastModifiedBy>Татьяна</cp:lastModifiedBy>
  <dcterms:modified xsi:type="dcterms:W3CDTF">2012-11-27T17:37:02Z</dcterms:modified>
  <cp:revision>22</cp:revision>
  <dc:subject/>
  <dc:title>Размножение и развитие животных</dc:title>
</cp:coreProperties>
</file>