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180-10E4-4ABA-9955-9E6DAF19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2BB-8CC3-4748-B811-2079A6D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71E-4565-4284-86DC-7B688417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B4C-6DCB-407D-BD84-0C97A4B5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3C76-3CD8-448E-9FEF-534996DB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8E62-9138-43E2-AF54-D0B996F1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B8E8-FDFD-4BA3-8655-0AE7205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1007-6CB8-4237-BD52-6DFB870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C2F-EE4F-46F2-A5DB-AB16501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5A80-573A-43E8-AAE6-DA489E0E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39E2-D7A5-4D02-AF2E-E1E4F581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5F4-1DA9-47A9-8E12-E40030E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8DF0-DF61-4C79-8EF2-85709AD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69F-7250-4D4F-AC13-4E6A9F4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F840-8FB4-4CD6-9939-F4BA023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9FB7-4E4F-4910-A011-AC96E9D3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77DB-CB5D-4D79-A105-63D0E84F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2AD-218B-4198-9E72-E87C388D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FF7-6228-4FA2-B804-FF1054D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20F-D278-4BD5-94AD-2E6D29F8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F01-80BD-4AB6-AA91-296801E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789-5728-4F64-8B65-F6ABE94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EAC-CC4A-4A99-A70C-9685BBF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E8E-650B-4247-8515-DDF711E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E295-49F8-4B46-B127-7039424580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BA03-94CB-4E4F-AF83-78B6CD4469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ПОЛИТИЧЕСКАЯ ДЕЯТЕЛЬНОСТЬ В ИЗБИРАТЕЛЬНОЙ СИСТЕМ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тегрированный урок обществознания и истории в 10 класс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итель Попова Александра Валер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БОУ СОШ п. Солидар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мотреть понятия «политика», «политическая деятельность», «избирательное право», «политический плюрализм»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крыть особенности политической деятельности субъектов избирательной системы – кандидатов для участия в голосовании и граждан; познакомить обучающихся с историей выборов, становлением отечественной системы многопартий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знакомить с работой территориальной избирательной комиссии Елецкого муниципального райо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вать у обучающихся умения осуществлять комплексный поиск,  систематизацию социальной информации по теме, сравнивать, анализировать, делать выводы, рационально решать познавательные и проблемные зад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ствовать формированию активной гражданской позиции обучающих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19124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«Целью политики является всеобщее бла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Аристо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«Если сила плохих людей в том, что они вместе, то хорошим людям, чтобы стать силой, надо сделать то же само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Л.Н.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подхода к политик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итика как основная сфера жизни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итика как особый тип социальных отношений между индивидами, малыми группами и большими общност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итика как один из видов деятельности, то есть активности ее субъектов – участников политической жиз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82548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тика – это деятельность государственных органов, политических партий, общественных движений в сфере отношений между большими социальными групп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тика – особая разновидность деятельности, связанная с участием социальных групп, партий и  движений, отдельных личностей в делах общества и государства, руководством ими или воздействием на это руководство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ИТИКА КАК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128340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ое отчуждение - сосредоточение усилий человека на решении проблем личной жизни при их противопоставлении жизни политической. Существует принудительный контакт с властью, госу­дарством через систему обязанностей, налогов, податей и т. 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ая пассивность - субъект не реализует свои соб­ственные интересы, а находится под политическим влиянием другой социальной груп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ая активность - стремление и возможность воздей­ствовать на политическую власть или непосредственно использовать её, реализуя свои интерес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04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ИПЫ ПОЛИТ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этапы избиратель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Назначение даты выборов (выборы Президента РФ назначаются Советом Федерации, выборы Государственной Думы – Президентом РФ 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Образование избирательных округов и избирательных участ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збирательные округа - территория, непосредственно гражданами которой избирается депутат (депутаты) или выборное должностное лицо (выборные должностные ли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збирательный участок - это территориальная едини­ца, образуемая для проведения голосования и подсчёта голо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Формирование избирательных комисс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68580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. Составление списков избирате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. Выдвижение и регистрация кандидатов в депутаты или на выборную долж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. Проведение предвыборной аги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. Голосование и установление результатов голос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. Финансирование выборов и предоставление отчётов о расходовании средств на эти ц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010880"/>
            <a:ext cx="822960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писать эссе по высказыванию Л.Н. Толстого «Если сила плохих людей в том, что они вместе, то хорошим людям, чтобы стать силой, надо сделать то же самое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полнить тест № 51 в рабочей тетради «Избирательная система. Избирательная кампания в РФ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2:45:23Z</dcterms:created>
  <dc:creator>1</dc:creator>
  <dc:description/>
  <dc:language>en-US</dc:language>
  <cp:lastModifiedBy>1</cp:lastModifiedBy>
  <dcterms:modified xsi:type="dcterms:W3CDTF">2012-01-30T17:11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