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962-0FB8-474B-8ABF-B41EC95B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CBC-EF8B-4DCB-8019-A250C074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43D-E8A9-486B-B6C1-C1DF5E88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FEE-786D-404F-98D2-29F912B0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118-089C-4958-AC03-3AD7D7A0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1FE-F901-4A42-BDC2-ABD41A0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AE4-BA3C-46C2-9F8D-BF288320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C41-3659-4202-8591-E4DE211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084-9AFF-46D6-B2E9-603F8B02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95A-E063-42FE-840D-D212C6C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62E-25EE-4CDE-B1C6-E8D1EEE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952-ED54-4FBB-9484-BD6BC85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1283-F321-4DED-AB73-5946ABB197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69840" y="0"/>
            <a:ext cx="100108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040000"/>
            <a:ext cx="9072720" cy="27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Выполнила: Гордеева Ольга,</a:t>
            </a:r>
            <a:br>
              <a:rPr sz="3600"/>
            </a:b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 ученица 3 б класса</a:t>
            </a:r>
            <a:br>
              <a:rPr sz="3600"/>
            </a:b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МКОУ «Кирпичнозаводская СОШ»</a:t>
            </a:r>
            <a:br>
              <a:rPr sz="3600"/>
            </a:b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Учитель: Шергина Н.А.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9280" y="179280"/>
            <a:ext cx="89996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55e00"/>
                </a:solidFill>
                <a:latin typeface="Arial"/>
              </a:rPr>
              <a:t>Презентация</a:t>
            </a:r>
            <a:br>
              <a:rPr sz="3600"/>
            </a:br>
            <a:r>
              <a:rPr b="1" i="1" lang="ru-RU" sz="3600" spc="-1" strike="noStrike">
                <a:solidFill>
                  <a:srgbClr val="355e00"/>
                </a:solidFill>
                <a:latin typeface="Arial"/>
              </a:rPr>
              <a:t>МОЯ  ЛЮБИМАЯ  КНИГА</a:t>
            </a: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>
            <a:off x="5826240" y="1851120"/>
            <a:ext cx="2282760" cy="3044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3"/>
          <a:stretch/>
        </p:blipFill>
        <p:spPr>
          <a:xfrm>
            <a:off x="2111400" y="177948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2340000"/>
            <a:ext cx="10080720" cy="5219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131760"/>
            <a:ext cx="90345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Arial"/>
              </a:rPr>
              <a:t>Сказка Фрэнка Баума</a:t>
            </a:r>
            <a:br>
              <a:rPr sz="3200"/>
            </a:br>
            <a:r>
              <a:rPr b="1" i="1" lang="ru-RU" sz="3200" spc="-1" strike="noStrike">
                <a:solidFill>
                  <a:srgbClr val="2300d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2300dc"/>
                </a:solidFill>
                <a:latin typeface="Arial"/>
              </a:rPr>
              <a:t>Удивительный Волшебник из Страны Оз»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3"/>
          <a:stretch/>
        </p:blipFill>
        <p:spPr>
          <a:xfrm>
            <a:off x="990720" y="1257480"/>
            <a:ext cx="80992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440000" y="6518160"/>
            <a:ext cx="7146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00dc"/>
                </a:solidFill>
                <a:latin typeface="Arial"/>
                <a:ea typeface="Arial Unicode MS"/>
              </a:rPr>
              <a:t>Русским ребятам была известна как  </a:t>
            </a:r>
            <a:r>
              <a:rPr b="1" lang="ru-RU" sz="3200" spc="-1" strike="noStrike">
                <a:solidFill>
                  <a:srgbClr val="2300dc"/>
                </a:solidFill>
                <a:latin typeface="Arial"/>
                <a:ea typeface="Arial Unicode MS"/>
              </a:rPr>
              <a:t>«Волшебник Изумрудного го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ниги Александра Волков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976320" y="1768320"/>
            <a:ext cx="348300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53080" y="1670040"/>
            <a:ext cx="4427280" cy="58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лшебник Изумрудного города» Александра Волкова — вольный перевод сказки Баума. Новые истории с теми же главными героями Волков уже не переводил, а сочинял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Лаймен Фрэнк Баум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1414440" y="1979640"/>
            <a:ext cx="326556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Aft>
                <a:spcPts val="1412"/>
              </a:spcAft>
              <a:buClr>
                <a:srgbClr val="355e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55e00"/>
                </a:solidFill>
                <a:latin typeface="Arial"/>
              </a:rPr>
              <a:t>15 мая 1856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оединённых Штатах Америки родился</a:t>
            </a:r>
            <a:br>
              <a:rPr sz="3200"/>
            </a:br>
            <a:r>
              <a:rPr b="0" lang="ru-RU" sz="32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c8526"/>
                </a:solidFill>
                <a:latin typeface="Arial"/>
              </a:rPr>
              <a:t>Лаймен</a:t>
            </a:r>
            <a:br>
              <a:rPr sz="3200"/>
            </a:br>
            <a:r>
              <a:rPr b="1" lang="ru-RU" sz="3200" spc="-1" strike="noStrike">
                <a:solidFill>
                  <a:srgbClr val="5c8526"/>
                </a:solidFill>
                <a:latin typeface="Arial"/>
              </a:rPr>
              <a:t> Фрэнк</a:t>
            </a:r>
            <a:br>
              <a:rPr sz="3200"/>
            </a:br>
            <a:r>
              <a:rPr b="1" lang="ru-RU" sz="3200" spc="-1" strike="noStrike">
                <a:solidFill>
                  <a:srgbClr val="5c8526"/>
                </a:solidFill>
                <a:latin typeface="Arial"/>
              </a:rPr>
              <a:t> Бау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книг о стране 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525680" y="6300720"/>
            <a:ext cx="78343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31640" indent="-323640">
              <a:lnSpc>
                <a:spcPct val="100000"/>
              </a:lnSpc>
              <a:spcAft>
                <a:spcPts val="1137"/>
              </a:spcAft>
              <a:buClr>
                <a:srgbClr val="4c19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  <a:ea typeface="Arial Unicode MS"/>
              </a:rPr>
              <a:t>6 мая  1919 сказочник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3"/>
          <a:stretch/>
        </p:blipFill>
        <p:spPr>
          <a:xfrm>
            <a:off x="1235160" y="1684440"/>
            <a:ext cx="3624120" cy="40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69840" y="0"/>
            <a:ext cx="10010880" cy="7559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900000" y="360360"/>
            <a:ext cx="8280360" cy="5940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79280" y="6419880"/>
            <a:ext cx="9485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457200" algn="ctr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Баум всегда был сказочником, даже когда был торгов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20720" y="374760"/>
            <a:ext cx="521964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457200" algn="just">
              <a:spcAft>
                <a:spcPts val="1412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У Баума было четверо сыновей, а он еще мечтал о дочк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Даже имя придумал — Дороти. Так же зовут главную героиню первой сказки о  стране 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spcAft>
                <a:spcPts val="1412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Сама волшебная страна первое время была безымя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6404040" y="360360"/>
            <a:ext cx="331632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720720" y="1079640"/>
            <a:ext cx="863928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Майский вечер 1898 год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Гостиная дома Баумов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— Где же все это было, ми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Баум? — спросил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детски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голосок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— А было это в стране под названием... — Баум ищет глазами подсказку и видит  старинное бюро в углу.  На верхнем ящичке   буквы А — N, на нижнем О — Z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— ...Оз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2"/>
          <a:stretch/>
        </p:blipFill>
        <p:spPr>
          <a:xfrm>
            <a:off x="7380360" y="179280"/>
            <a:ext cx="224460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3"/>
          <a:stretch/>
        </p:blipFill>
        <p:spPr>
          <a:xfrm>
            <a:off x="720720" y="2174760"/>
            <a:ext cx="161928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8920" y="345600"/>
            <a:ext cx="5040360" cy="10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Arial"/>
              </a:rPr>
              <a:t>1900 год</a:t>
            </a:r>
            <a:endParaRPr b="0" lang="en-US" sz="6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900000" y="1635120"/>
            <a:ext cx="3362400" cy="4484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680000" y="1979640"/>
            <a:ext cx="506556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  <a:ea typeface="Arial Unicode MS"/>
              </a:rPr>
              <a:t>На свет появилась книга </a:t>
            </a:r>
            <a:r>
              <a:rPr b="0" lang="ru-RU" sz="4800" spc="-1" strike="noStrike">
                <a:solidFill>
                  <a:srgbClr val="3deb3d"/>
                </a:solidFill>
                <a:latin typeface="Arial"/>
                <a:ea typeface="Arial Unicode MS"/>
              </a:rPr>
              <a:t>«Удивительный волшебник из страны Оз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6:21:31Z</dcterms:created>
  <dc:creator>user</dc:creator>
  <dc:description/>
  <dc:language>en-US</dc:language>
  <cp:lastModifiedBy>Z</cp:lastModifiedBy>
  <dcterms:modified xsi:type="dcterms:W3CDTF">2012-11-25T23:12:19Z</dcterms:modified>
  <cp:revision>46</cp:revision>
  <dc:subject/>
  <dc:title>Выполнила: Гордеева Ольга,  ученица 3б класса МОУ «Кирпичнозаводская СОШ»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