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2A33-3266-42DE-B003-29C1B108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70DC-826B-4A3D-99A1-A93D0A95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E5C2-9E99-487E-89A3-272F077E7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09D1-0AA4-4EB2-9DBD-17F1FB74D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27C8-5E75-4B59-87D9-B6366E0B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73C9-E7AC-46B4-B133-E41650B1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FC2C-850B-483B-BCBA-431BC889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1096-62DF-45C7-8F84-2CEDE9F8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1FFE-DF29-4BDF-A321-F60D36E4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E9A8-3C1B-4ED7-92D2-05DC69A5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2BD0-C8BB-4FE0-A130-89EF46D7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F31A-6FB4-4D3A-9A10-0C97EC00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24D9-4F4A-4D32-9AB4-E6F19A10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BDA5-3843-45A1-B1DC-FE2D2CFC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9C57-E984-4039-B1DA-C543DC53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38BA-61A8-4595-9BF4-3A0CBF94A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8373-548B-4AC9-9C31-0947C276C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A874-78DD-485E-B58E-E0D32100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6668-D879-42CD-9E87-E364225D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C21B-D5E2-4510-8A21-FB853D1F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6A24-D448-4D38-A2A0-D538DE8C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F4DC-C220-45FA-9B84-D17C388F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A633-DB54-4217-AAFA-38EB9E61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78D9-EC31-4B5C-8792-FE35248E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ffd1"/>
            </a:gs>
            <a:gs pos="100000">
              <a:srgbClr val="66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DBF7-9559-4EDD-91BC-E5F2424D5C5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ffd1"/>
            </a:gs>
            <a:gs pos="100000">
              <a:srgbClr val="66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5783-6FC1-4922-B4F2-E534E5639196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МАГНИТОФОН ПРИХОДИТ НА ПОМОЩ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029200" y="3962520"/>
            <a:ext cx="4114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У коррекционная (специальная) школа-интернат №8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полнила: учитель-логопе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улакова Е.Ю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733920" y="6248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.Саяногорск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Цель занят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осторожно избегая возможных срывов, обратить внимание ребенка на темп и плавность его речи, звучность, выразительность, грамматическую правильность фраз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0" y="0"/>
          <a:ext cx="9067680" cy="6927840"/>
        </p:xfrm>
        <a:graphic>
          <a:graphicData uri="http://schemas.openxmlformats.org/drawingml/2006/table">
            <a:tbl>
              <a:tblPr/>
              <a:tblGrid>
                <a:gridCol w="1752480"/>
                <a:gridCol w="2667240"/>
                <a:gridCol w="2361960"/>
                <a:gridCol w="2286000"/>
              </a:tblGrid>
              <a:tr h="293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 и фамил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выступл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чания логопе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чания учащегося до прослушивания своей реч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чания учащегося после прослушивания своей реч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ма А. Последовательный пересказ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иротка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т спокойно, речь   без    напряжения, уверенная. Голос громкий. Дыхание смешанное,    паузы правильные, темп неторопливый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 монотонная, без выделения логопедических ударений. Отрывистое произношение слов во фразе, первый слог звучит резко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ко начинаю слова. Волновался перед микрофоном. Говорил громко и свободно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л громко. Голос уверенный, волнение не чувствуется, хотя мне казалось, что это очень заметно. Резко начинал слова, особенно первый слог. В остальном говорил по правила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5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я К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каз текст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Летом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тупает неуверенно, лишние движения: переминается с ноги на ногу, перебирает руками край рубашки . голос тихий, темп речи выдерживает, дыхательные паузы равномерны, речь монотонна. Первый слог произносит резко, сделал несколько упоров на согласных (д”омой, к”олхозу). Рассказ составлен интересно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новался перед микрофоном. Произносил слова отдельно. Больше замечаний не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л резко, не всегда выделял первый слог. Делал напряжение на согласных. Речь нетороплива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олетта З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ка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сень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т тихим голосом, но уверенно. Стоит спокойно. Дыхание и темп речи правильные. Речь выразительна. Несколько раз резко начинала фразу, сделала один упор на согласном звуке, но исправила самостоятельно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ла легко, сначала немного волновалась, затем волнение пропало. Напряженно произнесла согласный звук «б’» в слове «березы». В остальном требования соблюдал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бщем речь хорошая. Неправильно произнесла первый раз слово «березы», но исправилась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-228960" y="380520"/>
            <a:ext cx="9372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пользование магнитофона на речевых занятиях в известной мере повышает ответственность заикающихся детей за свою речь, активизирует их внимание и наблюдательность, дисциплинирует, заставляет добиваться конкретной цели, разнообразит и в известной мере заинтересовывает занимающихс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5" descr="PC160003"/>
          <p:cNvPicPr/>
          <p:nvPr/>
        </p:nvPicPr>
        <p:blipFill>
          <a:blip r:embed="rId1"/>
          <a:stretch/>
        </p:blipFill>
        <p:spPr>
          <a:xfrm>
            <a:off x="2449440" y="3541680"/>
            <a:ext cx="373392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равнительные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агнитофонные занятия, предоставляют возможность заикающемуся сопоставить свою настоящую речь с той, что была у него раньш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4" descr="PC160006"/>
          <p:cNvPicPr/>
          <p:nvPr/>
        </p:nvPicPr>
        <p:blipFill>
          <a:blip r:embed="rId1"/>
          <a:stretch/>
        </p:blipFill>
        <p:spPr>
          <a:xfrm>
            <a:off x="5105520" y="3657600"/>
            <a:ext cx="4038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-360" y="2819160"/>
            <a:ext cx="838188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итоге каждого такого занятия важно показать ребенку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го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правильную речь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разных условиях (каждый раз все в новых и более сложных условиях) и научить его при этом правильно оценивать речь и управлять е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51920" y="2362320"/>
            <a:ext cx="8991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0" y="228600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гнитофонные занятия - это прекрасное средство положительного воздействия на психику заикающегося. Они способствуют вытеснению у него представлений о своей безнадежно дефектной речи. Позволяют почувствовать реальную возможность говорить свободно, как все, убедиться в эффективности занятий, стимулируют к необходимой работе над своей речью, над собо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-360" y="2017800"/>
            <a:ext cx="89550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пользование магнитофона в речевых занятиях есть не что иное, как психотерапия заикания с привлечением самого заикающегося. А заикающийся своей активностью, добившийся избавления от мучительного недуга, будет всегда помнить, что его здоровая речь «есть его собственное приобретение - плод труда и энергии и уже никогда не отнимется от него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Г. Д. Неткачев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27T06:43:27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